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13.jpeg" ContentType="image/jpeg"/>
  <Override PartName="/ppt/media/image8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1.png" ContentType="image/png"/>
  <Override PartName="/ppt/media/image3.jpeg" ContentType="image/jpeg"/>
  <Override PartName="/ppt/media/image5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8C9C9A-C18C-4F95-9CF8-B79A1695EAA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604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4680"/>
            <a:ext cx="746604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08132-2632-4010-A328-44A2E9D1E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468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2560" y="414468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F303EB-0668-4E41-B0B6-458F0028D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160" y="159984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5480" y="159984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468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160" y="414468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5480" y="414468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29307A-0B28-4D24-81EF-3D7320934DB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429649-81BA-447D-9D15-06DA11FFCAB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712721-E020-47C5-A20B-DBD4249FD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6DAAD1-6FD2-4070-82F3-FC03BAEDD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1B781F-24A8-4C30-BEC9-D5CB9BF9E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AC8DCF-EC4A-4583-80F4-029B3EC7C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74660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4BE43E-5DCE-45B4-B38D-54698A0E0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468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026CB2-577F-4136-BEF6-92785B5BD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82831E-52CE-4157-833F-50BBCEE71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2560" y="414468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AC7925-F564-4894-AB6D-D0964B42E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4680"/>
            <a:ext cx="746604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261B03-72BC-418B-BC25-E393E27F9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604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4680"/>
            <a:ext cx="746604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825951-C2DE-4B6D-8D34-ADE1BAFC7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468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2560" y="414468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A9A62D-6876-472A-9CD1-AFEE90C53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160" y="159984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5480" y="159984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468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160" y="414468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5480" y="414468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CD7981-E124-4791-9B31-BF82A223094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1A0E6-4CF6-4274-BF27-618EA0435F4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FA746-7EFE-4316-A834-14D44492A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8253A-7E24-4483-A3BA-C01DEEB81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3A0C1-7E15-46D8-B6DF-46926D79B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CEC95-DC7A-43EF-88DE-4D081C099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DFB70C-0432-4312-AAD1-408B424EF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74660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9F4F8-1A72-4F28-A745-46C568F46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468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D5E65-75C2-457F-8CF0-BA8B1C69C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2560" y="414468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26961-DC01-4977-B70C-B2E15BC96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4680"/>
            <a:ext cx="746604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46421-B4AB-45F3-92B1-3179C047F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604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4680"/>
            <a:ext cx="746604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CC361-4477-429A-862C-19B38C7F6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468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2560" y="414468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1F19F-7AC0-4878-B50D-C485A01AB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160" y="159984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5480" y="159984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468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160" y="414468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5480" y="414468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0DB07-14AD-45F2-A0D6-8FD308A3A60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A4591B-1D20-44C0-974C-E1D5748DBE5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84D193-15A9-4B35-ACC7-B56E37AE5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5F97E1-8EB9-4458-A291-AE6CE1759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1A8E81-DD04-4C09-80D4-80973B385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7CC9FC-AFC1-4008-861C-FC3723B52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F75C51-5CBE-49DA-90DC-B41119CAB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74660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804119-8CDE-4873-9DE8-BFB409F50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468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2FDC36-0EE2-42CB-B41D-1E32EEF66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2560" y="414468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09E158-B5D1-4870-A113-17C71BBBC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4680"/>
            <a:ext cx="746604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D39D6F-3724-4169-B97B-7A000D84A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604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4680"/>
            <a:ext cx="746604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E3F57E-7816-4CF9-A27D-4F12E4D9F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468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2560" y="414468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698833-894C-4861-B35C-05466D9C0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160" y="159984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5480" y="159984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468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160" y="414468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5480" y="414468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322855-CA33-40E2-B245-8F975EE8603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4CEEFAD-47DF-4ECB-AE0E-1AFA647DEEE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8F0E36-028B-4CA4-AA17-A612193F7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5AB81E2-AFF3-4E8A-805D-48894F914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DE22437-43A1-4952-A09D-07120E9F8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311F2E6-E9D2-44AF-ACC0-A9A6A8D2E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C55ED71-F445-4ED0-8CE6-C44165DAA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74660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6677419-3F57-4E50-8C7F-9BAE3F38A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468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E68B581-D1BF-4AD6-B6BA-C2E51EA1C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2560" y="414468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189ABDB-2B83-4738-8E34-231D4664A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4680"/>
            <a:ext cx="746604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678D820-D087-4594-A112-FED022129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604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4680"/>
            <a:ext cx="746604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FAF6DA8-5E62-46C8-A8F9-734442C0A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468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2560" y="414468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DF6CEAA-771E-40F4-A0EE-2AE0F63A8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74660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42FF3E-A349-48B2-AA6C-D37802205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160" y="159984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5480" y="159984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468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160" y="414468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5480" y="414468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49F863A-DFD2-48B3-9832-2F37914C69A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2F10E0-CA2E-46B2-A15D-6596D55418B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67D77C-1BA8-4BFD-9470-9037081D9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18522C-9198-45C5-B2E5-997FAD093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DBD6A7-40DE-4025-889F-2DCF9CA78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716278-322D-44EE-9523-F08E249E7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74660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AB9259-7496-49C3-A2F7-FD04B7793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468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3BEE9F-87C5-4AEB-B343-970AE24D3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2560" y="414468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3A0171-B3B5-4783-8B8B-783EF9C77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4680"/>
            <a:ext cx="746604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F127A9-FBF8-462A-B09E-ECB2B747D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468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CB4251-FEFA-4929-92A3-7DE8496EB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604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4680"/>
            <a:ext cx="746604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433EFD-07C2-4688-B90F-F24379AB3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468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2560" y="414468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651F5C-F97D-4792-978A-87868E089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160" y="159984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5480" y="159984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468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160" y="414468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5480" y="414468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F924F4-E00D-4985-99D8-60B94954581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156C13-32AF-4648-B333-7DF092C6812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8D26DE-A89A-4132-A86D-851454F87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C3CD54-65BC-4D16-ADBA-648D7BEA3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E5ECC8-6D35-474A-9E6C-45212E709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25E17CB-C467-47BC-92C5-ABC42B3B2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74660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4A3B87-5805-412B-A55D-692B93EC1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468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A3FA2F-66D4-4FAC-9034-96716BDB2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2560" y="414468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CBA174-6628-49F0-97E8-21C6111F0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2560" y="414468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6D39C9-D2E4-4FB0-B574-B333AB324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4680"/>
            <a:ext cx="746604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64DBF6-1986-42C3-AC90-4864C7131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604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4680"/>
            <a:ext cx="746604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77D7BE-B9B3-49EA-902D-82267522E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468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2560" y="414468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99B2C0-9A18-4876-AA0D-74DBC2701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160" y="159984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5480" y="159984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468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160" y="414468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5480" y="414468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92E7873-E90D-4069-AC3C-15493B481AA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4680"/>
            <a:ext cx="746604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633727-FB82-4289-B8C9-1AF88CDF3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1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8786520" y="267840"/>
            <a:ext cx="20098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 rot="5400000">
            <a:off x="6990840" y="373536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Line 6"/>
          <p:cNvSpPr/>
          <p:nvPr/>
        </p:nvSpPr>
        <p:spPr>
          <a:xfrm>
            <a:off x="76320" y="0"/>
            <a:ext cx="144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Line 7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Line 9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Oval 1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8129160" y="5734080"/>
            <a:ext cx="60804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F632621-6AB9-44EF-8A91-09434C1FD18F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Rectangle 2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Line 5"/>
          <p:cNvSpPr/>
          <p:nvPr/>
        </p:nvSpPr>
        <p:spPr>
          <a:xfrm>
            <a:off x="10620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Line 6"/>
          <p:cNvSpPr/>
          <p:nvPr/>
        </p:nvSpPr>
        <p:spPr>
          <a:xfrm>
            <a:off x="914400" y="0"/>
            <a:ext cx="1440" cy="6858000"/>
          </a:xfrm>
          <a:prstGeom prst="line">
            <a:avLst/>
          </a:prstGeom>
          <a:ln w="57240">
            <a:solidFill>
              <a:srgbClr val="ffe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Line 7"/>
          <p:cNvSpPr/>
          <p:nvPr/>
        </p:nvSpPr>
        <p:spPr>
          <a:xfrm>
            <a:off x="85392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Line 8"/>
          <p:cNvSpPr/>
          <p:nvPr/>
        </p:nvSpPr>
        <p:spPr>
          <a:xfrm>
            <a:off x="1727280" y="0"/>
            <a:ext cx="1440" cy="6858000"/>
          </a:xfrm>
          <a:prstGeom prst="line">
            <a:avLst/>
          </a:prstGeom>
          <a:ln w="284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Line 9"/>
          <p:cNvSpPr/>
          <p:nvPr/>
        </p:nvSpPr>
        <p:spPr>
          <a:xfrm>
            <a:off x="1066680" y="0"/>
            <a:ext cx="180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10"/>
          <p:cNvSpPr/>
          <p:nvPr/>
        </p:nvSpPr>
        <p:spPr>
          <a:xfrm>
            <a:off x="911376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11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Oval 12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Oval 13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Oval 14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Oval 15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Oval 16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3"/>
          </p:nvPr>
        </p:nvSpPr>
        <p:spPr>
          <a:xfrm>
            <a:off x="9097920" y="222120"/>
            <a:ext cx="228456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 Box 20"/>
          <p:cNvSpPr/>
          <p:nvPr/>
        </p:nvSpPr>
        <p:spPr>
          <a:xfrm rot="5400000">
            <a:off x="7078680" y="4181400"/>
            <a:ext cx="365760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4"/>
          </p:nvPr>
        </p:nvSpPr>
        <p:spPr>
          <a:xfrm>
            <a:off x="1325160" y="4928760"/>
            <a:ext cx="6080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EE70722-0330-4F10-AE98-5E2E13616422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Line 1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Line 2"/>
          <p:cNvSpPr/>
          <p:nvPr/>
        </p:nvSpPr>
        <p:spPr>
          <a:xfrm>
            <a:off x="76320" y="0"/>
            <a:ext cx="144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Line 3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5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Oval 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5"/>
          </p:nvPr>
        </p:nvSpPr>
        <p:spPr>
          <a:xfrm>
            <a:off x="8786520" y="267840"/>
            <a:ext cx="20098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6"/>
          </p:nvPr>
        </p:nvSpPr>
        <p:spPr>
          <a:xfrm>
            <a:off x="8129160" y="5734080"/>
            <a:ext cx="60804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4B0B933-511A-44DB-8AD6-375697632842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11"/>
          <p:cNvSpPr/>
          <p:nvPr/>
        </p:nvSpPr>
        <p:spPr>
          <a:xfrm rot="5400000">
            <a:off x="6990840" y="3736800"/>
            <a:ext cx="320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Rectangle 2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Rectangle 3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Line 5"/>
          <p:cNvSpPr/>
          <p:nvPr/>
        </p:nvSpPr>
        <p:spPr>
          <a:xfrm>
            <a:off x="10620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Line 6"/>
          <p:cNvSpPr/>
          <p:nvPr/>
        </p:nvSpPr>
        <p:spPr>
          <a:xfrm>
            <a:off x="914400" y="0"/>
            <a:ext cx="1440" cy="6858000"/>
          </a:xfrm>
          <a:prstGeom prst="line">
            <a:avLst/>
          </a:prstGeom>
          <a:ln w="57240">
            <a:solidFill>
              <a:srgbClr val="ffe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Line 7"/>
          <p:cNvSpPr/>
          <p:nvPr/>
        </p:nvSpPr>
        <p:spPr>
          <a:xfrm>
            <a:off x="85392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Line 8"/>
          <p:cNvSpPr/>
          <p:nvPr/>
        </p:nvSpPr>
        <p:spPr>
          <a:xfrm>
            <a:off x="1727280" y="0"/>
            <a:ext cx="1440" cy="6858000"/>
          </a:xfrm>
          <a:prstGeom prst="line">
            <a:avLst/>
          </a:prstGeom>
          <a:ln w="284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066680" y="0"/>
            <a:ext cx="180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Rectangle 10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Oval 11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12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Oval 13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Oval 14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Oval 15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Line 16"/>
          <p:cNvSpPr/>
          <p:nvPr/>
        </p:nvSpPr>
        <p:spPr>
          <a:xfrm>
            <a:off x="909792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7"/>
          </p:nvPr>
        </p:nvSpPr>
        <p:spPr>
          <a:xfrm>
            <a:off x="9096120" y="217440"/>
            <a:ext cx="228420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 Box 20"/>
          <p:cNvSpPr/>
          <p:nvPr/>
        </p:nvSpPr>
        <p:spPr>
          <a:xfrm rot="5400000">
            <a:off x="7078680" y="4178160"/>
            <a:ext cx="365760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sldNum" idx="8"/>
          </p:nvPr>
        </p:nvSpPr>
        <p:spPr>
          <a:xfrm>
            <a:off x="1339560" y="4928760"/>
            <a:ext cx="6080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5D53C53-48B7-4BAF-8572-DEABAD42D85C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Line 1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Line 2"/>
          <p:cNvSpPr/>
          <p:nvPr/>
        </p:nvSpPr>
        <p:spPr>
          <a:xfrm>
            <a:off x="76320" y="0"/>
            <a:ext cx="144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Line 3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Line 5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Oval 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9"/>
          </p:nvPr>
        </p:nvSpPr>
        <p:spPr>
          <a:xfrm>
            <a:off x="8786520" y="267840"/>
            <a:ext cx="20098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0"/>
          </p:nvPr>
        </p:nvSpPr>
        <p:spPr>
          <a:xfrm>
            <a:off x="8129160" y="5734080"/>
            <a:ext cx="60804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EB0ABEB-34ED-452C-9DD0-447FBA94A22D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11"/>
          <p:cNvSpPr/>
          <p:nvPr/>
        </p:nvSpPr>
        <p:spPr>
          <a:xfrm rot="5400000">
            <a:off x="6990840" y="3736800"/>
            <a:ext cx="320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Line 1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Line 2"/>
          <p:cNvSpPr/>
          <p:nvPr/>
        </p:nvSpPr>
        <p:spPr>
          <a:xfrm>
            <a:off x="62485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Line 3"/>
          <p:cNvSpPr/>
          <p:nvPr/>
        </p:nvSpPr>
        <p:spPr>
          <a:xfrm>
            <a:off x="6192720" y="0"/>
            <a:ext cx="180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Line 4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Rectangle 5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Line 6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Oval 7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1"/>
          </p:nvPr>
        </p:nvSpPr>
        <p:spPr>
          <a:xfrm>
            <a:off x="8786520" y="267840"/>
            <a:ext cx="20098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2"/>
          </p:nvPr>
        </p:nvSpPr>
        <p:spPr>
          <a:xfrm>
            <a:off x="8129160" y="5734080"/>
            <a:ext cx="60804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59A2637-CA8B-4D22-A835-F8519F2EFFF1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12"/>
          <p:cNvSpPr/>
          <p:nvPr/>
        </p:nvSpPr>
        <p:spPr>
          <a:xfrm rot="5400000">
            <a:off x="6990840" y="3736800"/>
            <a:ext cx="320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Line 1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Oval 2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Line 3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Rectangle 4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Line 5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Line 6"/>
          <p:cNvSpPr/>
          <p:nvPr/>
        </p:nvSpPr>
        <p:spPr>
          <a:xfrm>
            <a:off x="62485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Line 7"/>
          <p:cNvSpPr/>
          <p:nvPr/>
        </p:nvSpPr>
        <p:spPr>
          <a:xfrm>
            <a:off x="6192720" y="0"/>
            <a:ext cx="180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3"/>
          </p:nvPr>
        </p:nvSpPr>
        <p:spPr>
          <a:xfrm>
            <a:off x="8786520" y="267840"/>
            <a:ext cx="20098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14"/>
          </p:nvPr>
        </p:nvSpPr>
        <p:spPr>
          <a:xfrm>
            <a:off x="8129160" y="5734080"/>
            <a:ext cx="60804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6DC9E55-A864-4B56-B76E-F0E4BA867827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12"/>
          <p:cNvSpPr/>
          <p:nvPr/>
        </p:nvSpPr>
        <p:spPr>
          <a:xfrm rot="5400000">
            <a:off x="6990840" y="3736800"/>
            <a:ext cx="320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Text Box 1"/>
          <p:cNvSpPr/>
          <p:nvPr/>
        </p:nvSpPr>
        <p:spPr>
          <a:xfrm>
            <a:off x="2627280" y="3716280"/>
            <a:ext cx="61722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575f6d"/>
                </a:solidFill>
                <a:latin typeface="Century Schoolbook"/>
              </a:rPr>
              <a:t>«Полёт –это математика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575f6d"/>
                </a:solidFill>
                <a:latin typeface="Century Schoolbook"/>
              </a:rPr>
              <a:t>В. Чкал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2" name="Picture 2" descr=""/>
          <p:cNvPicPr/>
          <p:nvPr/>
        </p:nvPicPr>
        <p:blipFill>
          <a:blip r:embed="rId1"/>
          <a:stretch/>
        </p:blipFill>
        <p:spPr>
          <a:xfrm>
            <a:off x="1901880" y="334800"/>
            <a:ext cx="6705720" cy="280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1" descr=""/>
          <p:cNvPicPr/>
          <p:nvPr/>
        </p:nvPicPr>
        <p:blipFill>
          <a:blip r:embed="rId1"/>
          <a:stretch/>
        </p:blipFill>
        <p:spPr>
          <a:xfrm>
            <a:off x="147600" y="620640"/>
            <a:ext cx="8601120" cy="5329440"/>
          </a:xfrm>
          <a:prstGeom prst="rect">
            <a:avLst/>
          </a:prstGeom>
          <a:ln w="0">
            <a:noFill/>
          </a:ln>
        </p:spPr>
      </p:pic>
      <p:sp>
        <p:nvSpPr>
          <p:cNvPr id="372" name="Text Box 2"/>
          <p:cNvSpPr/>
          <p:nvPr/>
        </p:nvSpPr>
        <p:spPr>
          <a:xfrm>
            <a:off x="179280" y="3068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убле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Text Box 3"/>
          <p:cNvSpPr/>
          <p:nvPr/>
        </p:nvSpPr>
        <p:spPr>
          <a:xfrm>
            <a:off x="179280" y="47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зер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Text Box 4"/>
          <p:cNvSpPr/>
          <p:nvPr/>
        </p:nvSpPr>
        <p:spPr>
          <a:xfrm>
            <a:off x="1193760" y="2133720"/>
            <a:ext cx="128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смонав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1"/>
          <p:cNvSpPr/>
          <p:nvPr/>
        </p:nvSpPr>
        <p:spPr>
          <a:xfrm>
            <a:off x="108000" y="189000"/>
            <a:ext cx="7993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Уравнение орбиты Земли у² = 0,9997 * (1 – (х – 0,017)²), а уравнение траектории кометы Галлея у² = 0,06466* (322,2 – (х – 17,36)²). Может ли Земля столкнуться с кометой Галлея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Rectangle 2"/>
          <p:cNvSpPr/>
          <p:nvPr/>
        </p:nvSpPr>
        <p:spPr>
          <a:xfrm>
            <a:off x="3780000" y="2077920"/>
            <a:ext cx="4608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12 апреля 1961 года Ю.Гагарин на космическом корабле «Восток» был поднят над Землей на максимальную высоту 327 км. На каком расстоянии от корабля находились в это время наиболее удаленные от него и видимые космонавтом участки поверхности Земли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7" name="Picture 3" descr=""/>
          <p:cNvPicPr/>
          <p:nvPr/>
        </p:nvPicPr>
        <p:blipFill>
          <a:blip r:embed="rId1"/>
          <a:stretch/>
        </p:blipFill>
        <p:spPr>
          <a:xfrm>
            <a:off x="468360" y="2421000"/>
            <a:ext cx="3311640" cy="305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Text Box 1"/>
          <p:cNvSpPr/>
          <p:nvPr/>
        </p:nvSpPr>
        <p:spPr>
          <a:xfrm>
            <a:off x="0" y="1554120"/>
            <a:ext cx="9144000" cy="359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300" spc="-1" strike="noStrike">
                <a:solidFill>
                  <a:srgbClr val="575f6d"/>
                </a:solidFill>
                <a:latin typeface="Century Schoolbook"/>
              </a:rPr>
              <a:t>Я ВЕРЮ ДРУЗЬЯ: КАРАВАНЫ РАКЕТ,</a:t>
            </a:r>
            <a:br>
              <a:rPr sz="2300"/>
            </a:br>
            <a:r>
              <a:rPr b="1" lang="ru-RU" sz="2300" spc="-1" strike="noStrike">
                <a:solidFill>
                  <a:srgbClr val="575f6d"/>
                </a:solidFill>
                <a:latin typeface="Century Schoolbook"/>
              </a:rPr>
              <a:t>ПОМЧАТ НАС ВПЕРЕД ОТ ЗВЕЗДЫ ДО ЗВЕЗДЫ, </a:t>
            </a:r>
            <a:br>
              <a:rPr sz="2300"/>
            </a:br>
            <a:r>
              <a:rPr b="1" lang="ru-RU" sz="2300" spc="-1" strike="noStrike">
                <a:solidFill>
                  <a:srgbClr val="575f6d"/>
                </a:solidFill>
                <a:latin typeface="Century Schoolbook"/>
              </a:rPr>
              <a:t>НА ПЫЛЬНЫХ ТРОПИНКАХ ДАЛЕКИХ ПЛАНЕТ</a:t>
            </a:r>
            <a:br>
              <a:rPr sz="2300"/>
            </a:br>
            <a:r>
              <a:rPr b="1" lang="ru-RU" sz="2300" spc="-1" strike="noStrike">
                <a:solidFill>
                  <a:srgbClr val="575f6d"/>
                </a:solidFill>
                <a:latin typeface="Century Schoolbook"/>
              </a:rPr>
              <a:t>ОСТАНУТСЯ НАШИ СЛЕДЫ …</a:t>
            </a:r>
            <a:br>
              <a:rPr sz="2300"/>
            </a:b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Rectangle 2"/>
          <p:cNvSpPr/>
          <p:nvPr/>
        </p:nvSpPr>
        <p:spPr>
          <a:xfrm>
            <a:off x="5380560" y="4292640"/>
            <a:ext cx="2669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.Войнович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Picture 1" descr=""/>
          <p:cNvPicPr/>
          <p:nvPr/>
        </p:nvPicPr>
        <p:blipFill>
          <a:blip r:embed="rId1"/>
          <a:stretch/>
        </p:blipFill>
        <p:spPr>
          <a:xfrm>
            <a:off x="1743120" y="6480"/>
            <a:ext cx="5211720" cy="1133280"/>
          </a:xfrm>
          <a:prstGeom prst="rect">
            <a:avLst/>
          </a:prstGeom>
          <a:ln w="0">
            <a:noFill/>
          </a:ln>
        </p:spPr>
      </p:pic>
      <p:sp>
        <p:nvSpPr>
          <p:cNvPr id="354" name="Rectangle 2"/>
          <p:cNvSpPr/>
          <p:nvPr/>
        </p:nvSpPr>
        <p:spPr>
          <a:xfrm>
            <a:off x="179280" y="1052640"/>
            <a:ext cx="8713800" cy="67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1. «Космические знаменитости»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(устная работа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2. «Таблица измерений»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(проверка домашнего задания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3. «Полет в космос»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(решение задач 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I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уровня)</a:t>
            </a: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4. «Космический марафон»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(самостоятельная работа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5. «Космические трудности»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(решение задач 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II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уровня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6. «Интересные факты»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(сообщения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2664000" cy="349884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2" descr=""/>
          <p:cNvPicPr/>
          <p:nvPr/>
        </p:nvPicPr>
        <p:blipFill>
          <a:blip r:embed="rId2"/>
          <a:stretch/>
        </p:blipFill>
        <p:spPr>
          <a:xfrm>
            <a:off x="2987640" y="0"/>
            <a:ext cx="2952720" cy="404028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3" descr=""/>
          <p:cNvPicPr/>
          <p:nvPr/>
        </p:nvPicPr>
        <p:blipFill>
          <a:blip r:embed="rId3"/>
          <a:stretch/>
        </p:blipFill>
        <p:spPr>
          <a:xfrm>
            <a:off x="1332000" y="3068640"/>
            <a:ext cx="2851200" cy="378936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4" descr=""/>
          <p:cNvPicPr/>
          <p:nvPr/>
        </p:nvPicPr>
        <p:blipFill>
          <a:blip r:embed="rId4"/>
          <a:stretch/>
        </p:blipFill>
        <p:spPr>
          <a:xfrm>
            <a:off x="6227640" y="0"/>
            <a:ext cx="2916360" cy="357840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5" descr=""/>
          <p:cNvPicPr/>
          <p:nvPr/>
        </p:nvPicPr>
        <p:blipFill>
          <a:blip r:embed="rId5"/>
          <a:stretch/>
        </p:blipFill>
        <p:spPr>
          <a:xfrm>
            <a:off x="4859280" y="3241800"/>
            <a:ext cx="3009960" cy="361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5715000" cy="402912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2" descr=""/>
          <p:cNvPicPr/>
          <p:nvPr/>
        </p:nvPicPr>
        <p:blipFill>
          <a:blip r:embed="rId2"/>
          <a:stretch/>
        </p:blipFill>
        <p:spPr>
          <a:xfrm>
            <a:off x="3564000" y="2873520"/>
            <a:ext cx="5580000" cy="398448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3" descr=""/>
          <p:cNvPicPr/>
          <p:nvPr/>
        </p:nvPicPr>
        <p:blipFill>
          <a:blip r:embed="rId3"/>
          <a:stretch/>
        </p:blipFill>
        <p:spPr>
          <a:xfrm>
            <a:off x="2736720" y="5730840"/>
            <a:ext cx="3402000" cy="11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1"/>
          <p:cNvSpPr/>
          <p:nvPr/>
        </p:nvSpPr>
        <p:spPr>
          <a:xfrm>
            <a:off x="4500720" y="117360"/>
            <a:ext cx="4392360" cy="64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just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Для преодоления земного тяготения и вывода объекта в космос требуется огромная энергия. Для вывода на орбиту космических кораблей используют ракеты – единственные движители, способные развить нужную нам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космическую скорость. Определите, чему равна первая космическая скорость (в км/ч), решив уравнение и увеличив корень уравнения в 1000 раз.  х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-28х – 60 = 0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5" name="Picture 2" descr=""/>
          <p:cNvPicPr/>
          <p:nvPr/>
        </p:nvPicPr>
        <p:blipFill>
          <a:blip r:embed="rId1"/>
          <a:stretch/>
        </p:blipFill>
        <p:spPr>
          <a:xfrm>
            <a:off x="0" y="189000"/>
            <a:ext cx="4505400" cy="619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1" descr=""/>
          <p:cNvPicPr/>
          <p:nvPr/>
        </p:nvPicPr>
        <p:blipFill>
          <a:blip r:embed="rId1"/>
          <a:stretch/>
        </p:blipFill>
        <p:spPr>
          <a:xfrm>
            <a:off x="1116000" y="189000"/>
            <a:ext cx="6769080" cy="4465440"/>
          </a:xfrm>
          <a:prstGeom prst="rect">
            <a:avLst/>
          </a:prstGeom>
          <a:ln w="0">
            <a:noFill/>
          </a:ln>
        </p:spPr>
      </p:pic>
      <p:sp>
        <p:nvSpPr>
          <p:cNvPr id="367" name="Rectangle 2"/>
          <p:cNvSpPr/>
          <p:nvPr/>
        </p:nvSpPr>
        <p:spPr>
          <a:xfrm>
            <a:off x="250920" y="4716360"/>
            <a:ext cx="8532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2.  Апогей орбиты станции «Луна – 19» от поверхности Луны равно 135 км, перигей – 127 км. Считая орбиту станции круговой, найдите ее длину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27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1" descr=""/>
          <p:cNvPicPr/>
          <p:nvPr/>
        </p:nvPicPr>
        <p:blipFill>
          <a:blip r:embed="rId1"/>
          <a:stretch/>
        </p:blipFill>
        <p:spPr>
          <a:xfrm>
            <a:off x="826920" y="0"/>
            <a:ext cx="7417080" cy="5024520"/>
          </a:xfrm>
          <a:prstGeom prst="rect">
            <a:avLst/>
          </a:prstGeom>
          <a:ln w="0">
            <a:noFill/>
          </a:ln>
        </p:spPr>
      </p:pic>
      <p:sp>
        <p:nvSpPr>
          <p:cNvPr id="370" name="Rectangle 2"/>
          <p:cNvSpPr/>
          <p:nvPr/>
        </p:nvSpPr>
        <p:spPr>
          <a:xfrm>
            <a:off x="1727640" y="5373720"/>
            <a:ext cx="6136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; 1; 2; 3; 5; 8; 13; 21; …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8T10:03:12Z</dcterms:created>
  <dc:creator>Ученик</dc:creator>
  <dc:description/>
  <dc:language>en-US</dc:language>
  <cp:lastModifiedBy>User</cp:lastModifiedBy>
  <dcterms:modified xsi:type="dcterms:W3CDTF">2021-04-14T14:35:12Z</dcterms:modified>
  <cp:revision>19</cp:revision>
  <dc:subject/>
  <dc:title>Слайд 1</dc:title>
</cp:coreProperties>
</file>