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gif" ContentType="image/gif"/>
  <Override PartName="/ppt/media/image6.jpeg" ContentType="image/jpeg"/>
  <Override PartName="/ppt/media/image7.wmf" ContentType="image/x-wmf"/>
  <Override PartName="/ppt/media/image5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6E7-6665-4DDE-9847-5EB9EC50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B8B-91F7-479D-A44C-A0E7B7F0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43D-46FE-417B-AE84-10FE3B90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6CC-637C-4104-B069-432B8A7E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620-83D5-4AB2-A61B-971F7625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EC0-7723-4171-BC57-5F688F1C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CA1-333B-4201-A945-632EDFF1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1D1-450F-4E21-AAF3-9CBD641A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1A6-2335-418B-8E7F-DBA1D1CA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246-8124-4A4F-AA15-F5DAC043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AFE-68B3-4E6E-8E03-39E4035D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A3D-6DAA-4228-B5CD-3F03767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4F9E-B589-4E28-B9DC-1FD0DF0FA5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2362320" y="533520"/>
            <a:ext cx="4419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7" descr=""/>
          <p:cNvPicPr/>
          <p:nvPr/>
        </p:nvPicPr>
        <p:blipFill>
          <a:blip r:embed="rId1"/>
          <a:stretch/>
        </p:blipFill>
        <p:spPr>
          <a:xfrm>
            <a:off x="2120760" y="530280"/>
            <a:ext cx="5054760" cy="774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pe01821_"/>
          <p:cNvPicPr/>
          <p:nvPr/>
        </p:nvPicPr>
        <p:blipFill>
          <a:blip r:embed="rId2"/>
          <a:stretch/>
        </p:blipFill>
        <p:spPr>
          <a:xfrm>
            <a:off x="7772400" y="5334120"/>
            <a:ext cx="1147680" cy="130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:\люди\Рисунок61.gif"/>
          <p:cNvPicPr/>
          <p:nvPr/>
        </p:nvPicPr>
        <p:blipFill>
          <a:blip r:embed="rId3"/>
          <a:stretch/>
        </p:blipFill>
        <p:spPr>
          <a:xfrm>
            <a:off x="457200" y="2286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3"/>
          <p:cNvSpPr/>
          <p:nvPr/>
        </p:nvSpPr>
        <p:spPr>
          <a:xfrm>
            <a:off x="8077320" y="5638680"/>
            <a:ext cx="380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:\герои сказок\Рисунок116.gif"/>
          <p:cNvPicPr/>
          <p:nvPr/>
        </p:nvPicPr>
        <p:blipFill>
          <a:blip r:embed="rId4"/>
          <a:stretch/>
        </p:blipFill>
        <p:spPr>
          <a:xfrm>
            <a:off x="7772400" y="30492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:\цветы\Рисунок9.wmf"/>
          <p:cNvPicPr/>
          <p:nvPr/>
        </p:nvPicPr>
        <p:blipFill>
          <a:blip r:embed="rId5"/>
          <a:stretch/>
        </p:blipFill>
        <p:spPr>
          <a:xfrm flipH="1">
            <a:off x="304920" y="5389560"/>
            <a:ext cx="914400" cy="1212840"/>
          </a:xfrm>
          <a:prstGeom prst="rect">
            <a:avLst/>
          </a:prstGeom>
          <a:ln w="0">
            <a:noFill/>
          </a:ln>
        </p:spPr>
      </p:pic>
      <p:sp>
        <p:nvSpPr>
          <p:cNvPr id="48" name="Вертикальный свиток 18"/>
          <p:cNvSpPr/>
          <p:nvPr/>
        </p:nvSpPr>
        <p:spPr>
          <a:xfrm>
            <a:off x="762120" y="1600200"/>
            <a:ext cx="4038480" cy="32767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 км 5 м                     6 км 50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т 1 ц                          3 т 10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сут. 20 ч                    68 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0 см                               9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0"/>
          <p:cNvSpPr/>
          <p:nvPr/>
        </p:nvSpPr>
        <p:spPr>
          <a:xfrm>
            <a:off x="1752480" y="3962520"/>
            <a:ext cx="304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2"/>
          <p:cNvSpPr/>
          <p:nvPr/>
        </p:nvSpPr>
        <p:spPr>
          <a:xfrm>
            <a:off x="3809880" y="3962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243828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7"/>
          <p:cNvSpPr/>
          <p:nvPr/>
        </p:nvSpPr>
        <p:spPr>
          <a:xfrm>
            <a:off x="243828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2438280" y="33526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2438280" y="2743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ертикальный свиток 33"/>
          <p:cNvSpPr/>
          <p:nvPr/>
        </p:nvSpPr>
        <p:spPr>
          <a:xfrm>
            <a:off x="4876920" y="1600200"/>
            <a:ext cx="3657600" cy="3276720"/>
          </a:xfrm>
          <a:prstGeom prst="verticalScroll">
            <a:avLst>
              <a:gd name="adj" fmla="val 12500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5"/>
          <p:cNvSpPr/>
          <p:nvPr/>
        </p:nvSpPr>
        <p:spPr>
          <a:xfrm>
            <a:off x="5638680" y="2514600"/>
            <a:ext cx="221004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37"/>
          <p:cNvSpPr/>
          <p:nvPr/>
        </p:nvSpPr>
        <p:spPr>
          <a:xfrm flipH="1">
            <a:off x="5638320" y="2514600"/>
            <a:ext cx="221004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41"/>
          <p:cNvSpPr/>
          <p:nvPr/>
        </p:nvSpPr>
        <p:spPr>
          <a:xfrm>
            <a:off x="5638680" y="2514600"/>
            <a:ext cx="221004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5486400" y="3962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5486400" y="2057400"/>
            <a:ext cx="1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7848720" y="2057400"/>
            <a:ext cx="1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769608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5"/>
          <p:cNvSpPr/>
          <p:nvPr/>
        </p:nvSpPr>
        <p:spPr>
          <a:xfrm>
            <a:off x="6553080" y="2743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609480" y="1295280"/>
            <a:ext cx="792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Построение прямоугольника на нелинованной бумаге с помощью циркуля и линей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уга 25"/>
          <p:cNvSpPr/>
          <p:nvPr/>
        </p:nvSpPr>
        <p:spPr>
          <a:xfrm>
            <a:off x="1981080" y="685800"/>
            <a:ext cx="4876920" cy="46483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7"/>
          <p:cNvSpPr/>
          <p:nvPr/>
        </p:nvSpPr>
        <p:spPr>
          <a:xfrm>
            <a:off x="3276000" y="990720"/>
            <a:ext cx="2361960" cy="40384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3"/>
          <p:cNvSpPr/>
          <p:nvPr/>
        </p:nvSpPr>
        <p:spPr>
          <a:xfrm flipH="1">
            <a:off x="2590920" y="1447920"/>
            <a:ext cx="3657600" cy="3047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7"/>
          <p:cNvSpPr/>
          <p:nvPr/>
        </p:nvSpPr>
        <p:spPr>
          <a:xfrm>
            <a:off x="3276720" y="990720"/>
            <a:ext cx="2971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9"/>
          <p:cNvSpPr/>
          <p:nvPr/>
        </p:nvSpPr>
        <p:spPr>
          <a:xfrm flipH="1">
            <a:off x="5638680" y="1523880"/>
            <a:ext cx="609840" cy="350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41"/>
          <p:cNvSpPr/>
          <p:nvPr/>
        </p:nvSpPr>
        <p:spPr>
          <a:xfrm flipH="1">
            <a:off x="2590560" y="990720"/>
            <a:ext cx="685800" cy="350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3"/>
          <p:cNvSpPr/>
          <p:nvPr/>
        </p:nvSpPr>
        <p:spPr>
          <a:xfrm>
            <a:off x="2590920" y="4495680"/>
            <a:ext cx="30477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узел суммирования 50"/>
          <p:cNvSpPr/>
          <p:nvPr/>
        </p:nvSpPr>
        <p:spPr>
          <a:xfrm flipV="1">
            <a:off x="4343400" y="2895480"/>
            <a:ext cx="152280" cy="152640"/>
          </a:xfrm>
          <a:prstGeom prst="flowChartSummingJunction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1"/>
          <p:cNvSpPr/>
          <p:nvPr/>
        </p:nvSpPr>
        <p:spPr>
          <a:xfrm>
            <a:off x="43434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3048120" y="45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2209680" y="4572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6402600" y="99072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6386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1981080" y="609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верьте, что получился прямоуголь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pe01758_"/>
          <p:cNvPicPr/>
          <p:nvPr/>
        </p:nvPicPr>
        <p:blipFill>
          <a:blip r:embed="rId1"/>
          <a:stretch/>
        </p:blipFill>
        <p:spPr>
          <a:xfrm>
            <a:off x="1219320" y="4419720"/>
            <a:ext cx="1676160" cy="164304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10"/>
          <p:cNvGrpSpPr/>
          <p:nvPr/>
        </p:nvGrpSpPr>
        <p:grpSpPr>
          <a:xfrm>
            <a:off x="7315200" y="609480"/>
            <a:ext cx="874800" cy="625680"/>
            <a:chOff x="7315200" y="609480"/>
            <a:chExt cx="874800" cy="625680"/>
          </a:xfrm>
        </p:grpSpPr>
        <p:sp>
          <p:nvSpPr>
            <p:cNvPr id="81" name="Freeform 11"/>
            <p:cNvSpPr/>
            <p:nvPr/>
          </p:nvSpPr>
          <p:spPr>
            <a:xfrm flipH="1">
              <a:off x="8035200" y="887040"/>
              <a:ext cx="91800" cy="10332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2"/>
            <p:cNvSpPr/>
            <p:nvPr/>
          </p:nvSpPr>
          <p:spPr>
            <a:xfrm flipH="1">
              <a:off x="7484040" y="1091880"/>
              <a:ext cx="695880" cy="13104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"/>
            <p:cNvSpPr/>
            <p:nvPr/>
          </p:nvSpPr>
          <p:spPr>
            <a:xfrm flipH="1">
              <a:off x="7315200" y="609480"/>
              <a:ext cx="874800" cy="62568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4"/>
            <p:cNvSpPr/>
            <p:nvPr/>
          </p:nvSpPr>
          <p:spPr>
            <a:xfrm flipH="1">
              <a:off x="7346520" y="862560"/>
              <a:ext cx="148320" cy="32292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5"/>
            <p:cNvSpPr/>
            <p:nvPr/>
          </p:nvSpPr>
          <p:spPr>
            <a:xfrm flipH="1">
              <a:off x="7762680" y="621360"/>
              <a:ext cx="273600" cy="20124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"/>
            <p:cNvSpPr/>
            <p:nvPr/>
          </p:nvSpPr>
          <p:spPr>
            <a:xfrm flipH="1">
              <a:off x="7885080" y="628560"/>
              <a:ext cx="56160" cy="11952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 flipH="1">
              <a:off x="7820640" y="673560"/>
              <a:ext cx="49680" cy="5976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8"/>
            <p:cNvSpPr/>
            <p:nvPr/>
          </p:nvSpPr>
          <p:spPr>
            <a:xfrm flipH="1">
              <a:off x="7799400" y="681480"/>
              <a:ext cx="45720" cy="5112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9"/>
            <p:cNvSpPr/>
            <p:nvPr/>
          </p:nvSpPr>
          <p:spPr>
            <a:xfrm flipH="1">
              <a:off x="7786080" y="691920"/>
              <a:ext cx="37800" cy="3276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0"/>
            <p:cNvSpPr/>
            <p:nvPr/>
          </p:nvSpPr>
          <p:spPr>
            <a:xfrm flipH="1">
              <a:off x="7705800" y="691920"/>
              <a:ext cx="218520" cy="23760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"/>
            <p:cNvSpPr/>
            <p:nvPr/>
          </p:nvSpPr>
          <p:spPr>
            <a:xfrm flipH="1">
              <a:off x="7724520" y="699480"/>
              <a:ext cx="38880" cy="6336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2"/>
            <p:cNvSpPr/>
            <p:nvPr/>
          </p:nvSpPr>
          <p:spPr>
            <a:xfrm flipH="1">
              <a:off x="7776360" y="702360"/>
              <a:ext cx="36720" cy="2844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3"/>
            <p:cNvSpPr/>
            <p:nvPr/>
          </p:nvSpPr>
          <p:spPr>
            <a:xfrm flipH="1">
              <a:off x="7939800" y="716040"/>
              <a:ext cx="67320" cy="5292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4"/>
            <p:cNvSpPr/>
            <p:nvPr/>
          </p:nvSpPr>
          <p:spPr>
            <a:xfrm flipH="1">
              <a:off x="7970400" y="733320"/>
              <a:ext cx="47880" cy="3708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5"/>
            <p:cNvSpPr/>
            <p:nvPr/>
          </p:nvSpPr>
          <p:spPr>
            <a:xfrm flipH="1">
              <a:off x="7836120" y="788040"/>
              <a:ext cx="70920" cy="6336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6"/>
            <p:cNvSpPr/>
            <p:nvPr/>
          </p:nvSpPr>
          <p:spPr>
            <a:xfrm flipH="1">
              <a:off x="7938360" y="815760"/>
              <a:ext cx="71640" cy="5544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7"/>
            <p:cNvSpPr/>
            <p:nvPr/>
          </p:nvSpPr>
          <p:spPr>
            <a:xfrm flipH="1">
              <a:off x="7871400" y="832320"/>
              <a:ext cx="13680" cy="1008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8"/>
            <p:cNvSpPr/>
            <p:nvPr/>
          </p:nvSpPr>
          <p:spPr>
            <a:xfrm flipH="1">
              <a:off x="7948440" y="850680"/>
              <a:ext cx="11880" cy="936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9"/>
            <p:cNvSpPr/>
            <p:nvPr/>
          </p:nvSpPr>
          <p:spPr>
            <a:xfrm flipH="1">
              <a:off x="7925040" y="866880"/>
              <a:ext cx="23760" cy="3024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0"/>
            <p:cNvSpPr/>
            <p:nvPr/>
          </p:nvSpPr>
          <p:spPr>
            <a:xfrm flipH="1">
              <a:off x="7660800" y="871200"/>
              <a:ext cx="48600" cy="4068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1"/>
            <p:cNvSpPr/>
            <p:nvPr/>
          </p:nvSpPr>
          <p:spPr>
            <a:xfrm flipH="1">
              <a:off x="7841520" y="901800"/>
              <a:ext cx="12960" cy="684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2"/>
            <p:cNvSpPr/>
            <p:nvPr/>
          </p:nvSpPr>
          <p:spPr>
            <a:xfrm flipH="1">
              <a:off x="7976520" y="909360"/>
              <a:ext cx="122400" cy="9792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3"/>
            <p:cNvSpPr/>
            <p:nvPr/>
          </p:nvSpPr>
          <p:spPr>
            <a:xfrm flipH="1">
              <a:off x="7630560" y="912240"/>
              <a:ext cx="202680" cy="10908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4"/>
            <p:cNvSpPr/>
            <p:nvPr/>
          </p:nvSpPr>
          <p:spPr>
            <a:xfrm flipH="1">
              <a:off x="7392600" y="932040"/>
              <a:ext cx="91080" cy="18324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5"/>
            <p:cNvSpPr/>
            <p:nvPr/>
          </p:nvSpPr>
          <p:spPr>
            <a:xfrm flipH="1">
              <a:off x="8050680" y="954720"/>
              <a:ext cx="14760" cy="1620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6"/>
            <p:cNvSpPr/>
            <p:nvPr/>
          </p:nvSpPr>
          <p:spPr>
            <a:xfrm flipH="1">
              <a:off x="7577640" y="1120680"/>
              <a:ext cx="221400" cy="2484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7"/>
            <p:cNvSpPr/>
            <p:nvPr/>
          </p:nvSpPr>
          <p:spPr>
            <a:xfrm flipH="1">
              <a:off x="7654680" y="1149480"/>
              <a:ext cx="144720" cy="1620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8"/>
            <p:cNvSpPr/>
            <p:nvPr/>
          </p:nvSpPr>
          <p:spPr>
            <a:xfrm flipH="1">
              <a:off x="7369560" y="843480"/>
              <a:ext cx="789120" cy="27504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39"/>
          <p:cNvSpPr/>
          <p:nvPr/>
        </p:nvSpPr>
        <p:spPr>
          <a:xfrm>
            <a:off x="1676520" y="15238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отивоположные стороны 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9" descr="C:\Users\user\Documents\Мама\картинки\люди\Рисунок109.wmf"/>
          <p:cNvPicPr/>
          <p:nvPr/>
        </p:nvPicPr>
        <p:blipFill>
          <a:blip r:embed="rId2"/>
          <a:stretch/>
        </p:blipFill>
        <p:spPr>
          <a:xfrm flipH="1">
            <a:off x="456840" y="457200"/>
            <a:ext cx="1066680" cy="1971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1"/>
          <p:cNvSpPr/>
          <p:nvPr/>
        </p:nvSpPr>
        <p:spPr>
          <a:xfrm>
            <a:off x="1752480" y="2209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иагонали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2"/>
          <p:cNvSpPr/>
          <p:nvPr/>
        </p:nvSpPr>
        <p:spPr>
          <a:xfrm>
            <a:off x="1828800" y="28195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Отрезки, полученные при пересечении диагоналей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1523880" y="53352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войства диагоналей квад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447920" y="1828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иагонали квадрата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447920" y="2743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трезки, полученные при пересечении диагоналей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523880" y="3809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и пересечении диагоналей квадрата получаются прямые уг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0"/>
          <p:cNvGrpSpPr/>
          <p:nvPr/>
        </p:nvGrpSpPr>
        <p:grpSpPr>
          <a:xfrm>
            <a:off x="685440" y="380880"/>
            <a:ext cx="1219320" cy="990720"/>
            <a:chOff x="685440" y="380880"/>
            <a:chExt cx="1219320" cy="990720"/>
          </a:xfrm>
        </p:grpSpPr>
        <p:sp>
          <p:nvSpPr>
            <p:cNvPr id="118" name="Freeform 11"/>
            <p:cNvSpPr/>
            <p:nvPr/>
          </p:nvSpPr>
          <p:spPr>
            <a:xfrm flipH="1">
              <a:off x="1689480" y="820440"/>
              <a:ext cx="128160" cy="16344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 flipH="1">
              <a:off x="920520" y="1144440"/>
              <a:ext cx="970200" cy="20736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 flipH="1">
              <a:off x="685080" y="380880"/>
              <a:ext cx="1219320" cy="99072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flipH="1">
              <a:off x="729360" y="781920"/>
              <a:ext cx="206640" cy="51120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 flipH="1">
              <a:off x="1308960" y="399600"/>
              <a:ext cx="381600" cy="31860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 flipH="1">
              <a:off x="1479600" y="410760"/>
              <a:ext cx="78120" cy="18936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 flipH="1">
              <a:off x="1389960" y="482400"/>
              <a:ext cx="69120" cy="9468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 flipH="1">
              <a:off x="1360440" y="494640"/>
              <a:ext cx="64080" cy="8100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 flipH="1">
              <a:off x="1342440" y="511200"/>
              <a:ext cx="52560" cy="5184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 flipH="1">
              <a:off x="1230120" y="511200"/>
              <a:ext cx="304200" cy="37620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 flipH="1">
              <a:off x="1256040" y="523440"/>
              <a:ext cx="54000" cy="10008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 flipH="1">
              <a:off x="1327680" y="527760"/>
              <a:ext cx="51480" cy="4500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 flipH="1">
              <a:off x="1557000" y="549720"/>
              <a:ext cx="93600" cy="8352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 flipH="1">
              <a:off x="1599120" y="577080"/>
              <a:ext cx="66600" cy="5904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 flipH="1">
              <a:off x="1411200" y="663840"/>
              <a:ext cx="99000" cy="10008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 flipH="1">
              <a:off x="1554120" y="707760"/>
              <a:ext cx="99720" cy="8784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 flipH="1">
              <a:off x="1460160" y="733680"/>
              <a:ext cx="19080" cy="1620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 flipH="1">
              <a:off x="1568520" y="762840"/>
              <a:ext cx="16560" cy="1476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 flipH="1">
              <a:off x="1534320" y="788760"/>
              <a:ext cx="33480" cy="4824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 flipH="1">
              <a:off x="1167120" y="795600"/>
              <a:ext cx="68040" cy="6480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 flipH="1">
              <a:off x="1419120" y="843840"/>
              <a:ext cx="18000" cy="1080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 flipH="1">
              <a:off x="1606680" y="856080"/>
              <a:ext cx="171000" cy="15516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 flipH="1">
              <a:off x="1124640" y="860400"/>
              <a:ext cx="282600" cy="17280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 flipH="1">
              <a:off x="793440" y="891720"/>
              <a:ext cx="127080" cy="28980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 flipH="1">
              <a:off x="1710720" y="927720"/>
              <a:ext cx="20520" cy="2592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 flipH="1">
              <a:off x="1051200" y="1190160"/>
              <a:ext cx="308520" cy="3960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 flipH="1">
              <a:off x="1157760" y="1235520"/>
              <a:ext cx="201960" cy="2556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 flipH="1">
              <a:off x="761040" y="751680"/>
              <a:ext cx="1099800" cy="43560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уга 2"/>
          <p:cNvSpPr/>
          <p:nvPr/>
        </p:nvSpPr>
        <p:spPr>
          <a:xfrm>
            <a:off x="1752480" y="838080"/>
            <a:ext cx="5562720" cy="51818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8"/>
          <p:cNvSpPr/>
          <p:nvPr/>
        </p:nvSpPr>
        <p:spPr>
          <a:xfrm flipH="1">
            <a:off x="4493880" y="839880"/>
            <a:ext cx="3240" cy="51814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0"/>
          <p:cNvSpPr/>
          <p:nvPr/>
        </p:nvSpPr>
        <p:spPr>
          <a:xfrm flipH="1">
            <a:off x="1752480" y="3429000"/>
            <a:ext cx="5562720" cy="27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узел суммирования 12"/>
          <p:cNvSpPr/>
          <p:nvPr/>
        </p:nvSpPr>
        <p:spPr>
          <a:xfrm>
            <a:off x="4419720" y="3352680"/>
            <a:ext cx="152280" cy="152640"/>
          </a:xfrm>
          <a:prstGeom prst="flowChartSummingJunct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4572000" y="2819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7"/>
          <p:cNvSpPr/>
          <p:nvPr/>
        </p:nvSpPr>
        <p:spPr>
          <a:xfrm>
            <a:off x="4495680" y="838080"/>
            <a:ext cx="2819520" cy="2563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1"/>
          <p:cNvSpPr/>
          <p:nvPr/>
        </p:nvSpPr>
        <p:spPr>
          <a:xfrm flipH="1">
            <a:off x="4495680" y="3428280"/>
            <a:ext cx="2819520" cy="25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5"/>
          <p:cNvSpPr/>
          <p:nvPr/>
        </p:nvSpPr>
        <p:spPr>
          <a:xfrm flipV="1">
            <a:off x="6551280" y="-150840"/>
            <a:ext cx="324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7"/>
          <p:cNvSpPr/>
          <p:nvPr/>
        </p:nvSpPr>
        <p:spPr>
          <a:xfrm flipV="1">
            <a:off x="1752480" y="837720"/>
            <a:ext cx="2743200" cy="25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 flipH="1" flipV="1">
            <a:off x="1752480" y="3504960"/>
            <a:ext cx="274320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29888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4346280" y="30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8"/>
          <p:cNvSpPr/>
          <p:nvPr/>
        </p:nvSpPr>
        <p:spPr>
          <a:xfrm>
            <a:off x="7467480" y="3276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4419720" y="6172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5:02:46Z</dcterms:created>
  <dc:creator>user</dc:creator>
  <dc:description/>
  <dc:language>en-US</dc:language>
  <cp:lastModifiedBy>Шуш</cp:lastModifiedBy>
  <dcterms:modified xsi:type="dcterms:W3CDTF">2023-02-09T12:50:54Z</dcterms:modified>
  <cp:revision>78</cp:revision>
  <dc:subject/>
  <dc:title>Слайд 1</dc:title>
</cp:coreProperties>
</file>