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B17D-2348-4748-BAAF-55E891E36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580F-132D-4C21-82AD-9CE1D9F9F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FD76-58A5-4E78-92EF-2B65880CE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22A-1311-42E5-BD00-9FDE8647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049-7F02-405E-A3E5-7CEC9A8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29F02-4189-4AD5-A8AD-43C9D8F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36BC0-9C4C-4625-9723-3553DFE4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58486-EF4A-4BD9-953F-AED29E6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5EBAD-34DA-4D99-A4DD-C54640E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879F4-C2C3-422D-A32F-87BACA4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9928A-059F-4ED7-9EBC-48CD4DB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35F2D-601E-4986-9E18-46CD0A7D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D8F28-F47D-4D31-9560-447B935D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30ED4-4091-4EDD-96E4-259EEAE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502-E7D1-46EF-80D2-BFC9F9DF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0D7-0159-450F-B982-80A12378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3BC-2EEF-4E95-9C53-E36907DA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CFE1-662D-44AD-9ACE-7C65E2E2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0EDD-FDD9-4CE4-BEC4-D2B3571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5435-9F1E-41BD-B1F1-580689F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8DF-6610-445F-90AE-55A48940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02BC-4D8D-4AFE-98B1-892719F0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69BF-9818-41A0-9613-588F570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390-D145-4245-A8A6-8493494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4DD5-6A8B-45C4-92AE-F351CD50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EC9C-6478-47A8-8357-3B567AB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6976-1EEB-4DCA-9A3D-594C3F2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FBF6-650B-4A64-8283-30CF570C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77C-7D4C-4823-8C40-6F958B09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2E76-CA00-4EF6-84EE-623C8595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072B-EC70-42D9-8A10-DA68158E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047B-F075-4BD2-8A24-C7685279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5F33-8AD9-4669-8781-C0E3B583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5788-15F5-4FE6-9CAE-4F7769D6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3FE-BE76-46FF-A876-D22FA388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E069-A7F9-4FB7-AFC1-878B4B6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70CE-693F-41D4-9FA7-A160308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9C38-466D-4237-BC0D-39F0B091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D0A1-FD3C-4083-B4EA-D35C7A4D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4551-B75B-4597-9735-D90A0F6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C46E-914E-4D19-A664-51328337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BDB4-67E8-464F-AA5F-8D66BEC5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11D8-1C16-40D5-9219-01D5C666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3F15-CC25-4330-8794-1A08567B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AA10-3B33-4735-9E46-82348CE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AC2-C26F-4E98-AD72-082C3C0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ED1E-30E9-4078-AB58-142578C2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397D-30E8-4CA5-92BF-C31C998D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3153-EDB4-404B-BBE7-C56B3301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AE1C-1C1B-4FC2-A174-E5482D0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5CB2-A08A-4CB1-A0D6-17AF009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A722-9B83-43A2-A37E-CC85B91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9D823-F730-4CAF-BCA6-AE394646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CC0F-1004-4CE7-A57D-269FFF94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F4EC-A4AC-4D9F-87FF-64A786F4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8FAA6-9F92-4390-B85C-73759728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FA3-22FE-4A53-8145-70D70B22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A486-1C87-4627-A599-8E757C3D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878A-2A65-4194-82E2-35D2D697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8C9F-3434-420D-A6A9-6116EBC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95F9-5448-4717-8EE6-F8A4F6D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347A9-914B-441A-99D7-7D332044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B459D-74D6-43BC-A9B4-E536E02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E6908-0753-4A3B-A270-3CDD095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21DF5-5461-4C86-B374-29E456BF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1BAF-9AAC-4A71-ABB6-364D55A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65FD-0C22-46E6-BA18-7C3A509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378-8E4C-4094-B4F4-B4A2768E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2516-C1C0-4F24-BC01-7E352EAE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C9B2-0FBC-49F0-AD26-82F1A3EF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9D17-54BB-41F6-A776-E7B783E8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9B747-2F63-4206-9BBA-8E32544F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7682-F3D5-4BC3-85FB-39652F6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9F39-CC9B-414E-954C-6CD53496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4DED-5C57-4436-BE52-B00BF3C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85D6-5CD4-4840-AA61-8009289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7283-5FAB-4834-96DB-45D34CB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F1E6D-35A7-4136-A8AC-6352809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219-AB64-4CB6-9575-69600E5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C167-5911-4001-984F-08251EB4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1DFF-76D7-4CD3-8C21-DE48AAA0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59C7-998D-41B2-92F9-2E679C6A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C9BD-9E8B-4322-96B7-17737131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3D04-7E29-4C8C-BE0D-591D241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7C24-363D-4D3E-AB9A-F49E3FA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7428D-AC54-45CB-A3F4-2EB20B7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4818-3988-4DAE-BB25-22D221E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FE20-6E7D-40B6-BDD4-8E0E9FC7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08FE-48A4-41A6-9424-C8BFCAE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069-55B2-47E3-97FE-C09F65C3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CB554-CAE6-4DCC-820D-6B7DD05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AC63-6237-4096-8ECD-307174D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A8123-5E39-4D97-B91D-C2763D5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E8876-8078-448C-A803-6BB39C87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80A0-2502-42C8-89F6-0DD3DFC3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45E6-5D70-4FEB-BD1F-88D71EB4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5BA3-CC3E-4A5F-831E-40B2A1E4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AEF9E-1E70-45D3-A017-D0B84D80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645CC-C277-4F64-AF4D-2859D16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C00C4-FE9B-4B60-B14D-5C630A6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72B-D04D-4E92-BBC3-A565119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4E222-B35F-49EB-AE97-FAAB95E4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C3E4-62E5-482F-8683-A8D7D8E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37390-11A6-467B-964A-D5CF2B0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576E-A754-4660-99B7-02AEC5D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A9749-0EAF-4CEC-ACA5-EBBF2ED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9889-EE65-4F1E-8682-192AFAA1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3F5F4-6DF5-467C-97E4-149C2634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B2B2-34EE-41BC-A737-328AC6BE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8BDBC-78B4-433B-9837-4A8AE579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F3BB1-4DDE-4AD2-8AC8-11AE249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E0CD-8AFD-4359-BEF9-B18B3F7B0C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680"/>
            </a:gs>
            <a:gs pos="100000">
              <a:srgbClr val="828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dede">
                  <a:alpha val="1176"/>
                </a:srgbClr>
              </a:gs>
              <a:gs pos="100000">
                <a:srgbClr val="dede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3c5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acb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DA40-A167-4F12-933C-DA45DD50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3BA-EFF3-4D68-976A-253242D195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680"/>
            </a:gs>
            <a:gs pos="100000">
              <a:srgbClr val="828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dede">
                  <a:alpha val="1176"/>
                </a:srgbClr>
              </a:gs>
              <a:gs pos="100000">
                <a:srgbClr val="dede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3c5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acb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c4d74"/>
              </a:gs>
              <a:gs pos="100000">
                <a:srgbClr val="b0b1e0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95E-F922-4F67-8774-4D24FD082B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680"/>
            </a:gs>
            <a:gs pos="100000">
              <a:srgbClr val="828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dede">
                  <a:alpha val="1176"/>
                </a:srgbClr>
              </a:gs>
              <a:gs pos="100000">
                <a:srgbClr val="dede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3c5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acb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1D4D-0964-4A60-ACB8-CA281C0B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dede">
                  <a:alpha val="1176"/>
                </a:srgbClr>
              </a:gs>
              <a:gs pos="100000">
                <a:srgbClr val="dede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c4d74"/>
              </a:gs>
              <a:gs pos="100000">
                <a:srgbClr val="b0b1e0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acb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3c5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3E75-0123-4B76-93FC-D8F2F0A7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680"/>
            </a:gs>
            <a:gs pos="100000">
              <a:srgbClr val="828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7607-EE05-4D9E-B267-E383F373C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680"/>
            </a:gs>
            <a:gs pos="100000">
              <a:srgbClr val="828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39D0-2311-442E-BBE5-327CC65A1B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5d2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3a5d2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93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93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93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b6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6CC1-89EC-418B-8BFA-442C6463394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1440" y="533160"/>
            <a:ext cx="76881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строение прямоугольника на нелинованной бумаг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остройте прямоугольник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о сторонами 5 и 7 с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080" y="4800600"/>
            <a:ext cx="1905120" cy="1295280"/>
          </a:xfrm>
          <a:custGeom>
            <a:avLst/>
            <a:gdLst>
              <a:gd name="textAreaLeft" fmla="*/ 83880 w 1905120"/>
              <a:gd name="textAreaRight" fmla="*/ 1821240 w 19051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7" h="21600">
                <a:moveTo>
                  <a:pt x="0" y="0"/>
                </a:moveTo>
                <a:lnTo>
                  <a:pt x="31767" y="0"/>
                </a:lnTo>
                <a:lnTo>
                  <a:pt x="31767" y="21600"/>
                </a:lnTo>
                <a:lnTo>
                  <a:pt x="0" y="21600"/>
                </a:lnTo>
                <a:close/>
              </a:path>
              <a:path fill="lightenLess" w="31767" h="21600">
                <a:moveTo>
                  <a:pt x="0" y="0"/>
                </a:moveTo>
                <a:lnTo>
                  <a:pt x="31767" y="0"/>
                </a:lnTo>
                <a:lnTo>
                  <a:pt x="30367" y="1400"/>
                </a:lnTo>
                <a:lnTo>
                  <a:pt x="1400" y="1400"/>
                </a:lnTo>
                <a:close/>
              </a:path>
              <a:path fill="darken" w="31767" h="21600">
                <a:moveTo>
                  <a:pt x="31767" y="0"/>
                </a:moveTo>
                <a:lnTo>
                  <a:pt x="31767" y="21600"/>
                </a:lnTo>
                <a:lnTo>
                  <a:pt x="30367" y="20200"/>
                </a:lnTo>
                <a:lnTo>
                  <a:pt x="30367" y="1400"/>
                </a:lnTo>
                <a:close/>
              </a:path>
              <a:path fill="darkenLess" w="31767" h="21600">
                <a:moveTo>
                  <a:pt x="3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7" y="20200"/>
                </a:lnTo>
                <a:close/>
              </a:path>
              <a:path fill="lighten" w="3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7" h="21600">
                <a:moveTo>
                  <a:pt x="8877" y="7493"/>
                </a:moveTo>
                <a:lnTo>
                  <a:pt x="12385" y="7493"/>
                </a:lnTo>
                <a:lnTo>
                  <a:pt x="12385" y="12828"/>
                </a:lnTo>
                <a:cubicBezTo>
                  <a:pt x="12385" y="13751"/>
                  <a:pt x="13185" y="14482"/>
                  <a:pt x="14221" y="14482"/>
                </a:cubicBezTo>
                <a:lnTo>
                  <a:pt x="15883" y="14482"/>
                </a:lnTo>
                <a:cubicBezTo>
                  <a:pt x="16919" y="14482"/>
                  <a:pt x="17720" y="13751"/>
                  <a:pt x="17720" y="12828"/>
                </a:cubicBezTo>
                <a:lnTo>
                  <a:pt x="17720" y="7493"/>
                </a:lnTo>
                <a:lnTo>
                  <a:pt x="15883" y="7493"/>
                </a:lnTo>
                <a:lnTo>
                  <a:pt x="19391" y="3985"/>
                </a:lnTo>
                <a:lnTo>
                  <a:pt x="23064" y="7493"/>
                </a:lnTo>
                <a:lnTo>
                  <a:pt x="21227" y="7493"/>
                </a:lnTo>
                <a:lnTo>
                  <a:pt x="21227" y="12828"/>
                </a:lnTo>
                <a:cubicBezTo>
                  <a:pt x="21227" y="15596"/>
                  <a:pt x="18651" y="18155"/>
                  <a:pt x="15883" y="18155"/>
                </a:cubicBezTo>
                <a:lnTo>
                  <a:pt x="14221" y="18155"/>
                </a:lnTo>
                <a:cubicBezTo>
                  <a:pt x="11453" y="18155"/>
                  <a:pt x="8877" y="15596"/>
                  <a:pt x="8877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вал 3"/>
          <p:cNvSpPr/>
          <p:nvPr/>
        </p:nvSpPr>
        <p:spPr>
          <a:xfrm>
            <a:off x="685800" y="1143000"/>
            <a:ext cx="3276720" cy="3276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то общег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ая соединительная линия 5"/>
          <p:cNvSpPr/>
          <p:nvPr/>
        </p:nvSpPr>
        <p:spPr>
          <a:xfrm flipH="1">
            <a:off x="3483000" y="394020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9"/>
          <p:cNvSpPr/>
          <p:nvPr/>
        </p:nvSpPr>
        <p:spPr>
          <a:xfrm>
            <a:off x="1165320" y="1622520"/>
            <a:ext cx="2317680" cy="231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1"/>
          <p:cNvSpPr/>
          <p:nvPr/>
        </p:nvSpPr>
        <p:spPr>
          <a:xfrm flipV="1">
            <a:off x="1143000" y="1676160"/>
            <a:ext cx="2316240" cy="231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4"/>
          <p:cNvSpPr/>
          <p:nvPr/>
        </p:nvSpPr>
        <p:spPr>
          <a:xfrm>
            <a:off x="53352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8"/>
          <p:cNvSpPr/>
          <p:nvPr/>
        </p:nvSpPr>
        <p:spPr>
          <a:xfrm>
            <a:off x="36576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9"/>
          <p:cNvSpPr/>
          <p:nvPr/>
        </p:nvSpPr>
        <p:spPr>
          <a:xfrm>
            <a:off x="3581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0"/>
          <p:cNvSpPr/>
          <p:nvPr/>
        </p:nvSpPr>
        <p:spPr>
          <a:xfrm>
            <a:off x="21337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1"/>
          <p:cNvSpPr/>
          <p:nvPr/>
        </p:nvSpPr>
        <p:spPr>
          <a:xfrm>
            <a:off x="5335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2"/>
          <p:cNvSpPr/>
          <p:nvPr/>
        </p:nvSpPr>
        <p:spPr>
          <a:xfrm>
            <a:off x="4876920" y="2057400"/>
            <a:ext cx="3657600" cy="2438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36"/>
          <p:cNvSpPr/>
          <p:nvPr/>
        </p:nvSpPr>
        <p:spPr>
          <a:xfrm>
            <a:off x="4876920" y="2057400"/>
            <a:ext cx="36576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38"/>
          <p:cNvSpPr/>
          <p:nvPr/>
        </p:nvSpPr>
        <p:spPr>
          <a:xfrm flipH="1">
            <a:off x="4800600" y="2056680"/>
            <a:ext cx="37339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40"/>
          <p:cNvSpPr/>
          <p:nvPr/>
        </p:nvSpPr>
        <p:spPr>
          <a:xfrm>
            <a:off x="4343400" y="1219320"/>
            <a:ext cx="76320" cy="525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1"/>
          <p:cNvSpPr/>
          <p:nvPr/>
        </p:nvSpPr>
        <p:spPr>
          <a:xfrm>
            <a:off x="449568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2"/>
          <p:cNvSpPr/>
          <p:nvPr/>
        </p:nvSpPr>
        <p:spPr>
          <a:xfrm>
            <a:off x="838188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3"/>
          <p:cNvSpPr/>
          <p:nvPr/>
        </p:nvSpPr>
        <p:spPr>
          <a:xfrm>
            <a:off x="84582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4"/>
          <p:cNvSpPr/>
          <p:nvPr/>
        </p:nvSpPr>
        <p:spPr>
          <a:xfrm>
            <a:off x="4572000" y="4572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0"/>
          <p:cNvSpPr/>
          <p:nvPr/>
        </p:nvSpPr>
        <p:spPr>
          <a:xfrm>
            <a:off x="64771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Профориентация. Циркуль (Людмила Петрова 3) / Проза.ру"/>
          <p:cNvPicPr/>
          <p:nvPr/>
        </p:nvPicPr>
        <p:blipFill>
          <a:blip r:embed="rId1"/>
          <a:stretch/>
        </p:blipFill>
        <p:spPr>
          <a:xfrm>
            <a:off x="2209680" y="0"/>
            <a:ext cx="36799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2388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роение прямоуг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0" t="0" r="64105" b="0"/>
          <a:stretch/>
        </p:blipFill>
        <p:spPr>
          <a:xfrm>
            <a:off x="2286000" y="1143000"/>
            <a:ext cx="4600440" cy="4713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Профориентация. Циркуль (Людмила Петрова 3) / Проза.ру"/>
          <p:cNvPicPr/>
          <p:nvPr/>
        </p:nvPicPr>
        <p:blipFill>
          <a:blip r:embed="rId2"/>
          <a:stretch/>
        </p:blipFill>
        <p:spPr>
          <a:xfrm>
            <a:off x="457200" y="1371600"/>
            <a:ext cx="1469880" cy="2308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" descr="Линейка для презентации - фото и картинки abrakadabra.fun"/>
          <p:cNvPicPr/>
          <p:nvPr/>
        </p:nvPicPr>
        <p:blipFill>
          <a:blip r:embed="rId3"/>
          <a:stretch/>
        </p:blipFill>
        <p:spPr>
          <a:xfrm>
            <a:off x="6400800" y="1295280"/>
            <a:ext cx="2438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роение ква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rcRect l="42956" t="0" r="5945" b="0"/>
          <a:stretch/>
        </p:blipFill>
        <p:spPr>
          <a:xfrm>
            <a:off x="2057400" y="1447920"/>
            <a:ext cx="4495680" cy="3235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220760" cy="2059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Профориентация. Циркуль (Людмила Петрова 3) / Проза.ру"/>
          <p:cNvPicPr/>
          <p:nvPr/>
        </p:nvPicPr>
        <p:blipFill>
          <a:blip r:embed="rId3"/>
          <a:stretch/>
        </p:blipFill>
        <p:spPr>
          <a:xfrm>
            <a:off x="914400" y="1828800"/>
            <a:ext cx="14698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Содержимое 3" descr=""/>
          <p:cNvPicPr/>
          <p:nvPr/>
        </p:nvPicPr>
        <p:blipFill>
          <a:blip r:embed="rId1"/>
          <a:srcRect l="0" t="3903" r="0" b="52003"/>
          <a:stretch/>
        </p:blipFill>
        <p:spPr>
          <a:xfrm>
            <a:off x="685800" y="2057400"/>
            <a:ext cx="8001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403152"/>
                </a:solidFill>
                <a:latin typeface="Calibri"/>
              </a:rPr>
              <a:t>Спасибо за внимание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учиться построени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ямоугольни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нелинованной бумаге с помощью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) угольн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) цирку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бщег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352680" cy="198612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9"/>
          <p:cNvSpPr/>
          <p:nvPr/>
        </p:nvSpPr>
        <p:spPr>
          <a:xfrm>
            <a:off x="4800600" y="2514600"/>
            <a:ext cx="3733920" cy="2666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остроения 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рямоугольника 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с помощью 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угольника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4"/>
          <p:cNvSpPr/>
          <p:nvPr/>
        </p:nvSpPr>
        <p:spPr>
          <a:xfrm>
            <a:off x="1143000" y="3581280"/>
            <a:ext cx="4952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ый треугольник 7"/>
          <p:cNvSpPr/>
          <p:nvPr/>
        </p:nvSpPr>
        <p:spPr>
          <a:xfrm rot="1731000">
            <a:off x="1584000" y="2146320"/>
            <a:ext cx="5213160" cy="28544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9"/>
          <p:cNvSpPr/>
          <p:nvPr/>
        </p:nvSpPr>
        <p:spPr>
          <a:xfrm flipH="1">
            <a:off x="1142640" y="838080"/>
            <a:ext cx="1523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380880" y="3200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1"/>
          <p:cNvSpPr/>
          <p:nvPr/>
        </p:nvSpPr>
        <p:spPr>
          <a:xfrm>
            <a:off x="2289960" y="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2"/>
          <p:cNvSpPr/>
          <p:nvPr/>
        </p:nvSpPr>
        <p:spPr>
          <a:xfrm>
            <a:off x="5261760" y="60958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Линейка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5187960" y="0"/>
            <a:ext cx="3956040" cy="2798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3"/>
          <p:cNvSpPr/>
          <p:nvPr/>
        </p:nvSpPr>
        <p:spPr>
          <a:xfrm>
            <a:off x="1143000" y="3581280"/>
            <a:ext cx="4952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ый треугольник 4"/>
          <p:cNvSpPr/>
          <p:nvPr/>
        </p:nvSpPr>
        <p:spPr>
          <a:xfrm rot="7152000">
            <a:off x="63360" y="2458800"/>
            <a:ext cx="5213520" cy="285408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H="1">
            <a:off x="1142640" y="838080"/>
            <a:ext cx="1523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8"/>
          <p:cNvSpPr/>
          <p:nvPr/>
        </p:nvSpPr>
        <p:spPr>
          <a:xfrm>
            <a:off x="2666880" y="838080"/>
            <a:ext cx="495324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380880" y="3200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5261760" y="60958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9"/>
          <p:cNvSpPr/>
          <p:nvPr/>
        </p:nvSpPr>
        <p:spPr>
          <a:xfrm>
            <a:off x="2289960" y="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0"/>
          <p:cNvSpPr/>
          <p:nvPr/>
        </p:nvSpPr>
        <p:spPr>
          <a:xfrm>
            <a:off x="7852680" y="30481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19132 1.02222 E">
                                      <p:cBhvr>
                                        <p:cTn id="99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ая соединительная линия 3"/>
          <p:cNvSpPr/>
          <p:nvPr/>
        </p:nvSpPr>
        <p:spPr>
          <a:xfrm>
            <a:off x="1143000" y="3581280"/>
            <a:ext cx="4952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ый треугольник 4"/>
          <p:cNvSpPr/>
          <p:nvPr/>
        </p:nvSpPr>
        <p:spPr>
          <a:xfrm rot="17938800">
            <a:off x="3476880" y="1848960"/>
            <a:ext cx="5213160" cy="285408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5"/>
          <p:cNvSpPr/>
          <p:nvPr/>
        </p:nvSpPr>
        <p:spPr>
          <a:xfrm flipH="1">
            <a:off x="1142640" y="838080"/>
            <a:ext cx="1523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8"/>
          <p:cNvSpPr/>
          <p:nvPr/>
        </p:nvSpPr>
        <p:spPr>
          <a:xfrm>
            <a:off x="2666880" y="838080"/>
            <a:ext cx="495324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6"/>
          <p:cNvSpPr/>
          <p:nvPr/>
        </p:nvSpPr>
        <p:spPr>
          <a:xfrm flipH="1">
            <a:off x="6095880" y="3581280"/>
            <a:ext cx="152424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380880" y="3200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9"/>
          <p:cNvSpPr/>
          <p:nvPr/>
        </p:nvSpPr>
        <p:spPr>
          <a:xfrm>
            <a:off x="5261760" y="60958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0"/>
          <p:cNvSpPr/>
          <p:nvPr/>
        </p:nvSpPr>
        <p:spPr>
          <a:xfrm>
            <a:off x="2289960" y="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1"/>
          <p:cNvSpPr/>
          <p:nvPr/>
        </p:nvSpPr>
        <p:spPr>
          <a:xfrm>
            <a:off x="7852680" y="30481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-0.14028 -0.93334 E">
                                      <p:cBhvr>
                                        <p:cTn id="11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Получился ли прямоугольник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ая соединительная линия 3"/>
          <p:cNvSpPr/>
          <p:nvPr/>
        </p:nvSpPr>
        <p:spPr>
          <a:xfrm>
            <a:off x="1143000" y="3581280"/>
            <a:ext cx="4952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5"/>
          <p:cNvSpPr/>
          <p:nvPr/>
        </p:nvSpPr>
        <p:spPr>
          <a:xfrm flipH="1">
            <a:off x="1142640" y="838080"/>
            <a:ext cx="152388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8"/>
          <p:cNvSpPr/>
          <p:nvPr/>
        </p:nvSpPr>
        <p:spPr>
          <a:xfrm>
            <a:off x="2666880" y="838080"/>
            <a:ext cx="495324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6"/>
          <p:cNvSpPr/>
          <p:nvPr/>
        </p:nvSpPr>
        <p:spPr>
          <a:xfrm flipH="1">
            <a:off x="6095880" y="3581280"/>
            <a:ext cx="1524240" cy="274320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ый треугольник 4"/>
          <p:cNvSpPr/>
          <p:nvPr/>
        </p:nvSpPr>
        <p:spPr>
          <a:xfrm rot="12526800">
            <a:off x="1964880" y="2144880"/>
            <a:ext cx="5213520" cy="285408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7"/>
          <p:cNvSpPr/>
          <p:nvPr/>
        </p:nvSpPr>
        <p:spPr>
          <a:xfrm>
            <a:off x="380880" y="3200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9"/>
          <p:cNvSpPr/>
          <p:nvPr/>
        </p:nvSpPr>
        <p:spPr>
          <a:xfrm>
            <a:off x="5261760" y="60958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2289960" y="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7852680" y="30481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уш</dc:creator>
  <dc:description/>
  <dc:language>en-US</dc:language>
  <cp:lastModifiedBy>Шуш</cp:lastModifiedBy>
  <dcterms:modified xsi:type="dcterms:W3CDTF">2023-02-09T12:59:05Z</dcterms:modified>
  <cp:revision>45</cp:revision>
  <dc:subject/>
  <dc:title>Слайд 1</dc:title>
</cp:coreProperties>
</file>