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8224-1368-4F68-B994-7E6910CCAB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9F55-8B3A-48A3-AB06-6EAEB7E0AB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F08D-DCC0-4E79-A2D7-98BCA63F8E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98DF-F0AD-4504-8C0A-20D01A03ED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55B4-0646-406C-9F00-92DFC785E5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C8CA-AE8A-4169-9A93-7A96B30A05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E8E-925C-4834-B2C9-9161D994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7EC2-EBA7-4A7E-BD4E-47A233E7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79016-ED64-4BFA-AE0B-497D1196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BFD32-3B2B-4B3C-8DAC-4958B9BF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4759B-CB76-4C42-BC75-933B4512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F1FA2-3927-4FE5-A8D8-A95715CB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A0622-F4B5-4764-A0C5-37D31C2E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7D93A-F2E5-4AA3-B473-52C285EB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34D90-8F18-4AED-9849-37F10F6A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CF7EB-8FCA-437E-8C0B-D8AD3D37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B6134-ECB3-4535-87F8-55ECB548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B0E1-5398-413A-812A-92CB8DFA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3046-7289-4334-996F-B73C600D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234B-1067-4973-9A03-C8F65C93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A98D-7EFC-4898-AA61-E8DCCDE2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D1B2-1B0A-4822-BD72-E64DE7C6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BD70-3D9B-4770-A3A7-A451F6C0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BF2B-1660-407E-955A-3791C395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F50F-FE85-40BC-8986-A3E74F62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F8D3-605D-4A94-85AE-723FE7D8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AF07-8C37-439F-8A73-799D6867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D788-C1A2-4844-9EA5-F1E2C845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AB8E-4483-4035-9BFB-62CDBE32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826C-B268-45A3-902A-FBC70219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1E54-DD87-47A3-A485-4EEEEDD2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CDA9-11AC-4592-9933-4F6171CA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CB737-1154-40CD-BCB0-96444A31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5C42B-5439-47E9-94B4-9CCAB00D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0136B-EA1A-42DA-BF29-5993EEB3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2FA74-7DCB-4ED8-B26D-DB4A9818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4C044-E896-4BFC-8C29-F4F41956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A8DF-7804-475B-BC65-847FC6B6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CE188-780E-4013-97F3-4119CF97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61088-E4FD-4A72-AFA5-A3A44E44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9A07A-BD67-4BCA-BC2C-1D501DB8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1CF8B-96D9-42AF-B1C8-5E16F81A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8AA18-AA9B-4228-AC9A-0610B4F9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FFF1C-1351-4FE6-9226-E6579DB6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A2AB2-7F01-42A4-AB6B-EABFB280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76534-96D6-4CD4-9C05-AE8B7F71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64C63-3E0A-4827-A355-D9AB1B7C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96AC7-6697-4BE8-AC60-B4B42253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7731-28B1-4DAD-AC03-14008F96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EB87E-F00D-439A-8CA7-6E89F6C7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A97E7-E1FC-46EC-A2C0-88468112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98B46-7A6C-4326-A4FA-7764794B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32423-CD2E-4C5F-94B7-EBAC86A6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7548F-5FB2-4249-97C8-BCC9F0A9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C8A44-0A01-4466-8E21-4D4FDCFC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8BD3F-8ED4-46C4-A292-D62C131D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6A14C-3AB4-4249-B60F-3651851D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0DBF3-9943-4F9A-AD36-388DE873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ACF8C-D444-4BE5-B495-ECFBF830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9CBB-62B4-4138-AE21-0B3C6271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A66E6-96C1-4FF6-A60E-30E27669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AF0AD-EF56-46F3-95AE-1C896CC7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FAFF9-6B8D-451D-A9AC-D631C931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988EC-7DBA-45AC-8033-1D2C1497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E2882-B603-4BBC-AE81-4ABF14C5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01E0D-EA6E-4B87-9305-423EC68F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786C2-8ACD-4837-B692-C17E54F5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BE5A9-E846-45AB-AE9E-98A8C342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6BA0C-1502-4FC3-9A59-ECB73EF5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F2F57-528E-41FF-B5A7-1EF8C4EB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A9EC-51E5-4768-A439-A989C123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02FAB-14EA-4030-9F97-93A78AFE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BF600-0780-49E4-9949-BF852CD1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B0C09-50CB-4E98-84A7-AC16EC2D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35B5F-27C2-4849-9AF7-38FE2D53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FD8C8-7DA3-4D34-9C9F-B7AE5A95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5F55C-F592-4738-AF36-5BBFB869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EB9B9-AF7F-48EE-BCF0-4F8CB133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FE82A-633D-4ACD-B741-BFD3F723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4B0CB-4527-4F62-99D7-B3E9422C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30053-5B46-4E86-A6AA-62A6B468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B2CB-D06F-445C-81C7-2FAEEF59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C5526-D5CA-4210-B4A3-1167D7AA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AF1FE-6BC3-4502-894B-01165C4A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68CD3-C9DC-4D21-879F-C11C2DF7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CC993-2C9D-4A1F-B856-F5180C23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810C1-52C2-4630-9DB2-2526810E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6F8CE-86C4-4FC0-8D86-546ABE8A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D152C-D7A2-4CCC-967F-83459800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C6A67-BB8F-4331-A7D6-E2FD76CB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F7CCF-B110-4EE1-8A8B-09F02952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D9A17-16C2-4327-B68C-39C9EA52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C791-EDDE-40EA-B653-828A8A6D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D656F-90ED-42DC-BEA2-1C0C11FE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67460-9A11-499C-B880-C18BFA22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A5547-094E-443C-88E5-41296DAA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E8E45-1F24-4FFA-B78C-176207D3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2E5C2-73CC-4911-9F17-156CE6C8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BD282-AF7E-410B-9530-15D773D7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84644-93B0-4610-AA41-12C4AB1D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83631-F8E4-43B6-B376-594E2F08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E452C-4884-4564-B63F-1F373A7A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0E60C-C292-4F50-80EB-0AED0C6E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746B-0BE9-41F0-BB0C-8DB5EC97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000F8-7E17-483F-8E60-8251C656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7C298-D19A-418F-8820-FB91351A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AA479-D31C-44C0-A616-C1476CED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03501-37DC-4E23-A37F-646C0E19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61E2E-F399-4D70-81B0-91450CB5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FAB52-E19B-4344-A19A-B5AFE430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6C582-B126-4124-8C5D-C8AC24E3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26A72-D5F4-47A6-87E7-5B68FE12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0F927-2ADA-4A26-82DD-B2A6C1AD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6003D-1C88-4364-9BA6-FAE220D1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4AD8-3DB2-463B-A249-D5D18787BAA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564D-4758-42F4-8660-ADA63A9C5DF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D3AF-9F76-4E63-8E50-91CB694A1BD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E3F8-B315-48CD-BDF9-9A9DD947605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6336-DA69-4F7F-B782-D1DFB9B071C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3CCB-7327-4706-BB51-2A36C0BBC33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ADEE-FD46-4776-93D2-92E94931E60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19B7-CE0F-4C37-8B27-F1EB901C742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261F-96F9-4EAA-ABEF-88B431319B9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3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407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7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8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9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0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1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5" name="WordArt 22" descr=""/>
          <p:cNvPicPr/>
          <p:nvPr/>
        </p:nvPicPr>
        <p:blipFill>
          <a:blip r:embed="rId1"/>
          <a:stretch/>
        </p:blipFill>
        <p:spPr>
          <a:xfrm>
            <a:off x="755640" y="1365120"/>
            <a:ext cx="7711920" cy="2298960"/>
          </a:xfrm>
          <a:prstGeom prst="rect">
            <a:avLst/>
          </a:prstGeom>
          <a:ln w="0">
            <a:noFill/>
          </a:ln>
        </p:spPr>
      </p:pic>
      <p:pic>
        <p:nvPicPr>
          <p:cNvPr id="416" name="WordArt 24" descr=""/>
          <p:cNvPicPr/>
          <p:nvPr/>
        </p:nvPicPr>
        <p:blipFill>
          <a:blip r:embed="rId2"/>
          <a:stretch/>
        </p:blipFill>
        <p:spPr>
          <a:xfrm>
            <a:off x="378000" y="4419720"/>
            <a:ext cx="8253360" cy="12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Заголовок 1" descr=""/>
          <p:cNvPicPr/>
          <p:nvPr/>
        </p:nvPicPr>
        <p:blipFill>
          <a:blip r:embed="rId1"/>
          <a:stretch/>
        </p:blipFill>
        <p:spPr>
          <a:xfrm>
            <a:off x="706320" y="274680"/>
            <a:ext cx="7480440" cy="993600"/>
          </a:xfrm>
          <a:prstGeom prst="rect">
            <a:avLst/>
          </a:prstGeom>
          <a:ln w="0">
            <a:noFill/>
          </a:ln>
        </p:spPr>
      </p:pic>
      <p:sp>
        <p:nvSpPr>
          <p:cNvPr id="630" name="TextBox 2"/>
          <p:cNvSpPr/>
          <p:nvPr/>
        </p:nvSpPr>
        <p:spPr>
          <a:xfrm>
            <a:off x="1292400" y="1295280"/>
            <a:ext cx="6251400" cy="119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033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ол, вписанный в окружность, равен половине соответствующего ему центрального уг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4"/>
          <p:cNvSpPr/>
          <p:nvPr/>
        </p:nvSpPr>
        <p:spPr>
          <a:xfrm>
            <a:off x="3143160" y="3571920"/>
            <a:ext cx="2857680" cy="2857320"/>
          </a:xfrm>
          <a:prstGeom prst="ellipse">
            <a:avLst/>
          </a:prstGeom>
          <a:noFill/>
          <a:ln w="50760">
            <a:solidFill>
              <a:srgbClr val="033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Группа 16"/>
          <p:cNvGrpSpPr/>
          <p:nvPr/>
        </p:nvGrpSpPr>
        <p:grpSpPr>
          <a:xfrm>
            <a:off x="3143160" y="4143240"/>
            <a:ext cx="2643120" cy="1714680"/>
            <a:chOff x="3143160" y="4143240"/>
            <a:chExt cx="2643120" cy="1714680"/>
          </a:xfrm>
        </p:grpSpPr>
        <p:grpSp>
          <p:nvGrpSpPr>
            <p:cNvPr id="633" name="Группа 5"/>
            <p:cNvGrpSpPr/>
            <p:nvPr/>
          </p:nvGrpSpPr>
          <p:grpSpPr>
            <a:xfrm>
              <a:off x="3143160" y="4143240"/>
              <a:ext cx="2643120" cy="1714680"/>
              <a:chOff x="3143160" y="4143240"/>
              <a:chExt cx="2643120" cy="1714680"/>
            </a:xfrm>
          </p:grpSpPr>
          <p:sp>
            <p:nvSpPr>
              <p:cNvPr id="634" name="Прямая соединительная линия 6"/>
              <p:cNvSpPr/>
              <p:nvPr/>
            </p:nvSpPr>
            <p:spPr>
              <a:xfrm flipH="1">
                <a:off x="3143160" y="4143240"/>
                <a:ext cx="2643120" cy="80352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Прямая соединительная линия 7"/>
              <p:cNvSpPr/>
              <p:nvPr/>
            </p:nvSpPr>
            <p:spPr>
              <a:xfrm>
                <a:off x="3143160" y="4943520"/>
                <a:ext cx="2571840" cy="9144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Дуга 8"/>
            <p:cNvSpPr/>
            <p:nvPr/>
          </p:nvSpPr>
          <p:spPr>
            <a:xfrm rot="5091600">
              <a:off x="3521880" y="4798800"/>
              <a:ext cx="471600" cy="331560"/>
            </a:xfrm>
            <a:custGeom>
              <a:avLst/>
              <a:gdLst/>
              <a:ahLst/>
              <a:rect l="l" t="t" r="r" b="b"/>
              <a:pathLst>
                <a:path stroke="0" w="471489" h="331791">
                  <a:moveTo>
                    <a:pt x="1626" y="146447"/>
                  </a:moveTo>
                  <a:cubicBezTo>
                    <a:pt x="15354" y="64611"/>
                    <a:pt x="112362" y="2270"/>
                    <a:pt x="229420" y="60"/>
                  </a:cubicBezTo>
                  <a:cubicBezTo>
                    <a:pt x="341756" y="-2062"/>
                    <a:pt x="440603" y="51910"/>
                    <a:pt x="465589" y="129011"/>
                  </a:cubicBezTo>
                  <a:lnTo>
                    <a:pt x="235745" y="165896"/>
                  </a:lnTo>
                  <a:lnTo>
                    <a:pt x="1626" y="146447"/>
                  </a:lnTo>
                  <a:close/>
                </a:path>
                <a:path fill="none" w="471489" h="331791">
                  <a:moveTo>
                    <a:pt x="1626" y="146447"/>
                  </a:moveTo>
                  <a:cubicBezTo>
                    <a:pt x="15354" y="64611"/>
                    <a:pt x="112362" y="2270"/>
                    <a:pt x="229420" y="60"/>
                  </a:cubicBezTo>
                  <a:cubicBezTo>
                    <a:pt x="341756" y="-2062"/>
                    <a:pt x="440603" y="51910"/>
                    <a:pt x="465589" y="129011"/>
                  </a:cubicBezTo>
                </a:path>
              </a:pathLst>
            </a:custGeom>
            <a:noFill/>
            <a:ln w="507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Дуга 13"/>
          <p:cNvSpPr/>
          <p:nvPr/>
        </p:nvSpPr>
        <p:spPr>
          <a:xfrm rot="5400000">
            <a:off x="4250160" y="4321800"/>
            <a:ext cx="2143080" cy="1357560"/>
          </a:xfrm>
          <a:custGeom>
            <a:avLst/>
            <a:gdLst/>
            <a:ahLst/>
            <a:rect l="l" t="t" r="r" b="b"/>
            <a:pathLst>
              <a:path stroke="0" w="2143125" h="1357312">
                <a:moveTo>
                  <a:pt x="211199" y="274105"/>
                </a:moveTo>
                <a:cubicBezTo>
                  <a:pt x="413226" y="101767"/>
                  <a:pt x="732073" y="116"/>
                  <a:pt x="1070984" y="0"/>
                </a:cubicBezTo>
                <a:cubicBezTo>
                  <a:pt x="1409503" y="-116"/>
                  <a:pt x="1728202" y="101083"/>
                  <a:pt x="1930571" y="272951"/>
                </a:cubicBezTo>
                <a:lnTo>
                  <a:pt x="1071563" y="678656"/>
                </a:lnTo>
                <a:lnTo>
                  <a:pt x="211199" y="274105"/>
                </a:lnTo>
                <a:close/>
              </a:path>
              <a:path fill="none" w="2143125" h="1357312">
                <a:moveTo>
                  <a:pt x="211199" y="274105"/>
                </a:moveTo>
                <a:cubicBezTo>
                  <a:pt x="413226" y="101767"/>
                  <a:pt x="732073" y="116"/>
                  <a:pt x="1070984" y="0"/>
                </a:cubicBezTo>
                <a:cubicBezTo>
                  <a:pt x="1409503" y="-116"/>
                  <a:pt x="1728202" y="101083"/>
                  <a:pt x="1930571" y="272951"/>
                </a:cubicBez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Группа 17"/>
          <p:cNvGrpSpPr/>
          <p:nvPr/>
        </p:nvGrpSpPr>
        <p:grpSpPr>
          <a:xfrm>
            <a:off x="4500000" y="4142520"/>
            <a:ext cx="1214640" cy="1714680"/>
            <a:chOff x="4500000" y="4142520"/>
            <a:chExt cx="1214640" cy="1714680"/>
          </a:xfrm>
        </p:grpSpPr>
        <p:grpSp>
          <p:nvGrpSpPr>
            <p:cNvPr id="639" name="Группа 9"/>
            <p:cNvGrpSpPr/>
            <p:nvPr/>
          </p:nvGrpSpPr>
          <p:grpSpPr>
            <a:xfrm>
              <a:off x="4500000" y="4142520"/>
              <a:ext cx="1214640" cy="1714680"/>
              <a:chOff x="4500000" y="4142520"/>
              <a:chExt cx="1214640" cy="1714680"/>
            </a:xfrm>
          </p:grpSpPr>
          <p:sp>
            <p:nvSpPr>
              <p:cNvPr id="640" name="Прямая соединительная линия 10"/>
              <p:cNvSpPr/>
              <p:nvPr/>
            </p:nvSpPr>
            <p:spPr>
              <a:xfrm flipH="1">
                <a:off x="4500360" y="4142520"/>
                <a:ext cx="1214280" cy="8398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Прямая соединительная линия 11"/>
              <p:cNvSpPr/>
              <p:nvPr/>
            </p:nvSpPr>
            <p:spPr>
              <a:xfrm>
                <a:off x="4500000" y="4979160"/>
                <a:ext cx="1214280" cy="8780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Группа 15"/>
            <p:cNvGrpSpPr/>
            <p:nvPr/>
          </p:nvGrpSpPr>
          <p:grpSpPr>
            <a:xfrm>
              <a:off x="4627080" y="4686840"/>
              <a:ext cx="473040" cy="655920"/>
              <a:chOff x="4627080" y="4686840"/>
              <a:chExt cx="473040" cy="655920"/>
            </a:xfrm>
          </p:grpSpPr>
          <p:sp>
            <p:nvSpPr>
              <p:cNvPr id="643" name="Дуга 12"/>
              <p:cNvSpPr/>
              <p:nvPr/>
            </p:nvSpPr>
            <p:spPr>
              <a:xfrm rot="5091600">
                <a:off x="4567680" y="4852800"/>
                <a:ext cx="454680" cy="296640"/>
              </a:xfrm>
              <a:custGeom>
                <a:avLst/>
                <a:gdLst/>
                <a:ahLst/>
                <a:rect l="l" t="t" r="r" b="b"/>
                <a:pathLst>
                  <a:path stroke="0" w="474599" h="331790">
                    <a:moveTo>
                      <a:pt x="1658" y="146320"/>
                    </a:moveTo>
                    <a:cubicBezTo>
                      <a:pt x="15560" y="64529"/>
                      <a:pt x="113198" y="2255"/>
                      <a:pt x="230975" y="59"/>
                    </a:cubicBezTo>
                    <a:cubicBezTo>
                      <a:pt x="343909" y="-2046"/>
                      <a:pt x="443308" y="51801"/>
                      <a:pt x="468584" y="128778"/>
                    </a:cubicBezTo>
                    <a:lnTo>
                      <a:pt x="237300" y="165895"/>
                    </a:lnTo>
                    <a:lnTo>
                      <a:pt x="1658" y="146320"/>
                    </a:lnTo>
                    <a:close/>
                  </a:path>
                  <a:path fill="none" w="474599" h="331790">
                    <a:moveTo>
                      <a:pt x="1658" y="146320"/>
                    </a:moveTo>
                    <a:cubicBezTo>
                      <a:pt x="15560" y="64529"/>
                      <a:pt x="113198" y="2255"/>
                      <a:pt x="230975" y="59"/>
                    </a:cubicBezTo>
                    <a:cubicBezTo>
                      <a:pt x="343909" y="-2046"/>
                      <a:pt x="443308" y="51801"/>
                      <a:pt x="468584" y="128778"/>
                    </a:cubicBezTo>
                  </a:path>
                </a:pathLst>
              </a:custGeom>
              <a:noFill/>
              <a:ln w="507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Дуга 14"/>
              <p:cNvSpPr/>
              <p:nvPr/>
            </p:nvSpPr>
            <p:spPr>
              <a:xfrm rot="5091600">
                <a:off x="4552920" y="4805280"/>
                <a:ext cx="621000" cy="418680"/>
              </a:xfrm>
              <a:custGeom>
                <a:avLst/>
                <a:gdLst/>
                <a:ahLst/>
                <a:rect l="l" t="t" r="r" b="b"/>
                <a:pathLst>
                  <a:path stroke="0" w="648234" h="468410">
                    <a:moveTo>
                      <a:pt x="2121" y="207456"/>
                    </a:moveTo>
                    <a:cubicBezTo>
                      <a:pt x="20541" y="91677"/>
                      <a:pt x="153967" y="3299"/>
                      <a:pt x="315188" y="89"/>
                    </a:cubicBezTo>
                    <a:cubicBezTo>
                      <a:pt x="470410" y="-3002"/>
                      <a:pt x="606859" y="73891"/>
                      <a:pt x="640525" y="183428"/>
                    </a:cubicBezTo>
                    <a:lnTo>
                      <a:pt x="324117" y="234205"/>
                    </a:lnTo>
                    <a:lnTo>
                      <a:pt x="2121" y="207456"/>
                    </a:lnTo>
                    <a:close/>
                  </a:path>
                  <a:path fill="none" w="648234" h="468410">
                    <a:moveTo>
                      <a:pt x="2121" y="207456"/>
                    </a:moveTo>
                    <a:cubicBezTo>
                      <a:pt x="20541" y="91677"/>
                      <a:pt x="153967" y="3299"/>
                      <a:pt x="315188" y="89"/>
                    </a:cubicBezTo>
                    <a:cubicBezTo>
                      <a:pt x="470410" y="-3002"/>
                      <a:pt x="606859" y="73891"/>
                      <a:pt x="640525" y="183428"/>
                    </a:cubicBezTo>
                  </a:path>
                </a:pathLst>
              </a:custGeom>
              <a:noFill/>
              <a:ln w="507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5" name="TextBox 18"/>
          <p:cNvSpPr/>
          <p:nvPr/>
        </p:nvSpPr>
        <p:spPr>
          <a:xfrm>
            <a:off x="2643120" y="464328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19"/>
          <p:cNvSpPr/>
          <p:nvPr/>
        </p:nvSpPr>
        <p:spPr>
          <a:xfrm>
            <a:off x="5796000" y="364500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20"/>
          <p:cNvSpPr/>
          <p:nvPr/>
        </p:nvSpPr>
        <p:spPr>
          <a:xfrm>
            <a:off x="5715000" y="571500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21"/>
          <p:cNvSpPr/>
          <p:nvPr/>
        </p:nvSpPr>
        <p:spPr>
          <a:xfrm>
            <a:off x="4795920" y="4657680"/>
            <a:ext cx="459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27"/>
          <p:cNvSpPr/>
          <p:nvPr/>
        </p:nvSpPr>
        <p:spPr>
          <a:xfrm flipH="1">
            <a:off x="4428360" y="4929120"/>
            <a:ext cx="142920" cy="1429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Дуга 1"/>
          <p:cNvSpPr/>
          <p:nvPr/>
        </p:nvSpPr>
        <p:spPr>
          <a:xfrm>
            <a:off x="324000" y="3789360"/>
            <a:ext cx="914400" cy="914400"/>
          </a:xfrm>
          <a:custGeom>
            <a:avLst/>
            <a:gdLst/>
            <a:ahLst/>
            <a:rect l="l" t="t" r="r" b="b"/>
            <a:pathLst>
              <a:path stroke="0" w="914400" h="914400">
                <a:moveTo>
                  <a:pt x="457200" y="0"/>
                </a:moveTo>
                <a:cubicBezTo>
                  <a:pt x="709705" y="0"/>
                  <a:pt x="914400" y="204695"/>
                  <a:pt x="914400" y="457200"/>
                </a:cubicBezTo>
                <a:lnTo>
                  <a:pt x="457200" y="457200"/>
                </a:lnTo>
                <a:lnTo>
                  <a:pt x="457200" y="0"/>
                </a:lnTo>
                <a:close/>
              </a:path>
              <a:path fill="none" w="914400" h="914400">
                <a:moveTo>
                  <a:pt x="457200" y="0"/>
                </a:moveTo>
                <a:cubicBezTo>
                  <a:pt x="709705" y="0"/>
                  <a:pt x="914400" y="204695"/>
                  <a:pt x="914400" y="457200"/>
                </a:cubicBezTo>
              </a:path>
            </a:pathLst>
          </a:custGeom>
          <a:noFill/>
          <a:ln w="1008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оугольник 3"/>
          <p:cNvSpPr/>
          <p:nvPr/>
        </p:nvSpPr>
        <p:spPr>
          <a:xfrm>
            <a:off x="1238400" y="1143000"/>
            <a:ext cx="6457680" cy="13525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0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Заголовок 1" descr=""/>
          <p:cNvPicPr/>
          <p:nvPr/>
        </p:nvPicPr>
        <p:blipFill>
          <a:blip r:embed="rId1"/>
          <a:stretch/>
        </p:blipFill>
        <p:spPr>
          <a:xfrm>
            <a:off x="-171360" y="371520"/>
            <a:ext cx="7638840" cy="944640"/>
          </a:xfrm>
          <a:prstGeom prst="rect">
            <a:avLst/>
          </a:prstGeom>
          <a:ln w="0">
            <a:noFill/>
          </a:ln>
        </p:spPr>
      </p:pic>
      <p:sp>
        <p:nvSpPr>
          <p:cNvPr id="653" name="Овал 3"/>
          <p:cNvSpPr/>
          <p:nvPr/>
        </p:nvSpPr>
        <p:spPr>
          <a:xfrm>
            <a:off x="1857240" y="1500120"/>
            <a:ext cx="4659480" cy="46656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Прямая соединительная линия 4"/>
          <p:cNvSpPr/>
          <p:nvPr/>
        </p:nvSpPr>
        <p:spPr>
          <a:xfrm flipH="1">
            <a:off x="4286160" y="2643120"/>
            <a:ext cx="1919520" cy="1305000"/>
          </a:xfrm>
          <a:prstGeom prst="line">
            <a:avLst/>
          </a:prstGeom>
          <a:ln w="50760">
            <a:solidFill>
              <a:srgbClr val="033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ая соединительная линия 6"/>
          <p:cNvSpPr/>
          <p:nvPr/>
        </p:nvSpPr>
        <p:spPr>
          <a:xfrm flipH="1" flipV="1">
            <a:off x="4284720" y="4005000"/>
            <a:ext cx="71280" cy="2087640"/>
          </a:xfrm>
          <a:prstGeom prst="line">
            <a:avLst/>
          </a:prstGeom>
          <a:ln w="50760">
            <a:solidFill>
              <a:srgbClr val="033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Дуга 12"/>
          <p:cNvSpPr/>
          <p:nvPr/>
        </p:nvSpPr>
        <p:spPr>
          <a:xfrm rot="7839000">
            <a:off x="3954960" y="3636360"/>
            <a:ext cx="1187280" cy="979200"/>
          </a:xfrm>
          <a:custGeom>
            <a:avLst/>
            <a:gdLst>
              <a:gd name="textAreaLeft" fmla="*/ 0 w 1187280"/>
              <a:gd name="textAreaRight" fmla="*/ 1165680 w 1187280"/>
              <a:gd name="textAreaTop" fmla="*/ 0 h 979200"/>
              <a:gd name="textAreaBottom" fmla="*/ 641880 h 979200"/>
            </a:gdLst>
            <a:ahLst/>
            <a:rect l="textAreaLeft" t="textAreaTop" r="textAreaRight" b="textAreaBottom"/>
            <a:pathLst>
              <a:path stroke="0" w="1196975" h="1044575">
                <a:moveTo>
                  <a:pt x="29646" y="684630"/>
                </a:moveTo>
                <a:lnTo>
                  <a:pt x="29645" y="684630"/>
                </a:lnTo>
                <a:cubicBezTo>
                  <a:pt x="10005" y="632220"/>
                  <a:pt x="0" y="577427"/>
                  <a:pt x="0" y="522287"/>
                </a:cubicBezTo>
                <a:cubicBezTo>
                  <a:pt x="0" y="233835"/>
                  <a:pt x="267952" y="-1"/>
                  <a:pt x="598488" y="-1"/>
                </a:cubicBezTo>
                <a:cubicBezTo>
                  <a:pt x="866994" y="-2"/>
                  <a:pt x="1102637" y="156056"/>
                  <a:pt x="1174896" y="381732"/>
                </a:cubicBezTo>
                <a:lnTo>
                  <a:pt x="598488" y="522288"/>
                </a:lnTo>
                <a:lnTo>
                  <a:pt x="29646" y="684630"/>
                </a:lnTo>
                <a:close/>
              </a:path>
              <a:path fill="none" w="1196975" h="1044575">
                <a:moveTo>
                  <a:pt x="29646" y="684630"/>
                </a:moveTo>
                <a:lnTo>
                  <a:pt x="29645" y="684630"/>
                </a:lnTo>
                <a:cubicBezTo>
                  <a:pt x="10005" y="632220"/>
                  <a:pt x="0" y="577427"/>
                  <a:pt x="0" y="522287"/>
                </a:cubicBezTo>
                <a:cubicBezTo>
                  <a:pt x="0" y="233835"/>
                  <a:pt x="267952" y="-1"/>
                  <a:pt x="598488" y="-1"/>
                </a:cubicBezTo>
                <a:cubicBezTo>
                  <a:pt x="866994" y="-2"/>
                  <a:pt x="1102637" y="156056"/>
                  <a:pt x="1174896" y="38173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Дуга 13"/>
          <p:cNvSpPr/>
          <p:nvPr/>
        </p:nvSpPr>
        <p:spPr>
          <a:xfrm rot="7839000">
            <a:off x="3954240" y="3576240"/>
            <a:ext cx="993600" cy="892080"/>
          </a:xfrm>
          <a:custGeom>
            <a:avLst/>
            <a:gdLst>
              <a:gd name="textAreaLeft" fmla="*/ 1080 w 993600"/>
              <a:gd name="textAreaRight" fmla="*/ 969840 w 993600"/>
              <a:gd name="textAreaTop" fmla="*/ 0 h 892080"/>
              <a:gd name="textAreaBottom" fmla="*/ 416520 h 892080"/>
            </a:gdLst>
            <a:ahLst/>
            <a:rect l="textAreaLeft" t="textAreaTop" r="textAreaRight" b="textAreaBottom"/>
            <a:pathLst>
              <a:path stroke="0" w="1000125" h="947738">
                <a:moveTo>
                  <a:pt x="1094" y="442540"/>
                </a:moveTo>
                <a:lnTo>
                  <a:pt x="1094" y="442540"/>
                </a:lnTo>
                <a:cubicBezTo>
                  <a:pt x="18504" y="193536"/>
                  <a:pt x="236719" y="-1"/>
                  <a:pt x="500063" y="0"/>
                </a:cubicBezTo>
                <a:cubicBezTo>
                  <a:pt x="717047" y="0"/>
                  <a:pt x="909272" y="132604"/>
                  <a:pt x="975939" y="328277"/>
                </a:cubicBezTo>
                <a:lnTo>
                  <a:pt x="500063" y="473869"/>
                </a:lnTo>
                <a:lnTo>
                  <a:pt x="1094" y="442540"/>
                </a:lnTo>
                <a:close/>
              </a:path>
              <a:path fill="none" w="1000125" h="947738">
                <a:moveTo>
                  <a:pt x="1094" y="442540"/>
                </a:moveTo>
                <a:lnTo>
                  <a:pt x="1094" y="442540"/>
                </a:lnTo>
                <a:cubicBezTo>
                  <a:pt x="18504" y="193536"/>
                  <a:pt x="236719" y="-1"/>
                  <a:pt x="500063" y="0"/>
                </a:cubicBezTo>
                <a:cubicBezTo>
                  <a:pt x="717047" y="0"/>
                  <a:pt x="909272" y="132604"/>
                  <a:pt x="975939" y="328277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Дуга 14"/>
          <p:cNvSpPr/>
          <p:nvPr/>
        </p:nvSpPr>
        <p:spPr>
          <a:xfrm rot="14613600">
            <a:off x="3541680" y="3071160"/>
            <a:ext cx="1690560" cy="1716120"/>
          </a:xfrm>
          <a:custGeom>
            <a:avLst/>
            <a:gdLst>
              <a:gd name="textAreaLeft" fmla="*/ 159840 w 1690560"/>
              <a:gd name="textAreaRight" fmla="*/ 1690920 w 1690560"/>
              <a:gd name="textAreaTop" fmla="*/ 0 h 1716120"/>
              <a:gd name="textAreaBottom" fmla="*/ 1694880 h 1716120"/>
            </a:gdLst>
            <a:ahLst/>
            <a:rect l="textAreaLeft" t="textAreaTop" r="textAreaRight" b="textAreaBottom"/>
            <a:pathLst>
              <a:path stroke="0" w="1787525" h="1749425">
                <a:moveTo>
                  <a:pt x="169064" y="362772"/>
                </a:moveTo>
                <a:lnTo>
                  <a:pt x="169063" y="362771"/>
                </a:lnTo>
                <a:cubicBezTo>
                  <a:pt x="337081" y="134959"/>
                  <a:pt x="606685" y="-1"/>
                  <a:pt x="893763" y="0"/>
                </a:cubicBezTo>
                <a:cubicBezTo>
                  <a:pt x="1387374" y="0"/>
                  <a:pt x="1787526" y="391622"/>
                  <a:pt x="1787526" y="874713"/>
                </a:cubicBezTo>
                <a:cubicBezTo>
                  <a:pt x="1787526" y="1283187"/>
                  <a:pt x="1498660" y="1637278"/>
                  <a:pt x="1091648" y="1727717"/>
                </a:cubicBezTo>
                <a:lnTo>
                  <a:pt x="893763" y="874713"/>
                </a:lnTo>
                <a:lnTo>
                  <a:pt x="169064" y="362772"/>
                </a:lnTo>
                <a:close/>
              </a:path>
              <a:path fill="none" w="1787525" h="1749425">
                <a:moveTo>
                  <a:pt x="169064" y="362772"/>
                </a:moveTo>
                <a:lnTo>
                  <a:pt x="169063" y="362771"/>
                </a:lnTo>
                <a:cubicBezTo>
                  <a:pt x="337081" y="134959"/>
                  <a:pt x="606685" y="-1"/>
                  <a:pt x="893763" y="0"/>
                </a:cubicBezTo>
                <a:cubicBezTo>
                  <a:pt x="1387374" y="0"/>
                  <a:pt x="1787526" y="391622"/>
                  <a:pt x="1787526" y="874713"/>
                </a:cubicBezTo>
                <a:cubicBezTo>
                  <a:pt x="1787526" y="1283187"/>
                  <a:pt x="1498660" y="1637278"/>
                  <a:pt x="1091648" y="1727717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оугольник 15"/>
          <p:cNvSpPr/>
          <p:nvPr/>
        </p:nvSpPr>
        <p:spPr>
          <a:xfrm>
            <a:off x="3786120" y="3000240"/>
            <a:ext cx="5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16"/>
          <p:cNvSpPr/>
          <p:nvPr/>
        </p:nvSpPr>
        <p:spPr>
          <a:xfrm>
            <a:off x="4929120" y="4357800"/>
            <a:ext cx="157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17"/>
          <p:cNvSpPr/>
          <p:nvPr/>
        </p:nvSpPr>
        <p:spPr>
          <a:xfrm>
            <a:off x="500040" y="17859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оугольник 23"/>
          <p:cNvSpPr/>
          <p:nvPr/>
        </p:nvSpPr>
        <p:spPr>
          <a:xfrm>
            <a:off x="3788280" y="378612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Овал 15"/>
          <p:cNvSpPr/>
          <p:nvPr/>
        </p:nvSpPr>
        <p:spPr>
          <a:xfrm flipV="1">
            <a:off x="4286160" y="3928320"/>
            <a:ext cx="136440" cy="13644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17"/>
          <p:cNvSpPr/>
          <p:nvPr/>
        </p:nvSpPr>
        <p:spPr>
          <a:xfrm>
            <a:off x="6443640" y="508464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дите 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Box 2"/>
          <p:cNvSpPr/>
          <p:nvPr/>
        </p:nvSpPr>
        <p:spPr>
          <a:xfrm>
            <a:off x="6443640" y="566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дит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Овал 3"/>
          <p:cNvSpPr/>
          <p:nvPr/>
        </p:nvSpPr>
        <p:spPr>
          <a:xfrm>
            <a:off x="1785960" y="1428840"/>
            <a:ext cx="4857840" cy="4857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Прямая соединительная линия 6"/>
          <p:cNvSpPr/>
          <p:nvPr/>
        </p:nvSpPr>
        <p:spPr>
          <a:xfrm flipH="1" flipV="1">
            <a:off x="2071440" y="2642760"/>
            <a:ext cx="2122200" cy="1336680"/>
          </a:xfrm>
          <a:prstGeom prst="line">
            <a:avLst/>
          </a:prstGeom>
          <a:ln w="50760">
            <a:solidFill>
              <a:srgbClr val="033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Прямая соединительная линия 7"/>
          <p:cNvSpPr/>
          <p:nvPr/>
        </p:nvSpPr>
        <p:spPr>
          <a:xfrm>
            <a:off x="4143240" y="3929040"/>
            <a:ext cx="2000520" cy="1357200"/>
          </a:xfrm>
          <a:prstGeom prst="line">
            <a:avLst/>
          </a:prstGeom>
          <a:ln w="50760">
            <a:solidFill>
              <a:srgbClr val="033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Дуга 18"/>
          <p:cNvSpPr/>
          <p:nvPr/>
        </p:nvSpPr>
        <p:spPr>
          <a:xfrm rot="570600">
            <a:off x="3571560" y="3648240"/>
            <a:ext cx="1000080" cy="946080"/>
          </a:xfrm>
          <a:custGeom>
            <a:avLst/>
            <a:gdLst/>
            <a:ahLst/>
            <a:rect l="l" t="t" r="r" b="b"/>
            <a:pathLst>
              <a:path stroke="0" w="1000125" h="946150">
                <a:moveTo>
                  <a:pt x="136365" y="148396"/>
                </a:moveTo>
                <a:cubicBezTo>
                  <a:pt x="277602" y="6801"/>
                  <a:pt x="496111" y="-38480"/>
                  <a:pt x="686985" y="34293"/>
                </a:cubicBezTo>
                <a:cubicBezTo>
                  <a:pt x="889988" y="111690"/>
                  <a:pt x="1016198" y="304983"/>
                  <a:pt x="998486" y="511360"/>
                </a:cubicBezTo>
                <a:lnTo>
                  <a:pt x="500063" y="473075"/>
                </a:lnTo>
                <a:lnTo>
                  <a:pt x="136365" y="148396"/>
                </a:lnTo>
                <a:close/>
              </a:path>
              <a:path fill="none" w="1000125" h="946150">
                <a:moveTo>
                  <a:pt x="136365" y="148396"/>
                </a:moveTo>
                <a:cubicBezTo>
                  <a:pt x="277602" y="6801"/>
                  <a:pt x="496111" y="-38480"/>
                  <a:pt x="686985" y="34293"/>
                </a:cubicBezTo>
                <a:cubicBezTo>
                  <a:pt x="889988" y="111690"/>
                  <a:pt x="1016198" y="304983"/>
                  <a:pt x="998486" y="511360"/>
                </a:cubicBezTo>
              </a:path>
            </a:pathLst>
          </a:custGeom>
          <a:noFill/>
          <a:ln w="507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20"/>
          <p:cNvSpPr/>
          <p:nvPr/>
        </p:nvSpPr>
        <p:spPr>
          <a:xfrm>
            <a:off x="3780000" y="692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22"/>
          <p:cNvSpPr/>
          <p:nvPr/>
        </p:nvSpPr>
        <p:spPr>
          <a:xfrm>
            <a:off x="571680" y="1643040"/>
            <a:ext cx="142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рямоугольник 24"/>
          <p:cNvSpPr/>
          <p:nvPr/>
        </p:nvSpPr>
        <p:spPr>
          <a:xfrm>
            <a:off x="3862080" y="385776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Овал 25"/>
          <p:cNvSpPr/>
          <p:nvPr/>
        </p:nvSpPr>
        <p:spPr>
          <a:xfrm>
            <a:off x="4071960" y="3857760"/>
            <a:ext cx="142920" cy="1429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7"/>
          <p:cNvSpPr/>
          <p:nvPr/>
        </p:nvSpPr>
        <p:spPr>
          <a:xfrm>
            <a:off x="609480" y="160200"/>
            <a:ext cx="5050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0a22e"/>
                </a:solidFill>
                <a:latin typeface="Times New Roman"/>
              </a:rPr>
              <a:t>Устное решение задач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Заголовок 1" descr=""/>
          <p:cNvPicPr/>
          <p:nvPr/>
        </p:nvPicPr>
        <p:blipFill>
          <a:blip r:embed="rId1"/>
          <a:stretch/>
        </p:blipFill>
        <p:spPr>
          <a:xfrm>
            <a:off x="7265880" y="5237280"/>
            <a:ext cx="1878120" cy="938160"/>
          </a:xfrm>
          <a:prstGeom prst="rect">
            <a:avLst/>
          </a:prstGeom>
          <a:ln w="0">
            <a:noFill/>
          </a:ln>
        </p:spPr>
      </p:pic>
      <p:sp>
        <p:nvSpPr>
          <p:cNvPr id="676" name="Овал 3"/>
          <p:cNvSpPr/>
          <p:nvPr/>
        </p:nvSpPr>
        <p:spPr>
          <a:xfrm>
            <a:off x="1857240" y="1500120"/>
            <a:ext cx="4857840" cy="4857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Прямая соединительная линия 4"/>
          <p:cNvSpPr/>
          <p:nvPr/>
        </p:nvSpPr>
        <p:spPr>
          <a:xfrm flipH="1" flipV="1">
            <a:off x="4286160" y="4000320"/>
            <a:ext cx="1928880" cy="1500120"/>
          </a:xfrm>
          <a:prstGeom prst="line">
            <a:avLst/>
          </a:prstGeom>
          <a:ln w="50760">
            <a:solidFill>
              <a:srgbClr val="033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Прямая соединительная линия 5"/>
          <p:cNvSpPr/>
          <p:nvPr/>
        </p:nvSpPr>
        <p:spPr>
          <a:xfrm flipH="1">
            <a:off x="2568240" y="5500080"/>
            <a:ext cx="3646440" cy="145800"/>
          </a:xfrm>
          <a:prstGeom prst="line">
            <a:avLst/>
          </a:prstGeom>
          <a:ln w="50760">
            <a:solidFill>
              <a:srgbClr val="033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Прямая соединительная линия 6"/>
          <p:cNvSpPr/>
          <p:nvPr/>
        </p:nvSpPr>
        <p:spPr>
          <a:xfrm flipH="1">
            <a:off x="2568600" y="4000680"/>
            <a:ext cx="1789200" cy="1645920"/>
          </a:xfrm>
          <a:prstGeom prst="line">
            <a:avLst/>
          </a:prstGeom>
          <a:ln w="50760">
            <a:solidFill>
              <a:srgbClr val="033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Дуга 13"/>
          <p:cNvSpPr/>
          <p:nvPr/>
        </p:nvSpPr>
        <p:spPr>
          <a:xfrm rot="16602600">
            <a:off x="5172840" y="5007240"/>
            <a:ext cx="998280" cy="946080"/>
          </a:xfrm>
          <a:custGeom>
            <a:avLst/>
            <a:gdLst/>
            <a:ahLst/>
            <a:rect l="l" t="t" r="r" b="b"/>
            <a:pathLst>
              <a:path stroke="0" w="998538" h="946150">
                <a:moveTo>
                  <a:pt x="402015" y="9062"/>
                </a:moveTo>
                <a:cubicBezTo>
                  <a:pt x="640908" y="-35893"/>
                  <a:pt x="879171" y="89042"/>
                  <a:pt x="965851" y="304713"/>
                </a:cubicBezTo>
                <a:lnTo>
                  <a:pt x="499269" y="473075"/>
                </a:lnTo>
                <a:lnTo>
                  <a:pt x="402015" y="9062"/>
                </a:lnTo>
                <a:close/>
              </a:path>
              <a:path fill="none" w="998538" h="946150">
                <a:moveTo>
                  <a:pt x="402015" y="9062"/>
                </a:moveTo>
                <a:cubicBezTo>
                  <a:pt x="640908" y="-35893"/>
                  <a:pt x="879171" y="89042"/>
                  <a:pt x="965851" y="304713"/>
                </a:cubicBezTo>
              </a:path>
            </a:pathLst>
          </a:custGeom>
          <a:noFill/>
          <a:ln w="507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Дуга 14"/>
          <p:cNvSpPr/>
          <p:nvPr/>
        </p:nvSpPr>
        <p:spPr>
          <a:xfrm rot="16602600">
            <a:off x="5315760" y="5079240"/>
            <a:ext cx="998640" cy="946080"/>
          </a:xfrm>
          <a:custGeom>
            <a:avLst/>
            <a:gdLst/>
            <a:ahLst/>
            <a:rect l="l" t="t" r="r" b="b"/>
            <a:pathLst>
              <a:path stroke="0" w="998537" h="946150">
                <a:moveTo>
                  <a:pt x="475167" y="552"/>
                </a:moveTo>
                <a:cubicBezTo>
                  <a:pt x="690952" y="-9330"/>
                  <a:pt x="888965" y="113414"/>
                  <a:pt x="965850" y="304714"/>
                </a:cubicBezTo>
                <a:lnTo>
                  <a:pt x="499269" y="473075"/>
                </a:lnTo>
                <a:lnTo>
                  <a:pt x="475167" y="552"/>
                </a:lnTo>
                <a:close/>
              </a:path>
              <a:path fill="none" w="998537" h="946150">
                <a:moveTo>
                  <a:pt x="475167" y="552"/>
                </a:moveTo>
                <a:cubicBezTo>
                  <a:pt x="690952" y="-9330"/>
                  <a:pt x="888965" y="113414"/>
                  <a:pt x="965850" y="304714"/>
                </a:cubicBezTo>
              </a:path>
            </a:pathLst>
          </a:custGeom>
          <a:noFill/>
          <a:ln w="507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6"/>
          <p:cNvSpPr/>
          <p:nvPr/>
        </p:nvSpPr>
        <p:spPr>
          <a:xfrm>
            <a:off x="3276720" y="76500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7"/>
          <p:cNvSpPr/>
          <p:nvPr/>
        </p:nvSpPr>
        <p:spPr>
          <a:xfrm>
            <a:off x="4357800" y="478620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18"/>
          <p:cNvSpPr/>
          <p:nvPr/>
        </p:nvSpPr>
        <p:spPr>
          <a:xfrm>
            <a:off x="428760" y="171468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20"/>
          <p:cNvSpPr/>
          <p:nvPr/>
        </p:nvSpPr>
        <p:spPr>
          <a:xfrm>
            <a:off x="3995640" y="342900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Овал 16"/>
          <p:cNvSpPr/>
          <p:nvPr/>
        </p:nvSpPr>
        <p:spPr>
          <a:xfrm flipV="1">
            <a:off x="4286160" y="4000680"/>
            <a:ext cx="142920" cy="1425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Овал 3"/>
          <p:cNvSpPr/>
          <p:nvPr/>
        </p:nvSpPr>
        <p:spPr>
          <a:xfrm>
            <a:off x="1857240" y="1500120"/>
            <a:ext cx="4857840" cy="4857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ая соединительная линия 4"/>
          <p:cNvSpPr/>
          <p:nvPr/>
        </p:nvSpPr>
        <p:spPr>
          <a:xfrm flipH="1">
            <a:off x="1857240" y="3929040"/>
            <a:ext cx="4857840" cy="1440"/>
          </a:xfrm>
          <a:prstGeom prst="line">
            <a:avLst/>
          </a:prstGeom>
          <a:ln w="50760">
            <a:solidFill>
              <a:srgbClr val="033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Прямая соединительная линия 6"/>
          <p:cNvSpPr/>
          <p:nvPr/>
        </p:nvSpPr>
        <p:spPr>
          <a:xfrm flipH="1">
            <a:off x="4285800" y="2714040"/>
            <a:ext cx="2143080" cy="1214280"/>
          </a:xfrm>
          <a:prstGeom prst="line">
            <a:avLst/>
          </a:prstGeom>
          <a:ln w="50760">
            <a:solidFill>
              <a:srgbClr val="033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Дуга 12"/>
          <p:cNvSpPr/>
          <p:nvPr/>
        </p:nvSpPr>
        <p:spPr>
          <a:xfrm rot="5550600">
            <a:off x="4638240" y="3333600"/>
            <a:ext cx="1000440" cy="946080"/>
          </a:xfrm>
          <a:custGeom>
            <a:avLst/>
            <a:gdLst/>
            <a:ahLst/>
            <a:rect l="l" t="t" r="r" b="b"/>
            <a:pathLst>
              <a:path stroke="0" w="1000125" h="946150">
                <a:moveTo>
                  <a:pt x="22897" y="331563"/>
                </a:moveTo>
                <a:cubicBezTo>
                  <a:pt x="100514" y="97332"/>
                  <a:pt x="354612" y="-41825"/>
                  <a:pt x="607974" y="11146"/>
                </a:cubicBezTo>
                <a:lnTo>
                  <a:pt x="500063" y="473075"/>
                </a:lnTo>
                <a:lnTo>
                  <a:pt x="22897" y="331563"/>
                </a:lnTo>
                <a:close/>
              </a:path>
              <a:path fill="none" w="1000125" h="946150">
                <a:moveTo>
                  <a:pt x="22897" y="331563"/>
                </a:moveTo>
                <a:cubicBezTo>
                  <a:pt x="100514" y="97332"/>
                  <a:pt x="354612" y="-41825"/>
                  <a:pt x="607974" y="11146"/>
                </a:cubicBezTo>
              </a:path>
            </a:pathLst>
          </a:custGeom>
          <a:noFill/>
          <a:ln w="507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Дуга 13"/>
          <p:cNvSpPr/>
          <p:nvPr/>
        </p:nvSpPr>
        <p:spPr>
          <a:xfrm rot="5550600">
            <a:off x="4495680" y="3405240"/>
            <a:ext cx="1000080" cy="946080"/>
          </a:xfrm>
          <a:custGeom>
            <a:avLst/>
            <a:gdLst/>
            <a:ahLst/>
            <a:rect l="l" t="t" r="r" b="b"/>
            <a:pathLst>
              <a:path stroke="0" w="1000125" h="946150">
                <a:moveTo>
                  <a:pt x="41270" y="284884"/>
                </a:moveTo>
                <a:cubicBezTo>
                  <a:pt x="125419" y="101281"/>
                  <a:pt x="322582" y="-12369"/>
                  <a:pt x="533640" y="1068"/>
                </a:cubicBezTo>
                <a:lnTo>
                  <a:pt x="500063" y="473075"/>
                </a:lnTo>
                <a:lnTo>
                  <a:pt x="41270" y="284884"/>
                </a:lnTo>
                <a:close/>
              </a:path>
              <a:path fill="none" w="1000125" h="946150">
                <a:moveTo>
                  <a:pt x="41270" y="284884"/>
                </a:moveTo>
                <a:cubicBezTo>
                  <a:pt x="125419" y="101281"/>
                  <a:pt x="322582" y="-12369"/>
                  <a:pt x="533640" y="1068"/>
                </a:cubicBezTo>
              </a:path>
            </a:pathLst>
          </a:custGeom>
          <a:noFill/>
          <a:ln w="507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Прямоугольник 14"/>
          <p:cNvSpPr/>
          <p:nvPr/>
        </p:nvSpPr>
        <p:spPr>
          <a:xfrm>
            <a:off x="4000680" y="38577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15"/>
          <p:cNvSpPr/>
          <p:nvPr/>
        </p:nvSpPr>
        <p:spPr>
          <a:xfrm>
            <a:off x="3492360" y="76500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рямоугольник 16"/>
          <p:cNvSpPr/>
          <p:nvPr/>
        </p:nvSpPr>
        <p:spPr>
          <a:xfrm>
            <a:off x="5613840" y="3214800"/>
            <a:ext cx="8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Прямая соединительная линия 17"/>
          <p:cNvSpPr/>
          <p:nvPr/>
        </p:nvSpPr>
        <p:spPr>
          <a:xfrm flipH="1" flipV="1">
            <a:off x="1928520" y="3214800"/>
            <a:ext cx="2392200" cy="714240"/>
          </a:xfrm>
          <a:prstGeom prst="line">
            <a:avLst/>
          </a:prstGeom>
          <a:ln w="50760">
            <a:solidFill>
              <a:srgbClr val="033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олилиния 24"/>
          <p:cNvSpPr/>
          <p:nvPr/>
        </p:nvSpPr>
        <p:spPr>
          <a:xfrm>
            <a:off x="3186000" y="3643200"/>
            <a:ext cx="63720" cy="279360"/>
          </a:xfrm>
          <a:custGeom>
            <a:avLst/>
            <a:gdLst/>
            <a:ahLst/>
            <a:rect l="l" t="t" r="r" b="b"/>
            <a:pathLst>
              <a:path w="63909" h="280219">
                <a:moveTo>
                  <a:pt x="44245" y="0"/>
                </a:moveTo>
                <a:cubicBezTo>
                  <a:pt x="49161" y="14748"/>
                  <a:pt x="63909" y="29497"/>
                  <a:pt x="58993" y="44245"/>
                </a:cubicBezTo>
                <a:cubicBezTo>
                  <a:pt x="52397" y="64032"/>
                  <a:pt x="26317" y="71136"/>
                  <a:pt x="14748" y="88490"/>
                </a:cubicBezTo>
                <a:cubicBezTo>
                  <a:pt x="6125" y="101425"/>
                  <a:pt x="4916" y="117987"/>
                  <a:pt x="0" y="132735"/>
                </a:cubicBezTo>
                <a:cubicBezTo>
                  <a:pt x="14748" y="147483"/>
                  <a:pt x="40816" y="156406"/>
                  <a:pt x="44245" y="176980"/>
                </a:cubicBezTo>
                <a:cubicBezTo>
                  <a:pt x="47159" y="194464"/>
                  <a:pt x="19618" y="204182"/>
                  <a:pt x="14748" y="221225"/>
                </a:cubicBezTo>
                <a:cubicBezTo>
                  <a:pt x="9346" y="240133"/>
                  <a:pt x="14748" y="260554"/>
                  <a:pt x="14748" y="280219"/>
                </a:cubicBezTo>
              </a:path>
            </a:pathLst>
          </a:custGeom>
          <a:noFill/>
          <a:ln w="381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оугольник 25"/>
          <p:cNvSpPr/>
          <p:nvPr/>
        </p:nvSpPr>
        <p:spPr>
          <a:xfrm>
            <a:off x="2041920" y="3286080"/>
            <a:ext cx="8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26"/>
          <p:cNvSpPr/>
          <p:nvPr/>
        </p:nvSpPr>
        <p:spPr>
          <a:xfrm>
            <a:off x="571680" y="164304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Овал 16"/>
          <p:cNvSpPr/>
          <p:nvPr/>
        </p:nvSpPr>
        <p:spPr>
          <a:xfrm>
            <a:off x="4214880" y="3857760"/>
            <a:ext cx="142920" cy="1429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Заголовок 1"/>
          <p:cNvSpPr/>
          <p:nvPr/>
        </p:nvSpPr>
        <p:spPr>
          <a:xfrm>
            <a:off x="6948360" y="5445000"/>
            <a:ext cx="18003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дит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Заголовок 1" descr=""/>
          <p:cNvPicPr/>
          <p:nvPr/>
        </p:nvPicPr>
        <p:blipFill>
          <a:blip r:embed="rId1"/>
          <a:stretch/>
        </p:blipFill>
        <p:spPr>
          <a:xfrm>
            <a:off x="384120" y="3090960"/>
            <a:ext cx="8454960" cy="2200320"/>
          </a:xfrm>
          <a:prstGeom prst="rect">
            <a:avLst/>
          </a:prstGeom>
          <a:ln w="0">
            <a:noFill/>
          </a:ln>
        </p:spPr>
      </p:pic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380520" y="1447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43329"/>
                </a:solidFill>
                <a:latin typeface="Franklin Gothic Book"/>
              </a:rPr>
              <a:t>ВЕТКА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566640" y="274680"/>
            <a:ext cx="713268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4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419" name="Freeform 5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8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9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0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2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13"/>
          <p:cNvGrpSpPr/>
          <p:nvPr/>
        </p:nvGrpSpPr>
        <p:grpSpPr>
          <a:xfrm>
            <a:off x="838080" y="1523880"/>
            <a:ext cx="4267080" cy="4190760"/>
            <a:chOff x="838080" y="1523880"/>
            <a:chExt cx="4267080" cy="4190760"/>
          </a:xfrm>
        </p:grpSpPr>
        <p:sp>
          <p:nvSpPr>
            <p:cNvPr id="428" name="Oval 14"/>
            <p:cNvSpPr/>
            <p:nvPr/>
          </p:nvSpPr>
          <p:spPr>
            <a:xfrm>
              <a:off x="838080" y="1523880"/>
              <a:ext cx="4267080" cy="41907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5"/>
            <p:cNvSpPr/>
            <p:nvPr/>
          </p:nvSpPr>
          <p:spPr>
            <a:xfrm>
              <a:off x="2907000" y="3488400"/>
              <a:ext cx="128880" cy="13104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16"/>
            <p:cNvSpPr/>
            <p:nvPr/>
          </p:nvSpPr>
          <p:spPr>
            <a:xfrm>
              <a:off x="2323080" y="3488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7"/>
          <p:cNvGrpSpPr/>
          <p:nvPr/>
        </p:nvGrpSpPr>
        <p:grpSpPr>
          <a:xfrm>
            <a:off x="2743200" y="1066680"/>
            <a:ext cx="2865240" cy="2783880"/>
            <a:chOff x="2743200" y="1066680"/>
            <a:chExt cx="2865240" cy="2783880"/>
          </a:xfrm>
        </p:grpSpPr>
        <p:sp>
          <p:nvSpPr>
            <p:cNvPr id="432" name="Text Box 18"/>
            <p:cNvSpPr/>
            <p:nvPr/>
          </p:nvSpPr>
          <p:spPr>
            <a:xfrm>
              <a:off x="2743200" y="10666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19"/>
            <p:cNvSpPr/>
            <p:nvPr/>
          </p:nvSpPr>
          <p:spPr>
            <a:xfrm>
              <a:off x="5211720" y="339084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20"/>
          <p:cNvSpPr/>
          <p:nvPr/>
        </p:nvSpPr>
        <p:spPr>
          <a:xfrm>
            <a:off x="2514600" y="58672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8"/>
          <p:cNvSpPr/>
          <p:nvPr/>
        </p:nvSpPr>
        <p:spPr>
          <a:xfrm>
            <a:off x="2971800" y="1523880"/>
            <a:ext cx="0" cy="4191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29"/>
          <p:cNvSpPr/>
          <p:nvPr/>
        </p:nvSpPr>
        <p:spPr>
          <a:xfrm>
            <a:off x="2895480" y="14479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30"/>
          <p:cNvSpPr/>
          <p:nvPr/>
        </p:nvSpPr>
        <p:spPr>
          <a:xfrm>
            <a:off x="2895480" y="5638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31"/>
          <p:cNvSpPr/>
          <p:nvPr/>
        </p:nvSpPr>
        <p:spPr>
          <a:xfrm>
            <a:off x="2971800" y="3581280"/>
            <a:ext cx="2057400" cy="76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2"/>
          <p:cNvSpPr/>
          <p:nvPr/>
        </p:nvSpPr>
        <p:spPr>
          <a:xfrm>
            <a:off x="4952880" y="355608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3"/>
          <p:cNvSpPr/>
          <p:nvPr/>
        </p:nvSpPr>
        <p:spPr>
          <a:xfrm>
            <a:off x="2895480" y="34290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34"/>
          <p:cNvSpPr/>
          <p:nvPr/>
        </p:nvSpPr>
        <p:spPr>
          <a:xfrm flipH="1">
            <a:off x="837720" y="1569960"/>
            <a:ext cx="2133720" cy="2133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5"/>
          <p:cNvSpPr/>
          <p:nvPr/>
        </p:nvSpPr>
        <p:spPr>
          <a:xfrm>
            <a:off x="5410080" y="1447920"/>
            <a:ext cx="2514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ОВ-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АМ-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АС-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6"/>
          <p:cNvSpPr/>
          <p:nvPr/>
        </p:nvSpPr>
        <p:spPr>
          <a:xfrm>
            <a:off x="6324480" y="1447920"/>
            <a:ext cx="2362320" cy="58140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ади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7"/>
          <p:cNvSpPr/>
          <p:nvPr/>
        </p:nvSpPr>
        <p:spPr>
          <a:xfrm>
            <a:off x="6324480" y="2133720"/>
            <a:ext cx="2362320" cy="581400"/>
          </a:xfrm>
          <a:prstGeom prst="rect">
            <a:avLst/>
          </a:prstGeom>
          <a:solidFill>
            <a:srgbClr val="e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иам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8"/>
          <p:cNvSpPr/>
          <p:nvPr/>
        </p:nvSpPr>
        <p:spPr>
          <a:xfrm>
            <a:off x="6248520" y="2895480"/>
            <a:ext cx="2361960" cy="581400"/>
          </a:xfrm>
          <a:prstGeom prst="rect">
            <a:avLst/>
          </a:prstGeom>
          <a:solidFill>
            <a:srgbClr val="f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хор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1"/>
          <p:cNvSpPr/>
          <p:nvPr/>
        </p:nvSpPr>
        <p:spPr>
          <a:xfrm>
            <a:off x="264960" y="3441600"/>
            <a:ext cx="5223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Franklin Gothic Boo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3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448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5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9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0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1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Прямая соединительная линия 15"/>
          <p:cNvSpPr/>
          <p:nvPr/>
        </p:nvSpPr>
        <p:spPr>
          <a:xfrm flipH="1" flipV="1">
            <a:off x="2133720" y="1066320"/>
            <a:ext cx="838080" cy="1676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ая соединительная линия 20"/>
          <p:cNvSpPr/>
          <p:nvPr/>
        </p:nvSpPr>
        <p:spPr>
          <a:xfrm flipH="1" flipV="1">
            <a:off x="1600200" y="2209680"/>
            <a:ext cx="1371600" cy="533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ая соединительная линия 21"/>
          <p:cNvSpPr/>
          <p:nvPr/>
        </p:nvSpPr>
        <p:spPr>
          <a:xfrm flipH="1">
            <a:off x="4723920" y="3314880"/>
            <a:ext cx="2057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ая соединительная линия 22"/>
          <p:cNvSpPr/>
          <p:nvPr/>
        </p:nvSpPr>
        <p:spPr>
          <a:xfrm flipH="1" flipV="1">
            <a:off x="3873600" y="1638000"/>
            <a:ext cx="838080" cy="1676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ая соединительная линия 26"/>
          <p:cNvSpPr/>
          <p:nvPr/>
        </p:nvSpPr>
        <p:spPr>
          <a:xfrm flipH="1" flipV="1">
            <a:off x="761760" y="4267080"/>
            <a:ext cx="1523880" cy="76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ая соединительная линия 27"/>
          <p:cNvSpPr/>
          <p:nvPr/>
        </p:nvSpPr>
        <p:spPr>
          <a:xfrm flipV="1">
            <a:off x="5753160" y="3962160"/>
            <a:ext cx="0" cy="1485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ая соединительная линия 28"/>
          <p:cNvSpPr/>
          <p:nvPr/>
        </p:nvSpPr>
        <p:spPr>
          <a:xfrm flipH="1" flipV="1">
            <a:off x="2285640" y="4343040"/>
            <a:ext cx="213372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ая соединительная линия 29"/>
          <p:cNvSpPr/>
          <p:nvPr/>
        </p:nvSpPr>
        <p:spPr>
          <a:xfrm flipH="1" flipV="1">
            <a:off x="5753160" y="5410080"/>
            <a:ext cx="1371600" cy="76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Овал 35"/>
          <p:cNvSpPr/>
          <p:nvPr/>
        </p:nvSpPr>
        <p:spPr>
          <a:xfrm flipV="1">
            <a:off x="2362320" y="4266360"/>
            <a:ext cx="228600" cy="22860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Прямоугольник 37" descr=""/>
          <p:cNvPicPr/>
          <p:nvPr/>
        </p:nvPicPr>
        <p:blipFill>
          <a:blip r:embed="rId1"/>
          <a:stretch/>
        </p:blipFill>
        <p:spPr>
          <a:xfrm>
            <a:off x="420840" y="2803680"/>
            <a:ext cx="2590560" cy="920520"/>
          </a:xfrm>
          <a:prstGeom prst="rect">
            <a:avLst/>
          </a:prstGeom>
          <a:ln w="0">
            <a:noFill/>
          </a:ln>
        </p:spPr>
      </p:pic>
      <p:pic>
        <p:nvPicPr>
          <p:cNvPr id="466" name="Прямоугольник 23" descr=""/>
          <p:cNvPicPr/>
          <p:nvPr/>
        </p:nvPicPr>
        <p:blipFill>
          <a:blip r:embed="rId2"/>
          <a:stretch/>
        </p:blipFill>
        <p:spPr>
          <a:xfrm>
            <a:off x="5078520" y="1639800"/>
            <a:ext cx="2590560" cy="914400"/>
          </a:xfrm>
          <a:prstGeom prst="rect">
            <a:avLst/>
          </a:prstGeom>
          <a:ln w="0">
            <a:noFill/>
          </a:ln>
        </p:spPr>
      </p:pic>
      <p:pic>
        <p:nvPicPr>
          <p:cNvPr id="467" name="Прямоугольник 24" descr=""/>
          <p:cNvPicPr/>
          <p:nvPr/>
        </p:nvPicPr>
        <p:blipFill>
          <a:blip r:embed="rId3"/>
          <a:stretch/>
        </p:blipFill>
        <p:spPr>
          <a:xfrm>
            <a:off x="841320" y="4730760"/>
            <a:ext cx="2590920" cy="920880"/>
          </a:xfrm>
          <a:prstGeom prst="rect">
            <a:avLst/>
          </a:prstGeom>
          <a:ln w="0">
            <a:noFill/>
          </a:ln>
        </p:spPr>
      </p:pic>
      <p:pic>
        <p:nvPicPr>
          <p:cNvPr id="468" name="Прямоугольник 25" descr=""/>
          <p:cNvPicPr/>
          <p:nvPr/>
        </p:nvPicPr>
        <p:blipFill>
          <a:blip r:embed="rId4"/>
          <a:stretch/>
        </p:blipFill>
        <p:spPr>
          <a:xfrm>
            <a:off x="6248520" y="4078440"/>
            <a:ext cx="2590560" cy="914400"/>
          </a:xfrm>
          <a:prstGeom prst="rect">
            <a:avLst/>
          </a:prstGeom>
          <a:ln w="0">
            <a:noFill/>
          </a:ln>
        </p:spPr>
      </p:pic>
      <p:sp>
        <p:nvSpPr>
          <p:cNvPr id="469" name="Прямоугольник 3"/>
          <p:cNvSpPr/>
          <p:nvPr/>
        </p:nvSpPr>
        <p:spPr>
          <a:xfrm>
            <a:off x="3873600" y="371520"/>
            <a:ext cx="13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г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 txBox="1"/>
          <p:nvPr/>
        </p:nvSpPr>
        <p:spPr>
          <a:xfrm>
            <a:off x="457200" y="1294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Угол, градусная мера которого больше 90</a:t>
            </a: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º</a:t>
            </a: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, называется тупым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4191120" y="16765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457200" y="254484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езок, соединяющий центр окружности с какой-либо точкой окружности называется диаметром окруж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5257800" y="3429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851040" y="3429000"/>
            <a:ext cx="1904760" cy="520560"/>
          </a:xfrm>
          <a:prstGeom prst="rect">
            <a:avLst/>
          </a:prstGeom>
          <a:solidFill>
            <a:srgbClr val="f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диус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1"/>
          <p:cNvSpPr/>
          <p:nvPr/>
        </p:nvSpPr>
        <p:spPr>
          <a:xfrm>
            <a:off x="380880" y="43434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иус        окружности в два раза больше диаме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2743200" y="4724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457200" y="4343400"/>
            <a:ext cx="1752480" cy="520560"/>
          </a:xfrm>
          <a:prstGeom prst="rect">
            <a:avLst/>
          </a:prstGeom>
          <a:solidFill>
            <a:srgbClr val="f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иаме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863640" y="5562720"/>
            <a:ext cx="1905120" cy="520560"/>
          </a:xfrm>
          <a:prstGeom prst="rect">
            <a:avLst/>
          </a:prstGeom>
          <a:solidFill>
            <a:srgbClr val="f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ди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Rectangle 2" descr=""/>
          <p:cNvPicPr/>
          <p:nvPr/>
        </p:nvPicPr>
        <p:blipFill>
          <a:blip r:embed="rId1"/>
          <a:stretch/>
        </p:blipFill>
        <p:spPr>
          <a:xfrm>
            <a:off x="566640" y="274680"/>
            <a:ext cx="713268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4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483" name="Freeform 5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6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7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8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0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1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2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13"/>
          <p:cNvGrpSpPr/>
          <p:nvPr/>
        </p:nvGrpSpPr>
        <p:grpSpPr>
          <a:xfrm>
            <a:off x="838080" y="1523880"/>
            <a:ext cx="4267080" cy="4190760"/>
            <a:chOff x="838080" y="1523880"/>
            <a:chExt cx="4267080" cy="4190760"/>
          </a:xfrm>
        </p:grpSpPr>
        <p:sp>
          <p:nvSpPr>
            <p:cNvPr id="492" name="Oval 14"/>
            <p:cNvSpPr/>
            <p:nvPr/>
          </p:nvSpPr>
          <p:spPr>
            <a:xfrm>
              <a:off x="838080" y="1523880"/>
              <a:ext cx="4267080" cy="41907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5"/>
            <p:cNvSpPr/>
            <p:nvPr/>
          </p:nvSpPr>
          <p:spPr>
            <a:xfrm>
              <a:off x="2907000" y="3488400"/>
              <a:ext cx="128880" cy="13104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6"/>
            <p:cNvSpPr/>
            <p:nvPr/>
          </p:nvSpPr>
          <p:spPr>
            <a:xfrm>
              <a:off x="2323080" y="3488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7"/>
          <p:cNvGrpSpPr/>
          <p:nvPr/>
        </p:nvGrpSpPr>
        <p:grpSpPr>
          <a:xfrm>
            <a:off x="2743200" y="1066680"/>
            <a:ext cx="1996920" cy="4650840"/>
            <a:chOff x="2743200" y="1066680"/>
            <a:chExt cx="1996920" cy="4650840"/>
          </a:xfrm>
        </p:grpSpPr>
        <p:sp>
          <p:nvSpPr>
            <p:cNvPr id="496" name="Text Box 18"/>
            <p:cNvSpPr/>
            <p:nvPr/>
          </p:nvSpPr>
          <p:spPr>
            <a:xfrm>
              <a:off x="2743200" y="10666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343400" y="52578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 Box 20"/>
          <p:cNvSpPr/>
          <p:nvPr/>
        </p:nvSpPr>
        <p:spPr>
          <a:xfrm>
            <a:off x="2514600" y="58672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8"/>
          <p:cNvSpPr/>
          <p:nvPr/>
        </p:nvSpPr>
        <p:spPr>
          <a:xfrm>
            <a:off x="2971800" y="1523880"/>
            <a:ext cx="0" cy="4191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29"/>
          <p:cNvSpPr/>
          <p:nvPr/>
        </p:nvSpPr>
        <p:spPr>
          <a:xfrm>
            <a:off x="2895480" y="14479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30"/>
          <p:cNvSpPr/>
          <p:nvPr/>
        </p:nvSpPr>
        <p:spPr>
          <a:xfrm>
            <a:off x="2895480" y="5638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1"/>
          <p:cNvSpPr/>
          <p:nvPr/>
        </p:nvSpPr>
        <p:spPr>
          <a:xfrm>
            <a:off x="2971800" y="3581280"/>
            <a:ext cx="1523880" cy="1524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32"/>
          <p:cNvSpPr/>
          <p:nvPr/>
        </p:nvSpPr>
        <p:spPr>
          <a:xfrm>
            <a:off x="4419720" y="5029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33"/>
          <p:cNvSpPr/>
          <p:nvPr/>
        </p:nvSpPr>
        <p:spPr>
          <a:xfrm>
            <a:off x="2895480" y="34290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34"/>
          <p:cNvSpPr/>
          <p:nvPr/>
        </p:nvSpPr>
        <p:spPr>
          <a:xfrm>
            <a:off x="2971800" y="1523880"/>
            <a:ext cx="1523880" cy="358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507" name="Freeform 5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6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7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8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9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0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2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Овал 2"/>
          <p:cNvSpPr/>
          <p:nvPr/>
        </p:nvSpPr>
        <p:spPr>
          <a:xfrm>
            <a:off x="1295280" y="1219320"/>
            <a:ext cx="1752840" cy="175248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Овал 28"/>
          <p:cNvSpPr/>
          <p:nvPr/>
        </p:nvSpPr>
        <p:spPr>
          <a:xfrm>
            <a:off x="5486400" y="1193760"/>
            <a:ext cx="1752480" cy="175248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Овал 29"/>
          <p:cNvSpPr/>
          <p:nvPr/>
        </p:nvSpPr>
        <p:spPr>
          <a:xfrm>
            <a:off x="1981080" y="3962520"/>
            <a:ext cx="1752840" cy="175248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Овал 30"/>
          <p:cNvSpPr/>
          <p:nvPr/>
        </p:nvSpPr>
        <p:spPr>
          <a:xfrm>
            <a:off x="5562720" y="3949560"/>
            <a:ext cx="1752480" cy="175284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ая соединительная линия 5"/>
          <p:cNvSpPr/>
          <p:nvPr/>
        </p:nvSpPr>
        <p:spPr>
          <a:xfrm flipV="1">
            <a:off x="1295280" y="1447560"/>
            <a:ext cx="990720" cy="106668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ая соединительная линия 9"/>
          <p:cNvSpPr/>
          <p:nvPr/>
        </p:nvSpPr>
        <p:spPr>
          <a:xfrm flipV="1">
            <a:off x="723960" y="1606320"/>
            <a:ext cx="2133720" cy="1587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ая соединительная линия 37"/>
          <p:cNvSpPr/>
          <p:nvPr/>
        </p:nvSpPr>
        <p:spPr>
          <a:xfrm>
            <a:off x="5746680" y="4219560"/>
            <a:ext cx="735120" cy="1120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ая соединительная линия 38"/>
          <p:cNvSpPr/>
          <p:nvPr/>
        </p:nvSpPr>
        <p:spPr>
          <a:xfrm flipV="1">
            <a:off x="5743440" y="1193760"/>
            <a:ext cx="619200" cy="1495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ая соединительная линия 39"/>
          <p:cNvSpPr/>
          <p:nvPr/>
        </p:nvSpPr>
        <p:spPr>
          <a:xfrm>
            <a:off x="723960" y="1765440"/>
            <a:ext cx="2324160" cy="295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ая соединительная линия 43"/>
          <p:cNvSpPr/>
          <p:nvPr/>
        </p:nvSpPr>
        <p:spPr>
          <a:xfrm flipV="1">
            <a:off x="6481800" y="4206960"/>
            <a:ext cx="576360" cy="1133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ая соединительная линия 44"/>
          <p:cNvSpPr/>
          <p:nvPr/>
        </p:nvSpPr>
        <p:spPr>
          <a:xfrm flipV="1">
            <a:off x="2832120" y="4374720"/>
            <a:ext cx="750960" cy="520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ая соединительная линия 45"/>
          <p:cNvSpPr/>
          <p:nvPr/>
        </p:nvSpPr>
        <p:spPr>
          <a:xfrm>
            <a:off x="6350040" y="1219320"/>
            <a:ext cx="631800" cy="146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ая соединительная линия 51"/>
          <p:cNvSpPr/>
          <p:nvPr/>
        </p:nvSpPr>
        <p:spPr>
          <a:xfrm flipV="1">
            <a:off x="2832120" y="4838760"/>
            <a:ext cx="901800" cy="63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22"/>
          <p:cNvSpPr/>
          <p:nvPr/>
        </p:nvSpPr>
        <p:spPr>
          <a:xfrm>
            <a:off x="2548080" y="419040"/>
            <a:ext cx="38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сключить лиш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25"/>
          <p:cNvSpPr/>
          <p:nvPr/>
        </p:nvSpPr>
        <p:spPr>
          <a:xfrm flipH="1" flipV="1">
            <a:off x="2831400" y="4838040"/>
            <a:ext cx="95400" cy="122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51"/>
          <p:cNvGrpSpPr/>
          <p:nvPr/>
        </p:nvGrpSpPr>
        <p:grpSpPr>
          <a:xfrm>
            <a:off x="5519880" y="1676520"/>
            <a:ext cx="2711160" cy="3848760"/>
            <a:chOff x="5519880" y="1676520"/>
            <a:chExt cx="2711160" cy="3848760"/>
          </a:xfrm>
        </p:grpSpPr>
        <p:sp>
          <p:nvSpPr>
            <p:cNvPr id="531" name="Freeform 47"/>
            <p:cNvSpPr/>
            <p:nvPr/>
          </p:nvSpPr>
          <p:spPr>
            <a:xfrm>
              <a:off x="6426360" y="2133360"/>
              <a:ext cx="990360" cy="133344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624" h="840">
                  <a:moveTo>
                    <a:pt x="64" y="632"/>
                  </a:moveTo>
                  <a:lnTo>
                    <a:pt x="336" y="0"/>
                  </a:lnTo>
                  <a:lnTo>
                    <a:pt x="624" y="760"/>
                  </a:lnTo>
                  <a:lnTo>
                    <a:pt x="624" y="744"/>
                  </a:lnTo>
                  <a:lnTo>
                    <a:pt x="416" y="728"/>
                  </a:lnTo>
                  <a:lnTo>
                    <a:pt x="320" y="840"/>
                  </a:lnTo>
                  <a:lnTo>
                    <a:pt x="192" y="824"/>
                  </a:lnTo>
                  <a:lnTo>
                    <a:pt x="16" y="776"/>
                  </a:lnTo>
                  <a:lnTo>
                    <a:pt x="0" y="808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8"/>
            <p:cNvSpPr/>
            <p:nvPr/>
          </p:nvSpPr>
          <p:spPr>
            <a:xfrm>
              <a:off x="5826240" y="2120760"/>
              <a:ext cx="2162160" cy="2887200"/>
            </a:xfrm>
            <a:custGeom>
              <a:avLst/>
              <a:gdLst>
                <a:gd name="textAreaLeft" fmla="*/ 0 w 2162160"/>
                <a:gd name="textAreaRight" fmla="*/ 2162520 w 2162160"/>
                <a:gd name="textAreaTop" fmla="*/ 0 h 2887200"/>
                <a:gd name="textAreaBottom" fmla="*/ 2887560 h 2887200"/>
              </a:gdLst>
              <a:ahLst/>
              <a:rect l="textAreaLeft" t="textAreaTop" r="textAreaRight" b="textAreaBottom"/>
              <a:pathLst>
                <a:path w="1362" h="1819">
                  <a:moveTo>
                    <a:pt x="0" y="1819"/>
                  </a:moveTo>
                  <a:lnTo>
                    <a:pt x="698" y="0"/>
                  </a:lnTo>
                  <a:lnTo>
                    <a:pt x="1362" y="163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43"/>
            <p:cNvSpPr/>
            <p:nvPr/>
          </p:nvSpPr>
          <p:spPr>
            <a:xfrm>
              <a:off x="5519880" y="5065560"/>
              <a:ext cx="2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44"/>
            <p:cNvSpPr/>
            <p:nvPr/>
          </p:nvSpPr>
          <p:spPr>
            <a:xfrm>
              <a:off x="7931160" y="4719600"/>
              <a:ext cx="29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50"/>
            <p:cNvSpPr/>
            <p:nvPr/>
          </p:nvSpPr>
          <p:spPr>
            <a:xfrm>
              <a:off x="6781680" y="1676520"/>
              <a:ext cx="2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49"/>
          <p:cNvGrpSpPr/>
          <p:nvPr/>
        </p:nvGrpSpPr>
        <p:grpSpPr>
          <a:xfrm>
            <a:off x="1023840" y="3324240"/>
            <a:ext cx="2711520" cy="1896480"/>
            <a:chOff x="1023840" y="3324240"/>
            <a:chExt cx="2711520" cy="1896480"/>
          </a:xfrm>
        </p:grpSpPr>
        <p:sp>
          <p:nvSpPr>
            <p:cNvPr id="537" name="Freeform 46"/>
            <p:cNvSpPr/>
            <p:nvPr/>
          </p:nvSpPr>
          <p:spPr>
            <a:xfrm>
              <a:off x="1600200" y="3340080"/>
              <a:ext cx="1447920" cy="11556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155600"/>
                <a:gd name="textAreaBottom" fmla="*/ 1155960 h 1155600"/>
              </a:gdLst>
              <a:ahLst/>
              <a:rect l="textAreaLeft" t="textAreaTop" r="textAreaRight" b="textAreaBottom"/>
              <a:pathLst>
                <a:path w="912" h="728">
                  <a:moveTo>
                    <a:pt x="0" y="584"/>
                  </a:moveTo>
                  <a:lnTo>
                    <a:pt x="400" y="0"/>
                  </a:lnTo>
                  <a:lnTo>
                    <a:pt x="912" y="440"/>
                  </a:lnTo>
                  <a:lnTo>
                    <a:pt x="768" y="584"/>
                  </a:lnTo>
                  <a:lnTo>
                    <a:pt x="480" y="728"/>
                  </a:lnTo>
                  <a:lnTo>
                    <a:pt x="192" y="728"/>
                  </a:lnTo>
                  <a:lnTo>
                    <a:pt x="96" y="632"/>
                  </a:lnTo>
                  <a:lnTo>
                    <a:pt x="0" y="63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0"/>
            <p:cNvSpPr/>
            <p:nvPr/>
          </p:nvSpPr>
          <p:spPr>
            <a:xfrm>
              <a:off x="1330200" y="3324240"/>
              <a:ext cx="2162160" cy="1379520"/>
            </a:xfrm>
            <a:custGeom>
              <a:avLst/>
              <a:gdLst>
                <a:gd name="textAreaLeft" fmla="*/ 0 w 2162160"/>
                <a:gd name="textAreaRight" fmla="*/ 2162520 w 216216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1808" h="1152">
                  <a:moveTo>
                    <a:pt x="0" y="1152"/>
                  </a:moveTo>
                  <a:lnTo>
                    <a:pt x="752" y="0"/>
                  </a:lnTo>
                  <a:lnTo>
                    <a:pt x="1808" y="9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1023840" y="4761000"/>
              <a:ext cx="2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3435480" y="4414680"/>
              <a:ext cx="29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2"/>
          <p:cNvSpPr/>
          <p:nvPr/>
        </p:nvSpPr>
        <p:spPr>
          <a:xfrm>
            <a:off x="762120" y="380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похожи и чем  различаются углы АОВ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3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543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5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6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7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8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9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1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31"/>
          <p:cNvGrpSpPr/>
          <p:nvPr/>
        </p:nvGrpSpPr>
        <p:grpSpPr>
          <a:xfrm>
            <a:off x="609480" y="1828800"/>
            <a:ext cx="3216240" cy="3162240"/>
            <a:chOff x="609480" y="1828800"/>
            <a:chExt cx="3216240" cy="3162240"/>
          </a:xfrm>
        </p:grpSpPr>
        <p:sp>
          <p:nvSpPr>
            <p:cNvPr id="552" name="Oval 13"/>
            <p:cNvSpPr/>
            <p:nvPr/>
          </p:nvSpPr>
          <p:spPr>
            <a:xfrm>
              <a:off x="609480" y="1828800"/>
              <a:ext cx="3216240" cy="3162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14"/>
            <p:cNvSpPr/>
            <p:nvPr/>
          </p:nvSpPr>
          <p:spPr>
            <a:xfrm>
              <a:off x="2168280" y="3311640"/>
              <a:ext cx="97920" cy="97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5"/>
            <p:cNvSpPr/>
            <p:nvPr/>
          </p:nvSpPr>
          <p:spPr>
            <a:xfrm>
              <a:off x="1884960" y="2978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39"/>
          <p:cNvGrpSpPr/>
          <p:nvPr/>
        </p:nvGrpSpPr>
        <p:grpSpPr>
          <a:xfrm>
            <a:off x="5105520" y="2133720"/>
            <a:ext cx="3276360" cy="3162240"/>
            <a:chOff x="5105520" y="2133720"/>
            <a:chExt cx="3276360" cy="3162240"/>
          </a:xfrm>
        </p:grpSpPr>
        <p:sp>
          <p:nvSpPr>
            <p:cNvPr id="556" name="Oval 40"/>
            <p:cNvSpPr/>
            <p:nvPr/>
          </p:nvSpPr>
          <p:spPr>
            <a:xfrm>
              <a:off x="5105520" y="2133720"/>
              <a:ext cx="3276360" cy="3162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41"/>
            <p:cNvSpPr/>
            <p:nvPr/>
          </p:nvSpPr>
          <p:spPr>
            <a:xfrm>
              <a:off x="6693480" y="3616560"/>
              <a:ext cx="99720" cy="97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42"/>
            <p:cNvSpPr/>
            <p:nvPr/>
          </p:nvSpPr>
          <p:spPr>
            <a:xfrm>
              <a:off x="6404400" y="32835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Oval 45"/>
          <p:cNvSpPr/>
          <p:nvPr/>
        </p:nvSpPr>
        <p:spPr>
          <a:xfrm>
            <a:off x="6858000" y="20574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52"/>
          <p:cNvSpPr/>
          <p:nvPr/>
        </p:nvSpPr>
        <p:spPr>
          <a:xfrm>
            <a:off x="2133720" y="32767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2"/>
          <p:cNvSpPr/>
          <p:nvPr/>
        </p:nvSpPr>
        <p:spPr>
          <a:xfrm>
            <a:off x="2971440" y="281160"/>
            <a:ext cx="35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уга окру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27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563" name="Freeform 28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29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0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1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2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3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4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5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39"/>
          <p:cNvGrpSpPr/>
          <p:nvPr/>
        </p:nvGrpSpPr>
        <p:grpSpPr>
          <a:xfrm>
            <a:off x="822240" y="1523880"/>
            <a:ext cx="4267080" cy="4190760"/>
            <a:chOff x="822240" y="1523880"/>
            <a:chExt cx="4267080" cy="4190760"/>
          </a:xfrm>
        </p:grpSpPr>
        <p:sp>
          <p:nvSpPr>
            <p:cNvPr id="572" name="Oval 36"/>
            <p:cNvSpPr/>
            <p:nvPr/>
          </p:nvSpPr>
          <p:spPr>
            <a:xfrm>
              <a:off x="822240" y="1523880"/>
              <a:ext cx="4267080" cy="4190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37"/>
            <p:cNvSpPr/>
            <p:nvPr/>
          </p:nvSpPr>
          <p:spPr>
            <a:xfrm>
              <a:off x="2891160" y="3488400"/>
              <a:ext cx="128880" cy="131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38"/>
            <p:cNvSpPr/>
            <p:nvPr/>
          </p:nvSpPr>
          <p:spPr>
            <a:xfrm>
              <a:off x="2307240" y="3488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66"/>
          <p:cNvGrpSpPr/>
          <p:nvPr/>
        </p:nvGrpSpPr>
        <p:grpSpPr>
          <a:xfrm>
            <a:off x="2727360" y="1066680"/>
            <a:ext cx="1996920" cy="4650840"/>
            <a:chOff x="2727360" y="1066680"/>
            <a:chExt cx="1996920" cy="4650840"/>
          </a:xfrm>
        </p:grpSpPr>
        <p:sp>
          <p:nvSpPr>
            <p:cNvPr id="576" name="Text Box 57"/>
            <p:cNvSpPr/>
            <p:nvPr/>
          </p:nvSpPr>
          <p:spPr>
            <a:xfrm>
              <a:off x="2727360" y="10666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58"/>
            <p:cNvSpPr/>
            <p:nvPr/>
          </p:nvSpPr>
          <p:spPr>
            <a:xfrm>
              <a:off x="4327560" y="52578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8" name="Object 59"/>
              <p:cNvSpPr txBox="1"/>
              <p:nvPr/>
            </p:nvSpPr>
            <p:spPr>
              <a:xfrm>
                <a:off x="5867280" y="1066680"/>
                <a:ext cx="1524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9" name="Text Box 60"/>
          <p:cNvSpPr/>
          <p:nvPr/>
        </p:nvSpPr>
        <p:spPr>
          <a:xfrm>
            <a:off x="4937040" y="25146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61"/>
              <p:cNvSpPr txBox="1"/>
              <p:nvPr/>
            </p:nvSpPr>
            <p:spPr>
              <a:xfrm>
                <a:off x="5722920" y="2057400"/>
                <a:ext cx="1967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М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63"/>
              <p:cNvSpPr txBox="1"/>
              <p:nvPr/>
            </p:nvSpPr>
            <p:spPr>
              <a:xfrm>
                <a:off x="5891040" y="3328920"/>
                <a:ext cx="19177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N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2" name="Group 65"/>
          <p:cNvGrpSpPr/>
          <p:nvPr/>
        </p:nvGrpSpPr>
        <p:grpSpPr>
          <a:xfrm>
            <a:off x="281520" y="1027800"/>
            <a:ext cx="4934160" cy="5106600"/>
            <a:chOff x="281520" y="1027800"/>
            <a:chExt cx="4934160" cy="5106600"/>
          </a:xfrm>
        </p:grpSpPr>
        <p:sp>
          <p:nvSpPr>
            <p:cNvPr id="583" name="Text Box 62"/>
            <p:cNvSpPr/>
            <p:nvPr/>
          </p:nvSpPr>
          <p:spPr>
            <a:xfrm>
              <a:off x="304920" y="350532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rc 64"/>
            <p:cNvSpPr/>
            <p:nvPr/>
          </p:nvSpPr>
          <p:spPr>
            <a:xfrm rot="11919000">
              <a:off x="836280" y="1531440"/>
              <a:ext cx="3824280" cy="4098960"/>
            </a:xfrm>
            <a:custGeom>
              <a:avLst/>
              <a:gdLst>
                <a:gd name="textAreaLeft" fmla="*/ 0 w 3824280"/>
                <a:gd name="textAreaRight" fmla="*/ 3824640 w 3824280"/>
                <a:gd name="textAreaTop" fmla="*/ 0 h 4098960"/>
                <a:gd name="textAreaBottom" fmla="*/ 4099320 h 4098960"/>
              </a:gdLst>
              <a:ahLst/>
              <a:rect l="textAreaLeft" t="textAreaTop" r="textAreaRight" b="textAreaBottom"/>
              <a:pathLst>
                <a:path fill="none" w="39189" h="42096">
                  <a:moveTo>
                    <a:pt x="0" y="9062"/>
                  </a:moveTo>
                  <a:cubicBezTo>
                    <a:pt x="4053" y="3375"/>
                    <a:pt x="10605" y="-1"/>
                    <a:pt x="17589" y="0"/>
                  </a:cubicBezTo>
                  <a:cubicBezTo>
                    <a:pt x="29518" y="0"/>
                    <a:pt x="39189" y="9670"/>
                    <a:pt x="39189" y="21600"/>
                  </a:cubicBezTo>
                  <a:cubicBezTo>
                    <a:pt x="39189" y="30902"/>
                    <a:pt x="33232" y="39160"/>
                    <a:pt x="24405" y="42096"/>
                  </a:cubicBezTo>
                </a:path>
                <a:path stroke="0" w="39189" h="42096">
                  <a:moveTo>
                    <a:pt x="0" y="9062"/>
                  </a:moveTo>
                  <a:cubicBezTo>
                    <a:pt x="4053" y="3375"/>
                    <a:pt x="10605" y="-1"/>
                    <a:pt x="17589" y="0"/>
                  </a:cubicBezTo>
                  <a:cubicBezTo>
                    <a:pt x="29518" y="0"/>
                    <a:pt x="39189" y="9670"/>
                    <a:pt x="39189" y="21600"/>
                  </a:cubicBezTo>
                  <a:cubicBezTo>
                    <a:pt x="39189" y="30902"/>
                    <a:pt x="33232" y="39160"/>
                    <a:pt x="24405" y="42096"/>
                  </a:cubicBezTo>
                  <a:lnTo>
                    <a:pt x="17589" y="21600"/>
                  </a:lnTo>
                  <a:lnTo>
                    <a:pt x="0" y="9062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56"/>
          <p:cNvGrpSpPr/>
          <p:nvPr/>
        </p:nvGrpSpPr>
        <p:grpSpPr>
          <a:xfrm>
            <a:off x="2879640" y="1447920"/>
            <a:ext cx="2209680" cy="3886200"/>
            <a:chOff x="2879640" y="1447920"/>
            <a:chExt cx="2209680" cy="3886200"/>
          </a:xfrm>
        </p:grpSpPr>
        <p:sp>
          <p:nvSpPr>
            <p:cNvPr id="586" name="Arc 53"/>
            <p:cNvSpPr/>
            <p:nvPr/>
          </p:nvSpPr>
          <p:spPr>
            <a:xfrm>
              <a:off x="2955960" y="1524240"/>
              <a:ext cx="2133360" cy="374184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3741840"/>
                <a:gd name="textAreaBottom" fmla="*/ 3741840 h 3741840"/>
              </a:gdLst>
              <a:ahLst/>
              <a:rect l="textAreaLeft" t="textAreaTop" r="textAreaRight" b="textAreaBottom"/>
              <a:pathLst>
                <a:path fill="none" w="21600" h="3856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8217"/>
                    <a:pt x="18566" y="34469"/>
                    <a:pt x="13369" y="38564"/>
                  </a:cubicBezTo>
                </a:path>
                <a:path stroke="0" w="21600" h="3856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8217"/>
                    <a:pt x="18566" y="34469"/>
                    <a:pt x="13369" y="3856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54"/>
            <p:cNvSpPr/>
            <p:nvPr/>
          </p:nvSpPr>
          <p:spPr>
            <a:xfrm>
              <a:off x="2879640" y="14479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55"/>
            <p:cNvSpPr/>
            <p:nvPr/>
          </p:nvSpPr>
          <p:spPr>
            <a:xfrm>
              <a:off x="4174920" y="518184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51"/>
          <p:cNvGrpSpPr/>
          <p:nvPr/>
        </p:nvGrpSpPr>
        <p:grpSpPr>
          <a:xfrm>
            <a:off x="5519880" y="1676520"/>
            <a:ext cx="2711160" cy="3848760"/>
            <a:chOff x="5519880" y="1676520"/>
            <a:chExt cx="2711160" cy="3848760"/>
          </a:xfrm>
        </p:grpSpPr>
        <p:sp>
          <p:nvSpPr>
            <p:cNvPr id="590" name="Freeform 47"/>
            <p:cNvSpPr/>
            <p:nvPr/>
          </p:nvSpPr>
          <p:spPr>
            <a:xfrm>
              <a:off x="6426360" y="2133360"/>
              <a:ext cx="990360" cy="133344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624" h="840">
                  <a:moveTo>
                    <a:pt x="64" y="632"/>
                  </a:moveTo>
                  <a:lnTo>
                    <a:pt x="336" y="0"/>
                  </a:lnTo>
                  <a:lnTo>
                    <a:pt x="624" y="760"/>
                  </a:lnTo>
                  <a:lnTo>
                    <a:pt x="624" y="744"/>
                  </a:lnTo>
                  <a:lnTo>
                    <a:pt x="416" y="728"/>
                  </a:lnTo>
                  <a:lnTo>
                    <a:pt x="320" y="840"/>
                  </a:lnTo>
                  <a:lnTo>
                    <a:pt x="192" y="824"/>
                  </a:lnTo>
                  <a:lnTo>
                    <a:pt x="16" y="776"/>
                  </a:lnTo>
                  <a:lnTo>
                    <a:pt x="0" y="808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38"/>
            <p:cNvSpPr/>
            <p:nvPr/>
          </p:nvSpPr>
          <p:spPr>
            <a:xfrm>
              <a:off x="5826240" y="2120760"/>
              <a:ext cx="2162160" cy="2887200"/>
            </a:xfrm>
            <a:custGeom>
              <a:avLst/>
              <a:gdLst>
                <a:gd name="textAreaLeft" fmla="*/ 0 w 2162160"/>
                <a:gd name="textAreaRight" fmla="*/ 2162520 w 2162160"/>
                <a:gd name="textAreaTop" fmla="*/ 0 h 2887200"/>
                <a:gd name="textAreaBottom" fmla="*/ 2887560 h 2887200"/>
              </a:gdLst>
              <a:ahLst/>
              <a:rect l="textAreaLeft" t="textAreaTop" r="textAreaRight" b="textAreaBottom"/>
              <a:pathLst>
                <a:path w="1362" h="1819">
                  <a:moveTo>
                    <a:pt x="0" y="1819"/>
                  </a:moveTo>
                  <a:lnTo>
                    <a:pt x="698" y="0"/>
                  </a:lnTo>
                  <a:lnTo>
                    <a:pt x="1362" y="163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43"/>
            <p:cNvSpPr/>
            <p:nvPr/>
          </p:nvSpPr>
          <p:spPr>
            <a:xfrm>
              <a:off x="5519880" y="5065560"/>
              <a:ext cx="2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44"/>
            <p:cNvSpPr/>
            <p:nvPr/>
          </p:nvSpPr>
          <p:spPr>
            <a:xfrm>
              <a:off x="7931160" y="4719600"/>
              <a:ext cx="29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50"/>
            <p:cNvSpPr/>
            <p:nvPr/>
          </p:nvSpPr>
          <p:spPr>
            <a:xfrm>
              <a:off x="6781680" y="1676520"/>
              <a:ext cx="2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49"/>
          <p:cNvGrpSpPr/>
          <p:nvPr/>
        </p:nvGrpSpPr>
        <p:grpSpPr>
          <a:xfrm>
            <a:off x="1023840" y="3324240"/>
            <a:ext cx="2711520" cy="1896480"/>
            <a:chOff x="1023840" y="3324240"/>
            <a:chExt cx="2711520" cy="1896480"/>
          </a:xfrm>
        </p:grpSpPr>
        <p:sp>
          <p:nvSpPr>
            <p:cNvPr id="596" name="Freeform 46"/>
            <p:cNvSpPr/>
            <p:nvPr/>
          </p:nvSpPr>
          <p:spPr>
            <a:xfrm>
              <a:off x="1600200" y="3340080"/>
              <a:ext cx="1447920" cy="11556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155600"/>
                <a:gd name="textAreaBottom" fmla="*/ 1155960 h 1155600"/>
              </a:gdLst>
              <a:ahLst/>
              <a:rect l="textAreaLeft" t="textAreaTop" r="textAreaRight" b="textAreaBottom"/>
              <a:pathLst>
                <a:path w="912" h="728">
                  <a:moveTo>
                    <a:pt x="0" y="584"/>
                  </a:moveTo>
                  <a:lnTo>
                    <a:pt x="400" y="0"/>
                  </a:lnTo>
                  <a:lnTo>
                    <a:pt x="912" y="440"/>
                  </a:lnTo>
                  <a:lnTo>
                    <a:pt x="768" y="584"/>
                  </a:lnTo>
                  <a:lnTo>
                    <a:pt x="480" y="728"/>
                  </a:lnTo>
                  <a:lnTo>
                    <a:pt x="192" y="728"/>
                  </a:lnTo>
                  <a:lnTo>
                    <a:pt x="96" y="632"/>
                  </a:lnTo>
                  <a:lnTo>
                    <a:pt x="0" y="63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30"/>
            <p:cNvSpPr/>
            <p:nvPr/>
          </p:nvSpPr>
          <p:spPr>
            <a:xfrm>
              <a:off x="1330200" y="3324240"/>
              <a:ext cx="2162160" cy="1379520"/>
            </a:xfrm>
            <a:custGeom>
              <a:avLst/>
              <a:gdLst>
                <a:gd name="textAreaLeft" fmla="*/ 0 w 2162160"/>
                <a:gd name="textAreaRight" fmla="*/ 2162520 w 216216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1808" h="1152">
                  <a:moveTo>
                    <a:pt x="0" y="1152"/>
                  </a:moveTo>
                  <a:lnTo>
                    <a:pt x="752" y="0"/>
                  </a:lnTo>
                  <a:lnTo>
                    <a:pt x="1808" y="9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17"/>
            <p:cNvSpPr/>
            <p:nvPr/>
          </p:nvSpPr>
          <p:spPr>
            <a:xfrm>
              <a:off x="1023840" y="4761000"/>
              <a:ext cx="2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18"/>
            <p:cNvSpPr/>
            <p:nvPr/>
          </p:nvSpPr>
          <p:spPr>
            <a:xfrm>
              <a:off x="3435480" y="4414680"/>
              <a:ext cx="29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3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601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6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7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8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9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0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1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31"/>
          <p:cNvGrpSpPr/>
          <p:nvPr/>
        </p:nvGrpSpPr>
        <p:grpSpPr>
          <a:xfrm>
            <a:off x="609480" y="1828800"/>
            <a:ext cx="3216240" cy="3162240"/>
            <a:chOff x="609480" y="1828800"/>
            <a:chExt cx="3216240" cy="3162240"/>
          </a:xfrm>
        </p:grpSpPr>
        <p:sp>
          <p:nvSpPr>
            <p:cNvPr id="610" name="Oval 13"/>
            <p:cNvSpPr/>
            <p:nvPr/>
          </p:nvSpPr>
          <p:spPr>
            <a:xfrm>
              <a:off x="609480" y="1828800"/>
              <a:ext cx="3216240" cy="3162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4"/>
            <p:cNvSpPr/>
            <p:nvPr/>
          </p:nvSpPr>
          <p:spPr>
            <a:xfrm>
              <a:off x="2168280" y="3311640"/>
              <a:ext cx="97920" cy="97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15"/>
            <p:cNvSpPr/>
            <p:nvPr/>
          </p:nvSpPr>
          <p:spPr>
            <a:xfrm>
              <a:off x="1884960" y="2978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39"/>
          <p:cNvGrpSpPr/>
          <p:nvPr/>
        </p:nvGrpSpPr>
        <p:grpSpPr>
          <a:xfrm>
            <a:off x="5089680" y="2158920"/>
            <a:ext cx="3276360" cy="3162240"/>
            <a:chOff x="5089680" y="2158920"/>
            <a:chExt cx="3276360" cy="3162240"/>
          </a:xfrm>
        </p:grpSpPr>
        <p:sp>
          <p:nvSpPr>
            <p:cNvPr id="614" name="Oval 40"/>
            <p:cNvSpPr/>
            <p:nvPr/>
          </p:nvSpPr>
          <p:spPr>
            <a:xfrm>
              <a:off x="5089680" y="2158920"/>
              <a:ext cx="3276360" cy="3162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41"/>
            <p:cNvSpPr/>
            <p:nvPr/>
          </p:nvSpPr>
          <p:spPr>
            <a:xfrm>
              <a:off x="6677640" y="3641760"/>
              <a:ext cx="99720" cy="97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42"/>
            <p:cNvSpPr/>
            <p:nvPr/>
          </p:nvSpPr>
          <p:spPr>
            <a:xfrm>
              <a:off x="6388560" y="33087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TextBox 19"/>
          <p:cNvSpPr/>
          <p:nvPr/>
        </p:nvSpPr>
        <p:spPr>
          <a:xfrm>
            <a:off x="625320" y="60336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ОВ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Группа 16"/>
          <p:cNvGrpSpPr/>
          <p:nvPr/>
        </p:nvGrpSpPr>
        <p:grpSpPr>
          <a:xfrm>
            <a:off x="2597040" y="602640"/>
            <a:ext cx="1600200" cy="704160"/>
            <a:chOff x="2597040" y="602640"/>
            <a:chExt cx="1600200" cy="704160"/>
          </a:xfrm>
        </p:grpSpPr>
        <p:sp>
          <p:nvSpPr>
            <p:cNvPr id="619" name="TextBox 17"/>
            <p:cNvSpPr/>
            <p:nvPr/>
          </p:nvSpPr>
          <p:spPr>
            <a:xfrm>
              <a:off x="3037680" y="603360"/>
              <a:ext cx="1159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Дуга 37"/>
            <p:cNvSpPr/>
            <p:nvPr/>
          </p:nvSpPr>
          <p:spPr>
            <a:xfrm flipH="1" flipV="1" rot="16200000">
              <a:off x="2617560" y="581400"/>
              <a:ext cx="399960" cy="441360"/>
            </a:xfrm>
            <a:custGeom>
              <a:avLst/>
              <a:gdLst/>
              <a:ahLst/>
              <a:rect l="l" t="t" r="r" b="b"/>
              <a:pathLst>
                <a:path stroke="0" w="304935" h="1045730">
                  <a:moveTo>
                    <a:pt x="152467" y="0"/>
                  </a:moveTo>
                  <a:cubicBezTo>
                    <a:pt x="227038" y="0"/>
                    <a:pt x="290667" y="184973"/>
                    <a:pt x="302877" y="437250"/>
                  </a:cubicBezTo>
                  <a:cubicBezTo>
                    <a:pt x="305679" y="495146"/>
                    <a:pt x="305619" y="554246"/>
                    <a:pt x="302699" y="612074"/>
                  </a:cubicBezTo>
                  <a:cubicBezTo>
                    <a:pt x="289423" y="875017"/>
                    <a:pt x="220536" y="1061482"/>
                    <a:pt x="142875" y="1044695"/>
                  </a:cubicBezTo>
                  <a:lnTo>
                    <a:pt x="152468" y="522865"/>
                  </a:lnTo>
                  <a:cubicBezTo>
                    <a:pt x="152468" y="348577"/>
                    <a:pt x="152467" y="174288"/>
                    <a:pt x="152467" y="0"/>
                  </a:cubicBezTo>
                  <a:close/>
                </a:path>
                <a:path fill="none" w="304935" h="1045730">
                  <a:moveTo>
                    <a:pt x="152467" y="0"/>
                  </a:moveTo>
                  <a:cubicBezTo>
                    <a:pt x="227038" y="0"/>
                    <a:pt x="290667" y="184973"/>
                    <a:pt x="302877" y="437250"/>
                  </a:cubicBezTo>
                  <a:cubicBezTo>
                    <a:pt x="305679" y="495146"/>
                    <a:pt x="305619" y="554246"/>
                    <a:pt x="302699" y="612074"/>
                  </a:cubicBezTo>
                  <a:cubicBezTo>
                    <a:pt x="289423" y="875017"/>
                    <a:pt x="220536" y="1061482"/>
                    <a:pt x="142875" y="1044695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TextBox 19"/>
          <p:cNvSpPr/>
          <p:nvPr/>
        </p:nvSpPr>
        <p:spPr>
          <a:xfrm>
            <a:off x="4659480" y="892080"/>
            <a:ext cx="35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CE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Группа 16"/>
          <p:cNvGrpSpPr/>
          <p:nvPr/>
        </p:nvGrpSpPr>
        <p:grpSpPr>
          <a:xfrm>
            <a:off x="7280280" y="847080"/>
            <a:ext cx="1601640" cy="704160"/>
            <a:chOff x="7280280" y="847080"/>
            <a:chExt cx="1601640" cy="704160"/>
          </a:xfrm>
        </p:grpSpPr>
        <p:sp>
          <p:nvSpPr>
            <p:cNvPr id="623" name="TextBox 17"/>
            <p:cNvSpPr/>
            <p:nvPr/>
          </p:nvSpPr>
          <p:spPr>
            <a:xfrm>
              <a:off x="7721280" y="847800"/>
              <a:ext cx="1160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Дуга 41"/>
            <p:cNvSpPr/>
            <p:nvPr/>
          </p:nvSpPr>
          <p:spPr>
            <a:xfrm flipH="1" flipV="1" rot="16200000">
              <a:off x="7300800" y="825840"/>
              <a:ext cx="399960" cy="441360"/>
            </a:xfrm>
            <a:custGeom>
              <a:avLst/>
              <a:gdLst/>
              <a:ahLst/>
              <a:rect l="l" t="t" r="r" b="b"/>
              <a:pathLst>
                <a:path stroke="0" w="304876" h="1044693">
                  <a:moveTo>
                    <a:pt x="152438" y="0"/>
                  </a:moveTo>
                  <a:cubicBezTo>
                    <a:pt x="226987" y="0"/>
                    <a:pt x="290599" y="184754"/>
                    <a:pt x="302815" y="436751"/>
                  </a:cubicBezTo>
                  <a:cubicBezTo>
                    <a:pt x="305621" y="494634"/>
                    <a:pt x="305561" y="553722"/>
                    <a:pt x="302637" y="611536"/>
                  </a:cubicBezTo>
                  <a:cubicBezTo>
                    <a:pt x="289355" y="874176"/>
                    <a:pt x="220491" y="1060416"/>
                    <a:pt x="142856" y="1043661"/>
                  </a:cubicBezTo>
                  <a:lnTo>
                    <a:pt x="152438" y="522347"/>
                  </a:lnTo>
                  <a:lnTo>
                    <a:pt x="152438" y="0"/>
                  </a:lnTo>
                  <a:close/>
                </a:path>
                <a:path fill="none" w="304876" h="1044693">
                  <a:moveTo>
                    <a:pt x="152438" y="0"/>
                  </a:moveTo>
                  <a:cubicBezTo>
                    <a:pt x="226987" y="0"/>
                    <a:pt x="290599" y="184754"/>
                    <a:pt x="302815" y="436751"/>
                  </a:cubicBezTo>
                  <a:cubicBezTo>
                    <a:pt x="305621" y="494634"/>
                    <a:pt x="305561" y="553722"/>
                    <a:pt x="302637" y="611536"/>
                  </a:cubicBezTo>
                  <a:cubicBezTo>
                    <a:pt x="289355" y="874176"/>
                    <a:pt x="220491" y="1060416"/>
                    <a:pt x="142856" y="104366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Прямоугольник 3"/>
          <p:cNvSpPr/>
          <p:nvPr/>
        </p:nvSpPr>
        <p:spPr>
          <a:xfrm>
            <a:off x="625320" y="552600"/>
            <a:ext cx="3718080" cy="107316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оугольник 38"/>
          <p:cNvSpPr/>
          <p:nvPr/>
        </p:nvSpPr>
        <p:spPr>
          <a:xfrm>
            <a:off x="4772160" y="603360"/>
            <a:ext cx="3816360" cy="117936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ая соединительная линия 2"/>
          <p:cNvSpPr/>
          <p:nvPr/>
        </p:nvSpPr>
        <p:spPr>
          <a:xfrm flipV="1">
            <a:off x="2217600" y="2120760"/>
            <a:ext cx="830520" cy="123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ая соединительная линия 42"/>
          <p:cNvSpPr/>
          <p:nvPr/>
        </p:nvSpPr>
        <p:spPr>
          <a:xfrm flipV="1">
            <a:off x="625320" y="3360600"/>
            <a:ext cx="1592280" cy="55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25 C 0 -0.181 0.069 -0.25 0.125 -0.25 L 0.25 -0.25 E">
                                      <p:cBhvr>
                                        <p:cTn id="259" dur="2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25 C 0 -0.181 0.069 -0.25 0.125 -0.25 L 0.25 -0.25 E">
                                      <p:cBhvr>
                                        <p:cTn id="263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24-03-09T11:03:07Z</dcterms:modified>
  <cp:revision>2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