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258E-16D7-45BF-A1F7-20311B1F10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2300-E375-4FF2-98D1-FC5D0445F4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DAAF-7875-469F-A25D-A7D29AC6E6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1E69-27E2-4807-82F6-4EDE5DE06D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B7C4-FDC9-4CBE-A19F-8D0138C1C0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DD63-904A-4390-817B-B27C72EA5D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62C9-92B2-4D9E-81E6-7DF8DF84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293940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4555-FE64-43BE-B523-886DE2FB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F57F2-5D0F-419B-A784-1D0C117C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74048-CA95-4695-983B-B4CA7F09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343080"/>
            <a:ext cx="868680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B5649-3336-4262-94C9-E098C8E0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28D5C-CED1-4000-9C9D-CA510A67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646A2-4F7D-4011-BD11-008AEEA6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2E4CB-E272-44B3-8CB6-4CDD196B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293940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5775D-6F6D-4205-A00F-2AFC970D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083AD-D9C9-46B8-8D97-9B0B75AD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034EF-E523-4310-B295-D63AAD04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FB44-10C9-4575-81DC-A7628CC03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313E-54E7-44AD-A07B-B62760860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EA47-8AB8-46ED-A91C-960F9840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A8A5-A7CB-48AD-AE90-80AE3C17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0EAF-232E-4570-9D68-64C2ABB2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F753-A593-4B67-BA8D-414BCF13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FAF8-9A34-4187-859E-DFB93E1A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343080"/>
            <a:ext cx="868680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8CBD-12F4-4C33-8468-48F2B6BF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4A66-B31B-4DE4-A05C-572540FB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1BF9-AEBD-48D2-9F3B-5D54BB91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985C-02CB-4113-8D02-F378F4FD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499B-B6C2-4B0E-A85B-8622AC19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293940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E481-005B-4B8E-B3E2-3E102C1E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9410-3888-468A-8B43-E1390501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F2CC-8066-4912-92D9-4A93A93B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35F8F-D0E9-472A-A7C6-A6E9DCB9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F1BD8-0D1B-4A52-BC4B-209936C3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A1ED9-2C5A-4E8D-B3B5-EB165329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FC96A-D888-40B5-9F0E-129F4F14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F79CE-52F0-4281-BF5D-73995D3C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C5A4-7D39-44D9-8D60-36DB1DCD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343080"/>
            <a:ext cx="868680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40FEF-AA2A-4CD1-A71E-AA39E636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70E25-02A8-4421-B607-1DB3F731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A8612-EEEA-471B-B045-22523881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CF373-746B-45AA-AF95-FD1B2057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293940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2C194-19A8-4863-B287-9ECAECD6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92AB2-0ACB-4300-AD42-2D42B8BD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0D3B4-0759-46EE-BB06-1148224C7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EB2E2-FE33-4C8B-8557-9E9C33541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42337-8CF7-4F59-9FF0-8BA10848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0F83B-820A-4F3E-AE62-58B2033F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3171-CE90-4AB1-8F33-7B561D45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121E9-8DA2-4E27-8382-504F5A4A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AFCA3-CE74-456E-B185-1DDD6B27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343080"/>
            <a:ext cx="868680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10D1A-D0AA-4072-95C7-B5920B5E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D847D-6597-4445-A8BE-DDA058AA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6CCE4-73F5-4BDA-B045-86986B57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D85DF-8C96-41DD-8682-7C645F27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293940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36A80-9023-4456-8734-0A6BEBCD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0D938-FAD3-44AB-9A91-3734DFB00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C022F-5F63-4F75-8E05-C61CEFD4A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B254A-9EA2-49B8-AA55-57AB7E21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BAB6-7EA8-44F2-94ED-76A76940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A47B9-8DA3-4347-AB98-16D6C36B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64DAF-4B00-49DA-BF22-86BFE92A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B7768-FEB7-4D17-A7E3-2C41A01C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9C287-14BE-453A-B256-1F623531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343080"/>
            <a:ext cx="868680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20805-0F10-469C-989D-4D48216B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DDB07-F4ED-4181-B5CA-0C23F250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EF54E-D4DD-4D89-8A3F-2CC6B335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F22CD-862B-4955-A607-621872AD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293940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9119B-5C2F-4647-A62D-C06945BA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AC25B-C2F6-4F2E-A2B2-3E7B3D92E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343080"/>
            <a:ext cx="868680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2E71-D21F-4C78-9006-1A71095B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132F1-9C8F-4506-8DF9-90265B39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5B92D-6556-4A07-B571-2E7B44E7D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24B08-A48F-4BA3-B6FA-B3096039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ED2B6-88B3-4A25-A104-1A1ED61F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46037-EF07-4C2B-B2DF-492115DD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F9A08-18DA-46FC-9C50-A6A95FBA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343080"/>
            <a:ext cx="868680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97B0F-9E45-4146-9F98-733C7D9A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4C795-D578-4FC1-A7BA-1DAAAAD8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BF4AB-8F96-49F2-A637-7F861F2D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98FC2-E462-41B3-93C0-E69C2D71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D15E-3CC5-4B72-80D3-6BFB9726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293940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12EF4-7780-4D9C-8576-5143B51C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76D69-C7BE-4352-8FAC-B0DFFBA2C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4585B-B437-4C06-BEB7-CE5B962F2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9564A-AF54-4EB3-99C2-033E7890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55453-F35C-40C4-B5F8-05CAD530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44544-1EF2-4BEA-AE51-68581AD6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82E48-667B-4BC8-8F03-9410CFB0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F913C-32D3-43AC-B59C-CF219181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343080"/>
            <a:ext cx="868680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59C80-5116-49DF-98E8-B67E36A9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3FF95-1366-47B7-A2DF-1AC4A322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E4E9-A80E-4803-B1B8-B4ACA0E3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F432C-F7F2-4247-87EF-BEE2D0E4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B47F3-6339-4046-B86E-E660AD4F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293940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A6727-0657-4F9A-AF48-3531B2C8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601B4-21B5-48A8-8F8E-53522AC61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7738E-65DF-49B6-AD89-B4959E93D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9778A-1A61-4502-B1A0-5C7ECEAF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61101-CAC5-4CD2-82E8-EEDDB652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5BC3B-4137-4BC3-B6AA-B49ADB9D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C3995-86AA-4B35-B83B-B69727F6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645B5-8654-46B5-B4DF-BB72056F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7F14-0995-4E6B-876B-643E8439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343080"/>
            <a:ext cx="868680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425C3-B1FB-4B24-934A-8C9EF748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693B5-CE98-4B32-A60A-831D7252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83CFF-3C63-445A-9DCC-BAD43F8D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0C6C2-BB7B-4FA9-96BE-A812A677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293940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B8DE7-F123-41FE-B911-90EE3E7B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EFFF2-2FB2-42FE-908D-9C4459652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98606-3C70-431C-A80F-9F380BB9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5B72D-F4FE-4729-BFDF-9F3C5F207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6150C-2C98-44AA-805B-568AD20D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F9E76-0B29-4BB2-8530-F7FACACF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774720"/>
            <a:ext cx="8643960" cy="30240"/>
            <a:chOff x="506520" y="774720"/>
            <a:chExt cx="8643960" cy="302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774720"/>
              <a:ext cx="8643960" cy="3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78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9120" indent="-2343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37080" indent="-187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311840" indent="-187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86960" indent="-1872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57240"/>
            <a:ext cx="251460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4857480"/>
            <a:ext cx="76212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BEEA-1624-4A29-86A3-10CFBB990DB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343080"/>
            <a:ext cx="86868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774720"/>
            <a:ext cx="8643960" cy="30240"/>
            <a:chOff x="506520" y="774720"/>
            <a:chExt cx="8643960" cy="302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774720"/>
              <a:ext cx="8643960" cy="3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78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781200"/>
            <a:ext cx="8643960" cy="23760"/>
            <a:chOff x="506520" y="781200"/>
            <a:chExt cx="8643960" cy="237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78120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7938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3998880"/>
            <a:ext cx="8643960" cy="23760"/>
            <a:chOff x="506520" y="399888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99888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4013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9120" indent="-2343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37080" indent="-187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311840" indent="-187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86960" indent="-1872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343080"/>
            <a:ext cx="86868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57240"/>
            <a:ext cx="251460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4856040"/>
            <a:ext cx="75888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B482-6974-420F-9833-1466116B366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774720"/>
            <a:ext cx="8643960" cy="30240"/>
            <a:chOff x="506520" y="774720"/>
            <a:chExt cx="8643960" cy="302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774720"/>
              <a:ext cx="8643960" cy="3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78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774720"/>
            <a:ext cx="8643960" cy="30240"/>
            <a:chOff x="506520" y="774720"/>
            <a:chExt cx="8643960" cy="302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774720"/>
              <a:ext cx="8643960" cy="3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78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781200"/>
            <a:ext cx="8643960" cy="23760"/>
            <a:chOff x="506520" y="781200"/>
            <a:chExt cx="8643960" cy="237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78120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7938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9120" indent="-2343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37080" indent="-187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311840" indent="-187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86960" indent="-1872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343080"/>
            <a:ext cx="86868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57240"/>
            <a:ext cx="251460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57240"/>
            <a:ext cx="28958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4856040"/>
            <a:ext cx="75888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BC16-2C1A-4ECD-B990-552CF977324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2571840"/>
            <a:ext cx="8643960" cy="25200"/>
            <a:chOff x="506520" y="2571840"/>
            <a:chExt cx="8643960" cy="2520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2571840"/>
              <a:ext cx="8643960" cy="2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25844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609120" indent="-2343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937080" indent="-187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311840" indent="-187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1686960" indent="-1872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343080"/>
            <a:ext cx="86868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57240"/>
            <a:ext cx="251460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4857480"/>
            <a:ext cx="76212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1287-9B32-42D2-A0F5-8481FE2A65F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4505400"/>
            <a:ext cx="8643960" cy="23760"/>
            <a:chOff x="506520" y="4505400"/>
            <a:chExt cx="8643960" cy="237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450540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4514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9120" indent="-2343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37080" indent="-187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311840" indent="-187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86960" indent="-1872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343080"/>
            <a:ext cx="86868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57240"/>
            <a:ext cx="251460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4857840"/>
            <a:ext cx="7621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B2C7-ACCD-456B-9191-ADDE2710A76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9120" indent="-2343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37080" indent="-187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311840" indent="-187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86960" indent="-1872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343080"/>
            <a:ext cx="86868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57240"/>
            <a:ext cx="251460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4857480"/>
            <a:ext cx="76212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4957-8783-46F2-8252-CECCDC6B8B4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4376880"/>
            <a:ext cx="8643960" cy="23760"/>
            <a:chOff x="506520" y="4376880"/>
            <a:chExt cx="8643960" cy="237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437688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4386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9120" indent="-2343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37080" indent="-187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311840" indent="-187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86960" indent="-1872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343080"/>
            <a:ext cx="86868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57240"/>
            <a:ext cx="251460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4857480"/>
            <a:ext cx="76212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6FB9-16A9-4948-896B-262568C91C7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9120" indent="-2343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37080" indent="-187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311840" indent="-187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86960" indent="-1872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343080"/>
            <a:ext cx="86868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57240"/>
            <a:ext cx="251460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4857480"/>
            <a:ext cx="76212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4DD2-2431-4804-A1A5-7860B92FF91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9120" indent="-2343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37080" indent="-187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311840" indent="-187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86960" indent="-1872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343080"/>
            <a:ext cx="86868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57240"/>
            <a:ext cx="251460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4857480"/>
            <a:ext cx="76212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CEB7-F440-4AE7-B5EC-803BBF0EFC4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3"/>
          <p:cNvGrpSpPr/>
          <p:nvPr/>
        </p:nvGrpSpPr>
        <p:grpSpPr>
          <a:xfrm>
            <a:off x="76320" y="114480"/>
            <a:ext cx="8991000" cy="4886280"/>
            <a:chOff x="76320" y="114480"/>
            <a:chExt cx="8991000" cy="4886280"/>
          </a:xfrm>
        </p:grpSpPr>
        <p:sp>
          <p:nvSpPr>
            <p:cNvPr id="407" name="Freeform 4"/>
            <p:cNvSpPr/>
            <p:nvPr/>
          </p:nvSpPr>
          <p:spPr>
            <a:xfrm>
              <a:off x="541800" y="134280"/>
              <a:ext cx="8086320" cy="108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5"/>
            <p:cNvSpPr/>
            <p:nvPr/>
          </p:nvSpPr>
          <p:spPr>
            <a:xfrm>
              <a:off x="581400" y="4990680"/>
              <a:ext cx="8060400" cy="108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6"/>
            <p:cNvSpPr/>
            <p:nvPr/>
          </p:nvSpPr>
          <p:spPr>
            <a:xfrm>
              <a:off x="9027360" y="452880"/>
              <a:ext cx="1440" cy="41994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199400"/>
                <a:gd name="textAreaBottom" fmla="*/ 4199760 h 419940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7"/>
            <p:cNvSpPr/>
            <p:nvPr/>
          </p:nvSpPr>
          <p:spPr>
            <a:xfrm>
              <a:off x="129240" y="452880"/>
              <a:ext cx="26640" cy="41994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199400"/>
                <a:gd name="textAreaBottom" fmla="*/ 4199760 h 419940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8"/>
            <p:cNvSpPr/>
            <p:nvPr/>
          </p:nvSpPr>
          <p:spPr>
            <a:xfrm>
              <a:off x="129240" y="4642560"/>
              <a:ext cx="451800" cy="35820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358200"/>
                <a:gd name="textAreaBottom" fmla="*/ 358560 h 35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9"/>
            <p:cNvSpPr/>
            <p:nvPr/>
          </p:nvSpPr>
          <p:spPr>
            <a:xfrm flipH="1">
              <a:off x="8615160" y="4632120"/>
              <a:ext cx="452160" cy="35820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358200"/>
                <a:gd name="textAreaBottom" fmla="*/ 358560 h 35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0"/>
            <p:cNvSpPr/>
            <p:nvPr/>
          </p:nvSpPr>
          <p:spPr>
            <a:xfrm flipH="1" rot="16200000">
              <a:off x="8658720" y="44280"/>
              <a:ext cx="338400" cy="478800"/>
            </a:xfrm>
            <a:custGeom>
              <a:avLst/>
              <a:gdLst>
                <a:gd name="textAreaLeft" fmla="*/ 360 w 338400"/>
                <a:gd name="textAreaRight" fmla="*/ 339120 w 338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1"/>
            <p:cNvSpPr/>
            <p:nvPr/>
          </p:nvSpPr>
          <p:spPr>
            <a:xfrm rot="5400000">
              <a:off x="146520" y="43920"/>
              <a:ext cx="338400" cy="47880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5" name="WordArt 22" descr=""/>
          <p:cNvPicPr/>
          <p:nvPr/>
        </p:nvPicPr>
        <p:blipFill>
          <a:blip r:embed="rId1"/>
          <a:stretch/>
        </p:blipFill>
        <p:spPr>
          <a:xfrm>
            <a:off x="749160" y="1017720"/>
            <a:ext cx="7724880" cy="1738080"/>
          </a:xfrm>
          <a:prstGeom prst="rect">
            <a:avLst/>
          </a:prstGeom>
          <a:ln w="0">
            <a:noFill/>
          </a:ln>
        </p:spPr>
      </p:pic>
      <p:pic>
        <p:nvPicPr>
          <p:cNvPr id="416" name="WordArt 24" descr=""/>
          <p:cNvPicPr/>
          <p:nvPr/>
        </p:nvPicPr>
        <p:blipFill>
          <a:blip r:embed="rId2"/>
          <a:stretch/>
        </p:blipFill>
        <p:spPr>
          <a:xfrm>
            <a:off x="378000" y="3309840"/>
            <a:ext cx="8253360" cy="9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Заголовок 1" descr=""/>
          <p:cNvPicPr/>
          <p:nvPr/>
        </p:nvPicPr>
        <p:blipFill>
          <a:blip r:embed="rId1"/>
          <a:stretch/>
        </p:blipFill>
        <p:spPr>
          <a:xfrm>
            <a:off x="701640" y="96840"/>
            <a:ext cx="7491600" cy="1141560"/>
          </a:xfrm>
          <a:prstGeom prst="rect">
            <a:avLst/>
          </a:prstGeom>
          <a:ln w="0">
            <a:noFill/>
          </a:ln>
        </p:spPr>
      </p:pic>
      <p:sp>
        <p:nvSpPr>
          <p:cNvPr id="630" name="TextBox 2"/>
          <p:cNvSpPr/>
          <p:nvPr/>
        </p:nvSpPr>
        <p:spPr>
          <a:xfrm>
            <a:off x="1292400" y="971640"/>
            <a:ext cx="6251400" cy="1191240"/>
          </a:xfrm>
          <a:prstGeom prst="rect">
            <a:avLst/>
          </a:prstGeom>
          <a:solidFill>
            <a:srgbClr val="ffffff"/>
          </a:solidFill>
          <a:ln w="50760">
            <a:solidFill>
              <a:srgbClr val="033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ол, вписанный в окружность, равен половине соответствующего ему центрального уг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Овал 4"/>
          <p:cNvSpPr/>
          <p:nvPr/>
        </p:nvSpPr>
        <p:spPr>
          <a:xfrm>
            <a:off x="3143160" y="2678040"/>
            <a:ext cx="2857680" cy="2143080"/>
          </a:xfrm>
          <a:prstGeom prst="ellipse">
            <a:avLst/>
          </a:prstGeom>
          <a:noFill/>
          <a:ln w="50760">
            <a:solidFill>
              <a:srgbClr val="033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Группа 16"/>
          <p:cNvGrpSpPr/>
          <p:nvPr/>
        </p:nvGrpSpPr>
        <p:grpSpPr>
          <a:xfrm>
            <a:off x="3143160" y="3106800"/>
            <a:ext cx="2643120" cy="1285200"/>
            <a:chOff x="3143160" y="3106800"/>
            <a:chExt cx="2643120" cy="1285200"/>
          </a:xfrm>
        </p:grpSpPr>
        <p:grpSp>
          <p:nvGrpSpPr>
            <p:cNvPr id="633" name="Группа 5"/>
            <p:cNvGrpSpPr/>
            <p:nvPr/>
          </p:nvGrpSpPr>
          <p:grpSpPr>
            <a:xfrm>
              <a:off x="3143160" y="3106800"/>
              <a:ext cx="2643120" cy="1285200"/>
              <a:chOff x="3143160" y="3106800"/>
              <a:chExt cx="2643120" cy="1285200"/>
            </a:xfrm>
          </p:grpSpPr>
          <p:sp>
            <p:nvSpPr>
              <p:cNvPr id="634" name="Прямая соединительная линия 6"/>
              <p:cNvSpPr/>
              <p:nvPr/>
            </p:nvSpPr>
            <p:spPr>
              <a:xfrm flipH="1">
                <a:off x="3143160" y="3106800"/>
                <a:ext cx="2643120" cy="6026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Прямая соединительная линия 7"/>
              <p:cNvSpPr/>
              <p:nvPr/>
            </p:nvSpPr>
            <p:spPr>
              <a:xfrm>
                <a:off x="3143160" y="3706200"/>
                <a:ext cx="2571840" cy="6858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6" name="Дуга 8"/>
            <p:cNvSpPr/>
            <p:nvPr/>
          </p:nvSpPr>
          <p:spPr>
            <a:xfrm rot="5091600">
              <a:off x="3580920" y="3556800"/>
              <a:ext cx="353520" cy="331560"/>
            </a:xfrm>
            <a:custGeom>
              <a:avLst/>
              <a:gdLst>
                <a:gd name="textAreaLeft" fmla="*/ 1080 w 353520"/>
                <a:gd name="textAreaRight" fmla="*/ 349200 w 353520"/>
                <a:gd name="textAreaTop" fmla="*/ 0 h 331560"/>
                <a:gd name="textAreaBottom" fmla="*/ 146160 h 331560"/>
              </a:gdLst>
              <a:ahLst/>
              <a:rect l="textAreaLeft" t="textAreaTop" r="textAreaRight" b="textAreaBottom"/>
              <a:pathLst>
                <a:path stroke="0" w="471489" h="331791">
                  <a:moveTo>
                    <a:pt x="1626" y="146447"/>
                  </a:moveTo>
                  <a:lnTo>
                    <a:pt x="1626" y="146447"/>
                  </a:lnTo>
                  <a:arcTo wR="235745" hR="165896" stAng="-10515070" swAng="9968035"/>
                  <a:lnTo>
                    <a:pt x="235745" y="165896"/>
                  </a:lnTo>
                  <a:close/>
                </a:path>
                <a:path fill="none" w="471489" h="331791">
                  <a:moveTo>
                    <a:pt x="1626" y="146447"/>
                  </a:moveTo>
                  <a:lnTo>
                    <a:pt x="1626" y="146447"/>
                  </a:lnTo>
                  <a:arcTo wR="235745" hR="165896" stAng="-10515070" swAng="9968035"/>
                </a:path>
              </a:pathLst>
            </a:custGeom>
            <a:noFill/>
            <a:ln w="507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Дуга 13"/>
          <p:cNvSpPr/>
          <p:nvPr/>
        </p:nvSpPr>
        <p:spPr>
          <a:xfrm rot="5400000">
            <a:off x="4517640" y="3071520"/>
            <a:ext cx="1608120" cy="1357560"/>
          </a:xfrm>
          <a:custGeom>
            <a:avLst/>
            <a:gdLst>
              <a:gd name="textAreaLeft" fmla="*/ 101520 w 1608120"/>
              <a:gd name="textAreaRight" fmla="*/ 1505880 w 1608120"/>
              <a:gd name="textAreaTop" fmla="*/ 0 h 1357560"/>
              <a:gd name="textAreaBottom" fmla="*/ 348480 h 1357560"/>
            </a:gdLst>
            <a:ahLst/>
            <a:rect l="textAreaLeft" t="textAreaTop" r="textAreaRight" b="textAreaBottom"/>
            <a:pathLst>
              <a:path stroke="0" w="1607344" h="1357312">
                <a:moveTo>
                  <a:pt x="101516" y="348495"/>
                </a:moveTo>
                <a:lnTo>
                  <a:pt x="101516" y="348495"/>
                </a:lnTo>
                <a:arcTo wR="803672" hR="678656" stAng="-9288996" swAng="7772125"/>
                <a:lnTo>
                  <a:pt x="803672" y="678656"/>
                </a:lnTo>
                <a:close/>
              </a:path>
              <a:path fill="none" w="1607344" h="1357312">
                <a:moveTo>
                  <a:pt x="101516" y="348495"/>
                </a:moveTo>
                <a:lnTo>
                  <a:pt x="101516" y="348495"/>
                </a:lnTo>
                <a:arcTo wR="803672" hR="678656" stAng="-9288996" swAng="7772125"/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Группа 17"/>
          <p:cNvGrpSpPr/>
          <p:nvPr/>
        </p:nvGrpSpPr>
        <p:grpSpPr>
          <a:xfrm>
            <a:off x="4500000" y="3106800"/>
            <a:ext cx="1214640" cy="1285200"/>
            <a:chOff x="4500000" y="3106800"/>
            <a:chExt cx="1214640" cy="1285200"/>
          </a:xfrm>
        </p:grpSpPr>
        <p:grpSp>
          <p:nvGrpSpPr>
            <p:cNvPr id="639" name="Группа 9"/>
            <p:cNvGrpSpPr/>
            <p:nvPr/>
          </p:nvGrpSpPr>
          <p:grpSpPr>
            <a:xfrm>
              <a:off x="4500000" y="3106800"/>
              <a:ext cx="1214640" cy="1285200"/>
              <a:chOff x="4500000" y="3106800"/>
              <a:chExt cx="1214640" cy="1285200"/>
            </a:xfrm>
          </p:grpSpPr>
          <p:sp>
            <p:nvSpPr>
              <p:cNvPr id="640" name="Прямая соединительная линия 10"/>
              <p:cNvSpPr/>
              <p:nvPr/>
            </p:nvSpPr>
            <p:spPr>
              <a:xfrm flipH="1">
                <a:off x="4500360" y="3106800"/>
                <a:ext cx="1214280" cy="6300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Прямая соединительная линия 11"/>
              <p:cNvSpPr/>
              <p:nvPr/>
            </p:nvSpPr>
            <p:spPr>
              <a:xfrm>
                <a:off x="4500000" y="3733560"/>
                <a:ext cx="1214280" cy="6584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2" name="Группа 15"/>
            <p:cNvGrpSpPr/>
            <p:nvPr/>
          </p:nvGrpSpPr>
          <p:grpSpPr>
            <a:xfrm>
              <a:off x="4632120" y="3509640"/>
              <a:ext cx="461160" cy="501120"/>
              <a:chOff x="4632120" y="3509640"/>
              <a:chExt cx="461160" cy="501120"/>
            </a:xfrm>
          </p:grpSpPr>
          <p:sp>
            <p:nvSpPr>
              <p:cNvPr id="643" name="Дуга 12"/>
              <p:cNvSpPr/>
              <p:nvPr/>
            </p:nvSpPr>
            <p:spPr>
              <a:xfrm rot="5091600">
                <a:off x="4624560" y="3601800"/>
                <a:ext cx="340920" cy="296640"/>
              </a:xfrm>
              <a:custGeom>
                <a:avLst/>
                <a:gdLst>
                  <a:gd name="textAreaLeft" fmla="*/ 1080 w 340920"/>
                  <a:gd name="textAreaRight" fmla="*/ 336600 w 340920"/>
                  <a:gd name="textAreaTop" fmla="*/ 0 h 296640"/>
                  <a:gd name="textAreaBottom" fmla="*/ 130680 h 296640"/>
                </a:gdLst>
                <a:ahLst/>
                <a:rect l="textAreaLeft" t="textAreaTop" r="textAreaRight" b="textAreaBottom"/>
                <a:pathLst>
                  <a:path stroke="0" w="474599" h="331790">
                    <a:moveTo>
                      <a:pt x="1658" y="146320"/>
                    </a:moveTo>
                    <a:lnTo>
                      <a:pt x="1658" y="146320"/>
                    </a:lnTo>
                    <a:arcTo wR="237300" hR="165895" stAng="-10515077" swAng="9968046"/>
                    <a:lnTo>
                      <a:pt x="237300" y="165895"/>
                    </a:lnTo>
                    <a:close/>
                  </a:path>
                  <a:path fill="none" w="474599" h="331790">
                    <a:moveTo>
                      <a:pt x="1658" y="146320"/>
                    </a:moveTo>
                    <a:lnTo>
                      <a:pt x="1658" y="146320"/>
                    </a:lnTo>
                    <a:arcTo wR="237300" hR="165895" stAng="-10515077" swAng="9968046"/>
                  </a:path>
                </a:pathLst>
              </a:custGeom>
              <a:noFill/>
              <a:ln w="507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Дуга 14"/>
              <p:cNvSpPr/>
              <p:nvPr/>
            </p:nvSpPr>
            <p:spPr>
              <a:xfrm rot="5091600">
                <a:off x="4631040" y="3550680"/>
                <a:ext cx="465480" cy="418680"/>
              </a:xfrm>
              <a:custGeom>
                <a:avLst/>
                <a:gdLst>
                  <a:gd name="textAreaLeft" fmla="*/ 1440 w 465480"/>
                  <a:gd name="textAreaRight" fmla="*/ 460080 w 465480"/>
                  <a:gd name="textAreaTop" fmla="*/ 0 h 418680"/>
                  <a:gd name="textAreaBottom" fmla="*/ 185400 h 418680"/>
                </a:gdLst>
                <a:ahLst/>
                <a:rect l="textAreaLeft" t="textAreaTop" r="textAreaRight" b="textAreaBottom"/>
                <a:pathLst>
                  <a:path stroke="0" w="648234" h="468410">
                    <a:moveTo>
                      <a:pt x="2121" y="207456"/>
                    </a:moveTo>
                    <a:lnTo>
                      <a:pt x="2121" y="207456"/>
                    </a:lnTo>
                    <a:arcTo wR="324117" hR="234205" stAng="-10515072" swAng="9968038"/>
                    <a:lnTo>
                      <a:pt x="324117" y="234205"/>
                    </a:lnTo>
                    <a:close/>
                  </a:path>
                  <a:path fill="none" w="648234" h="468410">
                    <a:moveTo>
                      <a:pt x="2121" y="207456"/>
                    </a:moveTo>
                    <a:lnTo>
                      <a:pt x="2121" y="207456"/>
                    </a:lnTo>
                    <a:arcTo wR="324117" hR="234205" stAng="-10515072" swAng="9968038"/>
                  </a:path>
                </a:pathLst>
              </a:custGeom>
              <a:noFill/>
              <a:ln w="507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5" name="TextBox 18"/>
          <p:cNvSpPr/>
          <p:nvPr/>
        </p:nvSpPr>
        <p:spPr>
          <a:xfrm>
            <a:off x="2643120" y="3483000"/>
            <a:ext cx="35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19"/>
          <p:cNvSpPr/>
          <p:nvPr/>
        </p:nvSpPr>
        <p:spPr>
          <a:xfrm>
            <a:off x="5796000" y="273384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20"/>
          <p:cNvSpPr/>
          <p:nvPr/>
        </p:nvSpPr>
        <p:spPr>
          <a:xfrm>
            <a:off x="5715000" y="4286160"/>
            <a:ext cx="8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21"/>
          <p:cNvSpPr/>
          <p:nvPr/>
        </p:nvSpPr>
        <p:spPr>
          <a:xfrm>
            <a:off x="4795920" y="3494160"/>
            <a:ext cx="459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Овал 27"/>
          <p:cNvSpPr/>
          <p:nvPr/>
        </p:nvSpPr>
        <p:spPr>
          <a:xfrm flipH="1">
            <a:off x="4428360" y="3697200"/>
            <a:ext cx="142920" cy="10656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Дуга 1"/>
          <p:cNvSpPr/>
          <p:nvPr/>
        </p:nvSpPr>
        <p:spPr>
          <a:xfrm>
            <a:off x="324000" y="2841480"/>
            <a:ext cx="914400" cy="6858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685800"/>
              <a:gd name="textAreaBottom" fmla="*/ 343080 h 685800"/>
            </a:gdLst>
            <a:ahLst/>
            <a:rect l="textAreaLeft" t="textAreaTop" r="textAreaRight" b="textAreaBottom"/>
            <a:pathLst>
              <a:path stroke="0" w="914400" h="685800">
                <a:moveTo>
                  <a:pt x="457200" y="0"/>
                </a:moveTo>
                <a:lnTo>
                  <a:pt x="457200" y="0"/>
                </a:lnTo>
                <a:arcTo wR="457200" hR="342900" stAng="-5400000" swAng="5400008"/>
                <a:lnTo>
                  <a:pt x="457200" y="342900"/>
                </a:lnTo>
                <a:close/>
              </a:path>
              <a:path fill="none" w="914400" h="685800">
                <a:moveTo>
                  <a:pt x="457200" y="0"/>
                </a:moveTo>
                <a:lnTo>
                  <a:pt x="457200" y="0"/>
                </a:lnTo>
                <a:arcTo wR="457200" hR="342900" stAng="-5400000" swAng="5400008"/>
              </a:path>
            </a:pathLst>
          </a:custGeom>
          <a:noFill/>
          <a:ln w="10080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Прямоугольник 3"/>
          <p:cNvSpPr/>
          <p:nvPr/>
        </p:nvSpPr>
        <p:spPr>
          <a:xfrm>
            <a:off x="1238400" y="857160"/>
            <a:ext cx="6457680" cy="101448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0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Заголовок 1" descr=""/>
          <p:cNvPicPr/>
          <p:nvPr/>
        </p:nvPicPr>
        <p:blipFill>
          <a:blip r:embed="rId1"/>
          <a:stretch/>
        </p:blipFill>
        <p:spPr>
          <a:xfrm>
            <a:off x="-182520" y="96840"/>
            <a:ext cx="7656480" cy="1092240"/>
          </a:xfrm>
          <a:prstGeom prst="rect">
            <a:avLst/>
          </a:prstGeom>
          <a:ln w="0">
            <a:noFill/>
          </a:ln>
        </p:spPr>
      </p:pic>
      <p:sp>
        <p:nvSpPr>
          <p:cNvPr id="653" name="Овал 3"/>
          <p:cNvSpPr/>
          <p:nvPr/>
        </p:nvSpPr>
        <p:spPr>
          <a:xfrm>
            <a:off x="1857240" y="1125360"/>
            <a:ext cx="4659480" cy="349920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Прямая соединительная линия 4"/>
          <p:cNvSpPr/>
          <p:nvPr/>
        </p:nvSpPr>
        <p:spPr>
          <a:xfrm flipH="1">
            <a:off x="4286160" y="1982880"/>
            <a:ext cx="1919520" cy="977760"/>
          </a:xfrm>
          <a:prstGeom prst="line">
            <a:avLst/>
          </a:prstGeom>
          <a:ln w="50760">
            <a:solidFill>
              <a:srgbClr val="033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Прямая соединительная линия 6"/>
          <p:cNvSpPr/>
          <p:nvPr/>
        </p:nvSpPr>
        <p:spPr>
          <a:xfrm flipH="1" flipV="1">
            <a:off x="4284720" y="3003120"/>
            <a:ext cx="71280" cy="1567080"/>
          </a:xfrm>
          <a:prstGeom prst="line">
            <a:avLst/>
          </a:prstGeom>
          <a:ln w="50760">
            <a:solidFill>
              <a:srgbClr val="033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Дуга 12"/>
          <p:cNvSpPr/>
          <p:nvPr/>
        </p:nvSpPr>
        <p:spPr>
          <a:xfrm rot="7839000">
            <a:off x="4103640" y="2604960"/>
            <a:ext cx="890640" cy="979200"/>
          </a:xfrm>
          <a:custGeom>
            <a:avLst/>
            <a:gdLst>
              <a:gd name="textAreaLeft" fmla="*/ 0 w 890640"/>
              <a:gd name="textAreaRight" fmla="*/ 874440 w 890640"/>
              <a:gd name="textAreaTop" fmla="*/ 0 h 979200"/>
              <a:gd name="textAreaBottom" fmla="*/ 641880 h 979200"/>
            </a:gdLst>
            <a:ahLst/>
            <a:rect l="textAreaLeft" t="textAreaTop" r="textAreaRight" b="textAreaBottom"/>
            <a:pathLst>
              <a:path stroke="0" w="1196975" h="1044575">
                <a:moveTo>
                  <a:pt x="29646" y="684630"/>
                </a:moveTo>
                <a:lnTo>
                  <a:pt x="29645" y="684630"/>
                </a:lnTo>
                <a:cubicBezTo>
                  <a:pt x="10005" y="632220"/>
                  <a:pt x="0" y="577427"/>
                  <a:pt x="0" y="522287"/>
                </a:cubicBezTo>
                <a:cubicBezTo>
                  <a:pt x="0" y="233835"/>
                  <a:pt x="267952" y="-1"/>
                  <a:pt x="598488" y="-1"/>
                </a:cubicBezTo>
                <a:cubicBezTo>
                  <a:pt x="866994" y="-2"/>
                  <a:pt x="1102637" y="156056"/>
                  <a:pt x="1174896" y="381732"/>
                </a:cubicBezTo>
                <a:lnTo>
                  <a:pt x="598488" y="522288"/>
                </a:lnTo>
                <a:close/>
              </a:path>
              <a:path fill="none" w="1196975" h="1044575">
                <a:moveTo>
                  <a:pt x="29646" y="684630"/>
                </a:moveTo>
                <a:lnTo>
                  <a:pt x="29645" y="684630"/>
                </a:lnTo>
                <a:cubicBezTo>
                  <a:pt x="10005" y="632220"/>
                  <a:pt x="0" y="577427"/>
                  <a:pt x="0" y="522287"/>
                </a:cubicBezTo>
                <a:cubicBezTo>
                  <a:pt x="0" y="233835"/>
                  <a:pt x="267952" y="-1"/>
                  <a:pt x="598488" y="-1"/>
                </a:cubicBezTo>
                <a:cubicBezTo>
                  <a:pt x="866994" y="-2"/>
                  <a:pt x="1102637" y="156056"/>
                  <a:pt x="1174896" y="38173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Дуга 13"/>
          <p:cNvSpPr/>
          <p:nvPr/>
        </p:nvSpPr>
        <p:spPr>
          <a:xfrm rot="7839000">
            <a:off x="4079160" y="2571120"/>
            <a:ext cx="744480" cy="892080"/>
          </a:xfrm>
          <a:custGeom>
            <a:avLst/>
            <a:gdLst>
              <a:gd name="textAreaLeft" fmla="*/ 720 w 744480"/>
              <a:gd name="textAreaRight" fmla="*/ 726480 w 744480"/>
              <a:gd name="textAreaTop" fmla="*/ 0 h 892080"/>
              <a:gd name="textAreaBottom" fmla="*/ 416520 h 892080"/>
            </a:gdLst>
            <a:ahLst/>
            <a:rect l="textAreaLeft" t="textAreaTop" r="textAreaRight" b="textAreaBottom"/>
            <a:pathLst>
              <a:path stroke="0" w="1000125" h="947738">
                <a:moveTo>
                  <a:pt x="1094" y="442540"/>
                </a:moveTo>
                <a:lnTo>
                  <a:pt x="1094" y="442540"/>
                </a:lnTo>
                <a:cubicBezTo>
                  <a:pt x="18504" y="193536"/>
                  <a:pt x="236719" y="-1"/>
                  <a:pt x="500063" y="0"/>
                </a:cubicBezTo>
                <a:cubicBezTo>
                  <a:pt x="717047" y="0"/>
                  <a:pt x="909272" y="132604"/>
                  <a:pt x="975939" y="328277"/>
                </a:cubicBezTo>
                <a:lnTo>
                  <a:pt x="500063" y="473869"/>
                </a:lnTo>
                <a:close/>
              </a:path>
              <a:path fill="none" w="1000125" h="947738">
                <a:moveTo>
                  <a:pt x="1094" y="442540"/>
                </a:moveTo>
                <a:lnTo>
                  <a:pt x="1094" y="442540"/>
                </a:lnTo>
                <a:cubicBezTo>
                  <a:pt x="18504" y="193536"/>
                  <a:pt x="236719" y="-1"/>
                  <a:pt x="500063" y="0"/>
                </a:cubicBezTo>
                <a:cubicBezTo>
                  <a:pt x="717047" y="0"/>
                  <a:pt x="909272" y="132604"/>
                  <a:pt x="975939" y="328277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Дуга 14"/>
          <p:cNvSpPr/>
          <p:nvPr/>
        </p:nvSpPr>
        <p:spPr>
          <a:xfrm rot="14613600">
            <a:off x="3752640" y="2088360"/>
            <a:ext cx="1268280" cy="1716120"/>
          </a:xfrm>
          <a:custGeom>
            <a:avLst/>
            <a:gdLst>
              <a:gd name="textAreaLeft" fmla="*/ 119880 w 1268280"/>
              <a:gd name="textAreaRight" fmla="*/ 1268280 w 1268280"/>
              <a:gd name="textAreaTop" fmla="*/ 0 h 1716120"/>
              <a:gd name="textAreaBottom" fmla="*/ 1694880 h 1716120"/>
            </a:gdLst>
            <a:ahLst/>
            <a:rect l="textAreaLeft" t="textAreaTop" r="textAreaRight" b="textAreaBottom"/>
            <a:pathLst>
              <a:path stroke="0" w="1787525" h="1749425">
                <a:moveTo>
                  <a:pt x="169064" y="362772"/>
                </a:moveTo>
                <a:lnTo>
                  <a:pt x="169063" y="362771"/>
                </a:lnTo>
                <a:cubicBezTo>
                  <a:pt x="337081" y="134959"/>
                  <a:pt x="606685" y="-1"/>
                  <a:pt x="893763" y="0"/>
                </a:cubicBezTo>
                <a:cubicBezTo>
                  <a:pt x="1387374" y="0"/>
                  <a:pt x="1787526" y="391622"/>
                  <a:pt x="1787526" y="874713"/>
                </a:cubicBezTo>
                <a:cubicBezTo>
                  <a:pt x="1787526" y="1283187"/>
                  <a:pt x="1498660" y="1637278"/>
                  <a:pt x="1091648" y="1727717"/>
                </a:cubicBezTo>
                <a:lnTo>
                  <a:pt x="893763" y="874713"/>
                </a:lnTo>
                <a:close/>
              </a:path>
              <a:path fill="none" w="1787525" h="1749425">
                <a:moveTo>
                  <a:pt x="169064" y="362772"/>
                </a:moveTo>
                <a:lnTo>
                  <a:pt x="169063" y="362771"/>
                </a:lnTo>
                <a:cubicBezTo>
                  <a:pt x="337081" y="134959"/>
                  <a:pt x="606685" y="-1"/>
                  <a:pt x="893763" y="0"/>
                </a:cubicBezTo>
                <a:cubicBezTo>
                  <a:pt x="1387374" y="0"/>
                  <a:pt x="1787526" y="391622"/>
                  <a:pt x="1787526" y="874713"/>
                </a:cubicBezTo>
                <a:cubicBezTo>
                  <a:pt x="1787526" y="1283187"/>
                  <a:pt x="1498660" y="1637278"/>
                  <a:pt x="1091648" y="1727717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оугольник 15"/>
          <p:cNvSpPr/>
          <p:nvPr/>
        </p:nvSpPr>
        <p:spPr>
          <a:xfrm>
            <a:off x="3786120" y="2249640"/>
            <a:ext cx="5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16"/>
          <p:cNvSpPr/>
          <p:nvPr/>
        </p:nvSpPr>
        <p:spPr>
          <a:xfrm>
            <a:off x="4929120" y="3268800"/>
            <a:ext cx="157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17"/>
          <p:cNvSpPr/>
          <p:nvPr/>
        </p:nvSpPr>
        <p:spPr>
          <a:xfrm>
            <a:off x="500040" y="13399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рямоугольник 23"/>
          <p:cNvSpPr/>
          <p:nvPr/>
        </p:nvSpPr>
        <p:spPr>
          <a:xfrm>
            <a:off x="3790440" y="284004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Овал 15"/>
          <p:cNvSpPr/>
          <p:nvPr/>
        </p:nvSpPr>
        <p:spPr>
          <a:xfrm flipV="1">
            <a:off x="4286160" y="2945520"/>
            <a:ext cx="136440" cy="10332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17"/>
          <p:cNvSpPr/>
          <p:nvPr/>
        </p:nvSpPr>
        <p:spPr>
          <a:xfrm>
            <a:off x="6443640" y="3813120"/>
            <a:ext cx="27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йдите 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Box 2"/>
          <p:cNvSpPr/>
          <p:nvPr/>
        </p:nvSpPr>
        <p:spPr>
          <a:xfrm>
            <a:off x="6443640" y="42465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йдит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Овал 3"/>
          <p:cNvSpPr/>
          <p:nvPr/>
        </p:nvSpPr>
        <p:spPr>
          <a:xfrm>
            <a:off x="1785960" y="1071720"/>
            <a:ext cx="4857840" cy="364320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Прямая соединительная линия 6"/>
          <p:cNvSpPr/>
          <p:nvPr/>
        </p:nvSpPr>
        <p:spPr>
          <a:xfrm flipH="1" flipV="1">
            <a:off x="2071440" y="1982880"/>
            <a:ext cx="2122200" cy="1001520"/>
          </a:xfrm>
          <a:prstGeom prst="line">
            <a:avLst/>
          </a:prstGeom>
          <a:ln w="50760">
            <a:solidFill>
              <a:srgbClr val="033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Прямая соединительная линия 7"/>
          <p:cNvSpPr/>
          <p:nvPr/>
        </p:nvSpPr>
        <p:spPr>
          <a:xfrm>
            <a:off x="4143240" y="2946240"/>
            <a:ext cx="2000520" cy="1017720"/>
          </a:xfrm>
          <a:prstGeom prst="line">
            <a:avLst/>
          </a:prstGeom>
          <a:ln w="50760">
            <a:solidFill>
              <a:srgbClr val="033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Дуга 18"/>
          <p:cNvSpPr/>
          <p:nvPr/>
        </p:nvSpPr>
        <p:spPr>
          <a:xfrm rot="570600">
            <a:off x="3571560" y="2734920"/>
            <a:ext cx="1000080" cy="711360"/>
          </a:xfrm>
          <a:custGeom>
            <a:avLst/>
            <a:gdLst>
              <a:gd name="textAreaLeft" fmla="*/ 188640 w 1000080"/>
              <a:gd name="textAreaRight" fmla="*/ 1000440 w 1000080"/>
              <a:gd name="textAreaTop" fmla="*/ 0 h 711360"/>
              <a:gd name="textAreaBottom" fmla="*/ 393840 h 711360"/>
            </a:gdLst>
            <a:ahLst/>
            <a:rect l="textAreaLeft" t="textAreaTop" r="textAreaRight" b="textAreaBottom"/>
            <a:pathLst>
              <a:path stroke="0" w="1000125" h="709613">
                <a:moveTo>
                  <a:pt x="188920" y="77045"/>
                </a:moveTo>
                <a:lnTo>
                  <a:pt x="188920" y="77045"/>
                </a:lnTo>
                <a:arcTo wR="500063" hR="354807" stAng="-8294649" swAng="8558193"/>
                <a:lnTo>
                  <a:pt x="500063" y="354807"/>
                </a:lnTo>
                <a:close/>
              </a:path>
              <a:path fill="none" w="1000125" h="709613">
                <a:moveTo>
                  <a:pt x="188920" y="77045"/>
                </a:moveTo>
                <a:lnTo>
                  <a:pt x="188920" y="77045"/>
                </a:lnTo>
                <a:arcTo wR="500063" hR="354807" stAng="-8294649" swAng="8558193"/>
              </a:path>
            </a:pathLst>
          </a:custGeom>
          <a:noFill/>
          <a:ln w="507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20"/>
          <p:cNvSpPr/>
          <p:nvPr/>
        </p:nvSpPr>
        <p:spPr>
          <a:xfrm>
            <a:off x="3780000" y="5191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22"/>
          <p:cNvSpPr/>
          <p:nvPr/>
        </p:nvSpPr>
        <p:spPr>
          <a:xfrm>
            <a:off x="571680" y="1231920"/>
            <a:ext cx="142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Прямоугольник 24"/>
          <p:cNvSpPr/>
          <p:nvPr/>
        </p:nvSpPr>
        <p:spPr>
          <a:xfrm>
            <a:off x="3862080" y="289404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Овал 25"/>
          <p:cNvSpPr/>
          <p:nvPr/>
        </p:nvSpPr>
        <p:spPr>
          <a:xfrm>
            <a:off x="4071960" y="2894040"/>
            <a:ext cx="142920" cy="10620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7"/>
          <p:cNvSpPr/>
          <p:nvPr/>
        </p:nvSpPr>
        <p:spPr>
          <a:xfrm>
            <a:off x="597600" y="120600"/>
            <a:ext cx="5050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0a22e"/>
                </a:solidFill>
                <a:latin typeface="Times New Roman"/>
              </a:rPr>
              <a:t>Устное решение задач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Заголовок 1" descr=""/>
          <p:cNvPicPr/>
          <p:nvPr/>
        </p:nvPicPr>
        <p:blipFill>
          <a:blip r:embed="rId1"/>
          <a:stretch/>
        </p:blipFill>
        <p:spPr>
          <a:xfrm>
            <a:off x="7254720" y="3724200"/>
            <a:ext cx="1895760" cy="1030320"/>
          </a:xfrm>
          <a:prstGeom prst="rect">
            <a:avLst/>
          </a:prstGeom>
          <a:ln w="0">
            <a:noFill/>
          </a:ln>
        </p:spPr>
      </p:pic>
      <p:sp>
        <p:nvSpPr>
          <p:cNvPr id="676" name="Овал 3"/>
          <p:cNvSpPr/>
          <p:nvPr/>
        </p:nvSpPr>
        <p:spPr>
          <a:xfrm>
            <a:off x="1857240" y="1125360"/>
            <a:ext cx="4857840" cy="364356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Прямая соединительная линия 4"/>
          <p:cNvSpPr/>
          <p:nvPr/>
        </p:nvSpPr>
        <p:spPr>
          <a:xfrm flipH="1" flipV="1">
            <a:off x="4286160" y="2999880"/>
            <a:ext cx="1928880" cy="1125720"/>
          </a:xfrm>
          <a:prstGeom prst="line">
            <a:avLst/>
          </a:prstGeom>
          <a:ln w="50760">
            <a:solidFill>
              <a:srgbClr val="033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Прямая соединительная линия 5"/>
          <p:cNvSpPr/>
          <p:nvPr/>
        </p:nvSpPr>
        <p:spPr>
          <a:xfrm flipH="1">
            <a:off x="2568240" y="4125960"/>
            <a:ext cx="3646440" cy="109440"/>
          </a:xfrm>
          <a:prstGeom prst="line">
            <a:avLst/>
          </a:prstGeom>
          <a:ln w="50760">
            <a:solidFill>
              <a:srgbClr val="033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Прямая соединительная линия 6"/>
          <p:cNvSpPr/>
          <p:nvPr/>
        </p:nvSpPr>
        <p:spPr>
          <a:xfrm flipH="1">
            <a:off x="2568600" y="2999520"/>
            <a:ext cx="1789200" cy="1235160"/>
          </a:xfrm>
          <a:prstGeom prst="line">
            <a:avLst/>
          </a:prstGeom>
          <a:ln w="50760">
            <a:solidFill>
              <a:srgbClr val="033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Дуга 13"/>
          <p:cNvSpPr/>
          <p:nvPr/>
        </p:nvSpPr>
        <p:spPr>
          <a:xfrm rot="16602600">
            <a:off x="5297400" y="3636360"/>
            <a:ext cx="749160" cy="946080"/>
          </a:xfrm>
          <a:custGeom>
            <a:avLst/>
            <a:gdLst>
              <a:gd name="textAreaLeft" fmla="*/ 278640 w 749160"/>
              <a:gd name="textAreaRight" fmla="*/ 734760 w 749160"/>
              <a:gd name="textAreaTop" fmla="*/ 0 h 946080"/>
              <a:gd name="textAreaBottom" fmla="*/ 343080 h 946080"/>
            </a:gdLst>
            <a:ahLst/>
            <a:rect l="textAreaLeft" t="textAreaTop" r="textAreaRight" b="textAreaBottom"/>
            <a:pathLst>
              <a:path stroke="0" w="748904" h="946150">
                <a:moveTo>
                  <a:pt x="278601" y="15761"/>
                </a:moveTo>
                <a:lnTo>
                  <a:pt x="278601" y="15761"/>
                </a:lnTo>
                <a:arcTo wR="374452" hR="473075" stAng="-6110255" swAng="4919766"/>
                <a:lnTo>
                  <a:pt x="374452" y="473075"/>
                </a:lnTo>
                <a:close/>
              </a:path>
              <a:path fill="none" w="748904" h="946150">
                <a:moveTo>
                  <a:pt x="278601" y="15761"/>
                </a:moveTo>
                <a:lnTo>
                  <a:pt x="278601" y="15761"/>
                </a:lnTo>
                <a:arcTo wR="374452" hR="473075" stAng="-6110255" swAng="4919766"/>
              </a:path>
            </a:pathLst>
          </a:custGeom>
          <a:noFill/>
          <a:ln w="507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Дуга 14"/>
          <p:cNvSpPr/>
          <p:nvPr/>
        </p:nvSpPr>
        <p:spPr>
          <a:xfrm rot="16602600">
            <a:off x="5440320" y="3690360"/>
            <a:ext cx="749160" cy="946080"/>
          </a:xfrm>
          <a:custGeom>
            <a:avLst/>
            <a:gdLst>
              <a:gd name="textAreaLeft" fmla="*/ 350640 w 749160"/>
              <a:gd name="textAreaRight" fmla="*/ 734760 w 749160"/>
              <a:gd name="textAreaTop" fmla="*/ 0 h 946080"/>
              <a:gd name="textAreaBottom" fmla="*/ 343080 h 946080"/>
            </a:gdLst>
            <a:ahLst/>
            <a:rect l="textAreaLeft" t="textAreaTop" r="textAreaRight" b="textAreaBottom"/>
            <a:pathLst>
              <a:path stroke="0" w="748903" h="946150">
                <a:moveTo>
                  <a:pt x="350371" y="979"/>
                </a:moveTo>
                <a:lnTo>
                  <a:pt x="350371" y="979"/>
                </a:lnTo>
                <a:arcTo wR="374452" hR="473075" stAng="-5575196" swAng="4384707"/>
                <a:lnTo>
                  <a:pt x="374452" y="473075"/>
                </a:lnTo>
                <a:close/>
              </a:path>
              <a:path fill="none" w="748903" h="946150">
                <a:moveTo>
                  <a:pt x="350371" y="979"/>
                </a:moveTo>
                <a:lnTo>
                  <a:pt x="350371" y="979"/>
                </a:lnTo>
                <a:arcTo wR="374452" hR="473075" stAng="-5575196" swAng="4384707"/>
              </a:path>
            </a:pathLst>
          </a:custGeom>
          <a:noFill/>
          <a:ln w="507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16"/>
          <p:cNvSpPr/>
          <p:nvPr/>
        </p:nvSpPr>
        <p:spPr>
          <a:xfrm>
            <a:off x="3276720" y="57456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17"/>
          <p:cNvSpPr/>
          <p:nvPr/>
        </p:nvSpPr>
        <p:spPr>
          <a:xfrm>
            <a:off x="4357800" y="3589200"/>
            <a:ext cx="121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18"/>
          <p:cNvSpPr/>
          <p:nvPr/>
        </p:nvSpPr>
        <p:spPr>
          <a:xfrm>
            <a:off x="428760" y="1285920"/>
            <a:ext cx="12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Box 20"/>
          <p:cNvSpPr/>
          <p:nvPr/>
        </p:nvSpPr>
        <p:spPr>
          <a:xfrm>
            <a:off x="3995640" y="2571840"/>
            <a:ext cx="9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Овал 16"/>
          <p:cNvSpPr/>
          <p:nvPr/>
        </p:nvSpPr>
        <p:spPr>
          <a:xfrm flipV="1">
            <a:off x="4286160" y="3000240"/>
            <a:ext cx="142920" cy="10800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Овал 3"/>
          <p:cNvSpPr/>
          <p:nvPr/>
        </p:nvSpPr>
        <p:spPr>
          <a:xfrm>
            <a:off x="1857240" y="1125360"/>
            <a:ext cx="4857840" cy="364356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Прямая соединительная линия 4"/>
          <p:cNvSpPr/>
          <p:nvPr/>
        </p:nvSpPr>
        <p:spPr>
          <a:xfrm flipH="1">
            <a:off x="1857240" y="2946240"/>
            <a:ext cx="4857840" cy="1800"/>
          </a:xfrm>
          <a:prstGeom prst="line">
            <a:avLst/>
          </a:prstGeom>
          <a:ln w="50760">
            <a:solidFill>
              <a:srgbClr val="033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Прямая соединительная линия 6"/>
          <p:cNvSpPr/>
          <p:nvPr/>
        </p:nvSpPr>
        <p:spPr>
          <a:xfrm flipH="1">
            <a:off x="4285800" y="2036880"/>
            <a:ext cx="2143080" cy="909360"/>
          </a:xfrm>
          <a:prstGeom prst="line">
            <a:avLst/>
          </a:prstGeom>
          <a:ln w="50760">
            <a:solidFill>
              <a:srgbClr val="033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Дуга 12"/>
          <p:cNvSpPr/>
          <p:nvPr/>
        </p:nvSpPr>
        <p:spPr>
          <a:xfrm rot="5550600">
            <a:off x="4762800" y="2382120"/>
            <a:ext cx="750960" cy="946080"/>
          </a:xfrm>
          <a:custGeom>
            <a:avLst/>
            <a:gdLst>
              <a:gd name="textAreaLeft" fmla="*/ 9720 w 750960"/>
              <a:gd name="textAreaRight" fmla="*/ 481680 w 750960"/>
              <a:gd name="textAreaTop" fmla="*/ 0 h 946080"/>
              <a:gd name="textAreaBottom" fmla="*/ 364680 h 946080"/>
            </a:gdLst>
            <a:ahLst/>
            <a:rect l="textAreaLeft" t="textAreaTop" r="textAreaRight" b="textAreaBottom"/>
            <a:pathLst>
              <a:path stroke="0" w="750094" h="946150">
                <a:moveTo>
                  <a:pt x="9955" y="364801"/>
                </a:moveTo>
                <a:lnTo>
                  <a:pt x="9955" y="364801"/>
                </a:lnTo>
                <a:arcTo wR="375047" hR="473075" stAng="-9808885" swAng="5197818"/>
                <a:lnTo>
                  <a:pt x="375047" y="473075"/>
                </a:lnTo>
                <a:close/>
              </a:path>
              <a:path fill="none" w="750094" h="946150">
                <a:moveTo>
                  <a:pt x="9955" y="364801"/>
                </a:moveTo>
                <a:lnTo>
                  <a:pt x="9955" y="364801"/>
                </a:lnTo>
                <a:arcTo wR="375047" hR="473075" stAng="-9808885" swAng="5197818"/>
              </a:path>
            </a:pathLst>
          </a:custGeom>
          <a:noFill/>
          <a:ln w="507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Дуга 13"/>
          <p:cNvSpPr/>
          <p:nvPr/>
        </p:nvSpPr>
        <p:spPr>
          <a:xfrm rot="5550600">
            <a:off x="4619880" y="2436120"/>
            <a:ext cx="750960" cy="946080"/>
          </a:xfrm>
          <a:custGeom>
            <a:avLst/>
            <a:gdLst>
              <a:gd name="textAreaLeft" fmla="*/ 18360 w 750960"/>
              <a:gd name="textAreaRight" fmla="*/ 408960 w 750960"/>
              <a:gd name="textAreaTop" fmla="*/ 0 h 946080"/>
              <a:gd name="textAreaBottom" fmla="*/ 326520 h 946080"/>
            </a:gdLst>
            <a:ahLst/>
            <a:rect l="textAreaLeft" t="textAreaTop" r="textAreaRight" b="textAreaBottom"/>
            <a:pathLst>
              <a:path stroke="0" w="750094" h="946150">
                <a:moveTo>
                  <a:pt x="18385" y="326776"/>
                </a:moveTo>
                <a:lnTo>
                  <a:pt x="18385" y="326776"/>
                </a:lnTo>
                <a:arcTo wR="375047" hR="473075" stAng="-9461825" swAng="4305968"/>
                <a:lnTo>
                  <a:pt x="375047" y="473075"/>
                </a:lnTo>
                <a:close/>
              </a:path>
              <a:path fill="none" w="750094" h="946150">
                <a:moveTo>
                  <a:pt x="18385" y="326776"/>
                </a:moveTo>
                <a:lnTo>
                  <a:pt x="18385" y="326776"/>
                </a:lnTo>
                <a:arcTo wR="375047" hR="473075" stAng="-9461825" swAng="4305968"/>
              </a:path>
            </a:pathLst>
          </a:custGeom>
          <a:noFill/>
          <a:ln w="507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Прямоугольник 14"/>
          <p:cNvSpPr/>
          <p:nvPr/>
        </p:nvSpPr>
        <p:spPr>
          <a:xfrm>
            <a:off x="4000680" y="289404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15"/>
          <p:cNvSpPr/>
          <p:nvPr/>
        </p:nvSpPr>
        <p:spPr>
          <a:xfrm>
            <a:off x="3492360" y="57456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Прямоугольник 16"/>
          <p:cNvSpPr/>
          <p:nvPr/>
        </p:nvSpPr>
        <p:spPr>
          <a:xfrm>
            <a:off x="5613840" y="2411280"/>
            <a:ext cx="8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Прямая соединительная линия 17"/>
          <p:cNvSpPr/>
          <p:nvPr/>
        </p:nvSpPr>
        <p:spPr>
          <a:xfrm flipH="1" flipV="1">
            <a:off x="1928520" y="2411280"/>
            <a:ext cx="2392200" cy="534960"/>
          </a:xfrm>
          <a:prstGeom prst="line">
            <a:avLst/>
          </a:prstGeom>
          <a:ln w="50760">
            <a:solidFill>
              <a:srgbClr val="033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Полилиния 24"/>
          <p:cNvSpPr/>
          <p:nvPr/>
        </p:nvSpPr>
        <p:spPr>
          <a:xfrm>
            <a:off x="3186000" y="2732040"/>
            <a:ext cx="63720" cy="209520"/>
          </a:xfrm>
          <a:custGeom>
            <a:avLst/>
            <a:gdLst/>
            <a:ahLst/>
            <a:rect l="l" t="t" r="r" b="b"/>
            <a:pathLst>
              <a:path w="63909" h="280219">
                <a:moveTo>
                  <a:pt x="44245" y="0"/>
                </a:moveTo>
                <a:cubicBezTo>
                  <a:pt x="49161" y="14748"/>
                  <a:pt x="63909" y="29497"/>
                  <a:pt x="58993" y="44245"/>
                </a:cubicBezTo>
                <a:cubicBezTo>
                  <a:pt x="52397" y="64032"/>
                  <a:pt x="26317" y="71136"/>
                  <a:pt x="14748" y="88490"/>
                </a:cubicBezTo>
                <a:cubicBezTo>
                  <a:pt x="6125" y="101425"/>
                  <a:pt x="4916" y="117987"/>
                  <a:pt x="0" y="132735"/>
                </a:cubicBezTo>
                <a:cubicBezTo>
                  <a:pt x="14748" y="147483"/>
                  <a:pt x="40816" y="156406"/>
                  <a:pt x="44245" y="176980"/>
                </a:cubicBezTo>
                <a:cubicBezTo>
                  <a:pt x="47159" y="194464"/>
                  <a:pt x="19618" y="204182"/>
                  <a:pt x="14748" y="221225"/>
                </a:cubicBezTo>
                <a:cubicBezTo>
                  <a:pt x="9346" y="240133"/>
                  <a:pt x="14748" y="260554"/>
                  <a:pt x="14748" y="280219"/>
                </a:cubicBezTo>
              </a:path>
            </a:pathLst>
          </a:custGeom>
          <a:noFill/>
          <a:ln w="381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Прямоугольник 25"/>
          <p:cNvSpPr/>
          <p:nvPr/>
        </p:nvSpPr>
        <p:spPr>
          <a:xfrm>
            <a:off x="2041920" y="2465280"/>
            <a:ext cx="8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26"/>
          <p:cNvSpPr/>
          <p:nvPr/>
        </p:nvSpPr>
        <p:spPr>
          <a:xfrm>
            <a:off x="571680" y="1231920"/>
            <a:ext cx="121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Овал 16"/>
          <p:cNvSpPr/>
          <p:nvPr/>
        </p:nvSpPr>
        <p:spPr>
          <a:xfrm>
            <a:off x="4214880" y="2894040"/>
            <a:ext cx="142920" cy="10620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Заголовок 1"/>
          <p:cNvSpPr/>
          <p:nvPr/>
        </p:nvSpPr>
        <p:spPr>
          <a:xfrm>
            <a:off x="6948360" y="4084560"/>
            <a:ext cx="18003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йдит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Заголовок 1" descr=""/>
          <p:cNvPicPr/>
          <p:nvPr/>
        </p:nvPicPr>
        <p:blipFill>
          <a:blip r:embed="rId1"/>
          <a:stretch/>
        </p:blipFill>
        <p:spPr>
          <a:xfrm>
            <a:off x="378000" y="2249640"/>
            <a:ext cx="8467560" cy="2517480"/>
          </a:xfrm>
          <a:prstGeom prst="rect">
            <a:avLst/>
          </a:prstGeom>
          <a:ln w="0">
            <a:noFill/>
          </a:ln>
        </p:spPr>
      </p:pic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380520" y="108540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443329"/>
                </a:solidFill>
                <a:latin typeface="Franklin Gothic Book"/>
              </a:rPr>
              <a:t>ВЕТКА</a:t>
            </a: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Заголовок 1" descr=""/>
          <p:cNvPicPr/>
          <p:nvPr/>
        </p:nvPicPr>
        <p:blipFill>
          <a:blip r:embed="rId1"/>
          <a:stretch/>
        </p:blipFill>
        <p:spPr>
          <a:xfrm>
            <a:off x="298440" y="334800"/>
            <a:ext cx="86994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560520" y="201600"/>
            <a:ext cx="7145280" cy="1157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4"/>
          <p:cNvGrpSpPr/>
          <p:nvPr/>
        </p:nvGrpSpPr>
        <p:grpSpPr>
          <a:xfrm>
            <a:off x="76320" y="114480"/>
            <a:ext cx="8991000" cy="4886280"/>
            <a:chOff x="76320" y="114480"/>
            <a:chExt cx="8991000" cy="4886280"/>
          </a:xfrm>
        </p:grpSpPr>
        <p:sp>
          <p:nvSpPr>
            <p:cNvPr id="419" name="Freeform 5"/>
            <p:cNvSpPr/>
            <p:nvPr/>
          </p:nvSpPr>
          <p:spPr>
            <a:xfrm>
              <a:off x="541800" y="134280"/>
              <a:ext cx="8086320" cy="108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6"/>
            <p:cNvSpPr/>
            <p:nvPr/>
          </p:nvSpPr>
          <p:spPr>
            <a:xfrm>
              <a:off x="581400" y="4990680"/>
              <a:ext cx="8060400" cy="108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7"/>
            <p:cNvSpPr/>
            <p:nvPr/>
          </p:nvSpPr>
          <p:spPr>
            <a:xfrm>
              <a:off x="9027360" y="452880"/>
              <a:ext cx="1440" cy="41994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199400"/>
                <a:gd name="textAreaBottom" fmla="*/ 4199760 h 419940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8"/>
            <p:cNvSpPr/>
            <p:nvPr/>
          </p:nvSpPr>
          <p:spPr>
            <a:xfrm>
              <a:off x="129240" y="452880"/>
              <a:ext cx="26640" cy="41994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199400"/>
                <a:gd name="textAreaBottom" fmla="*/ 4199760 h 419940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9"/>
            <p:cNvSpPr/>
            <p:nvPr/>
          </p:nvSpPr>
          <p:spPr>
            <a:xfrm>
              <a:off x="129240" y="4642560"/>
              <a:ext cx="451800" cy="35820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358200"/>
                <a:gd name="textAreaBottom" fmla="*/ 358560 h 35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0"/>
            <p:cNvSpPr/>
            <p:nvPr/>
          </p:nvSpPr>
          <p:spPr>
            <a:xfrm flipH="1">
              <a:off x="8615160" y="4632120"/>
              <a:ext cx="452160" cy="35820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358200"/>
                <a:gd name="textAreaBottom" fmla="*/ 358560 h 35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1"/>
            <p:cNvSpPr/>
            <p:nvPr/>
          </p:nvSpPr>
          <p:spPr>
            <a:xfrm flipH="1" rot="16200000">
              <a:off x="8658720" y="44280"/>
              <a:ext cx="338400" cy="478800"/>
            </a:xfrm>
            <a:custGeom>
              <a:avLst/>
              <a:gdLst>
                <a:gd name="textAreaLeft" fmla="*/ 360 w 338400"/>
                <a:gd name="textAreaRight" fmla="*/ 339120 w 338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2"/>
            <p:cNvSpPr/>
            <p:nvPr/>
          </p:nvSpPr>
          <p:spPr>
            <a:xfrm rot="5400000">
              <a:off x="146520" y="43920"/>
              <a:ext cx="338400" cy="47880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13"/>
          <p:cNvGrpSpPr/>
          <p:nvPr/>
        </p:nvGrpSpPr>
        <p:grpSpPr>
          <a:xfrm>
            <a:off x="838080" y="1143000"/>
            <a:ext cx="4267080" cy="3142800"/>
            <a:chOff x="838080" y="1143000"/>
            <a:chExt cx="4267080" cy="3142800"/>
          </a:xfrm>
        </p:grpSpPr>
        <p:sp>
          <p:nvSpPr>
            <p:cNvPr id="428" name="Oval 14"/>
            <p:cNvSpPr/>
            <p:nvPr/>
          </p:nvSpPr>
          <p:spPr>
            <a:xfrm>
              <a:off x="838080" y="1143000"/>
              <a:ext cx="4267080" cy="31428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5"/>
            <p:cNvSpPr/>
            <p:nvPr/>
          </p:nvSpPr>
          <p:spPr>
            <a:xfrm>
              <a:off x="2907000" y="2616120"/>
              <a:ext cx="128880" cy="9828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16"/>
            <p:cNvSpPr/>
            <p:nvPr/>
          </p:nvSpPr>
          <p:spPr>
            <a:xfrm>
              <a:off x="2324520" y="26161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17"/>
          <p:cNvGrpSpPr/>
          <p:nvPr/>
        </p:nvGrpSpPr>
        <p:grpSpPr>
          <a:xfrm>
            <a:off x="2743200" y="800280"/>
            <a:ext cx="2865240" cy="2202840"/>
            <a:chOff x="2743200" y="800280"/>
            <a:chExt cx="2865240" cy="2202840"/>
          </a:xfrm>
        </p:grpSpPr>
        <p:sp>
          <p:nvSpPr>
            <p:cNvPr id="432" name="Text Box 18"/>
            <p:cNvSpPr/>
            <p:nvPr/>
          </p:nvSpPr>
          <p:spPr>
            <a:xfrm>
              <a:off x="2743200" y="80028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19"/>
            <p:cNvSpPr/>
            <p:nvPr/>
          </p:nvSpPr>
          <p:spPr>
            <a:xfrm>
              <a:off x="5211720" y="254340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Text Box 20"/>
          <p:cNvSpPr/>
          <p:nvPr/>
        </p:nvSpPr>
        <p:spPr>
          <a:xfrm>
            <a:off x="2514600" y="44006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28"/>
          <p:cNvSpPr/>
          <p:nvPr/>
        </p:nvSpPr>
        <p:spPr>
          <a:xfrm>
            <a:off x="2971800" y="1143000"/>
            <a:ext cx="0" cy="3143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29"/>
          <p:cNvSpPr/>
          <p:nvPr/>
        </p:nvSpPr>
        <p:spPr>
          <a:xfrm>
            <a:off x="2895480" y="1085760"/>
            <a:ext cx="15264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30"/>
          <p:cNvSpPr/>
          <p:nvPr/>
        </p:nvSpPr>
        <p:spPr>
          <a:xfrm>
            <a:off x="2895480" y="4229280"/>
            <a:ext cx="152640" cy="114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31"/>
          <p:cNvSpPr/>
          <p:nvPr/>
        </p:nvSpPr>
        <p:spPr>
          <a:xfrm>
            <a:off x="2971800" y="2685960"/>
            <a:ext cx="2057400" cy="57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32"/>
          <p:cNvSpPr/>
          <p:nvPr/>
        </p:nvSpPr>
        <p:spPr>
          <a:xfrm>
            <a:off x="4952880" y="2666880"/>
            <a:ext cx="15264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33"/>
          <p:cNvSpPr/>
          <p:nvPr/>
        </p:nvSpPr>
        <p:spPr>
          <a:xfrm>
            <a:off x="2895480" y="2571840"/>
            <a:ext cx="228600" cy="171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34"/>
          <p:cNvSpPr/>
          <p:nvPr/>
        </p:nvSpPr>
        <p:spPr>
          <a:xfrm flipH="1">
            <a:off x="837720" y="1177920"/>
            <a:ext cx="2133720" cy="1600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5"/>
          <p:cNvSpPr/>
          <p:nvPr/>
        </p:nvSpPr>
        <p:spPr>
          <a:xfrm>
            <a:off x="5410080" y="1085760"/>
            <a:ext cx="2514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ОВ-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АМ-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АС-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36"/>
          <p:cNvSpPr/>
          <p:nvPr/>
        </p:nvSpPr>
        <p:spPr>
          <a:xfrm>
            <a:off x="6324480" y="1085760"/>
            <a:ext cx="2362320" cy="58140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ради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7"/>
          <p:cNvSpPr/>
          <p:nvPr/>
        </p:nvSpPr>
        <p:spPr>
          <a:xfrm>
            <a:off x="6324480" y="1600200"/>
            <a:ext cx="2362320" cy="581400"/>
          </a:xfrm>
          <a:prstGeom prst="rect">
            <a:avLst/>
          </a:prstGeom>
          <a:solidFill>
            <a:srgbClr val="e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иаме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8"/>
          <p:cNvSpPr/>
          <p:nvPr/>
        </p:nvSpPr>
        <p:spPr>
          <a:xfrm>
            <a:off x="6248520" y="2171880"/>
            <a:ext cx="2361960" cy="581400"/>
          </a:xfrm>
          <a:prstGeom prst="rect">
            <a:avLst/>
          </a:prstGeom>
          <a:solidFill>
            <a:srgbClr val="f3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хор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1"/>
          <p:cNvSpPr/>
          <p:nvPr/>
        </p:nvSpPr>
        <p:spPr>
          <a:xfrm>
            <a:off x="264960" y="2581200"/>
            <a:ext cx="522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Franklin Gothic Book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3"/>
          <p:cNvGrpSpPr/>
          <p:nvPr/>
        </p:nvGrpSpPr>
        <p:grpSpPr>
          <a:xfrm>
            <a:off x="76320" y="114480"/>
            <a:ext cx="8991000" cy="4886280"/>
            <a:chOff x="76320" y="114480"/>
            <a:chExt cx="8991000" cy="4886280"/>
          </a:xfrm>
        </p:grpSpPr>
        <p:sp>
          <p:nvSpPr>
            <p:cNvPr id="448" name="Freeform 4"/>
            <p:cNvSpPr/>
            <p:nvPr/>
          </p:nvSpPr>
          <p:spPr>
            <a:xfrm>
              <a:off x="541800" y="134280"/>
              <a:ext cx="8086320" cy="108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5"/>
            <p:cNvSpPr/>
            <p:nvPr/>
          </p:nvSpPr>
          <p:spPr>
            <a:xfrm>
              <a:off x="581400" y="4990680"/>
              <a:ext cx="8060400" cy="108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"/>
            <p:cNvSpPr/>
            <p:nvPr/>
          </p:nvSpPr>
          <p:spPr>
            <a:xfrm>
              <a:off x="9027360" y="452880"/>
              <a:ext cx="1440" cy="41994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199400"/>
                <a:gd name="textAreaBottom" fmla="*/ 4199760 h 419940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7"/>
            <p:cNvSpPr/>
            <p:nvPr/>
          </p:nvSpPr>
          <p:spPr>
            <a:xfrm>
              <a:off x="129240" y="452880"/>
              <a:ext cx="26640" cy="41994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199400"/>
                <a:gd name="textAreaBottom" fmla="*/ 4199760 h 419940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8"/>
            <p:cNvSpPr/>
            <p:nvPr/>
          </p:nvSpPr>
          <p:spPr>
            <a:xfrm>
              <a:off x="129240" y="4642560"/>
              <a:ext cx="451800" cy="35820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358200"/>
                <a:gd name="textAreaBottom" fmla="*/ 358560 h 35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9"/>
            <p:cNvSpPr/>
            <p:nvPr/>
          </p:nvSpPr>
          <p:spPr>
            <a:xfrm flipH="1">
              <a:off x="8615160" y="4632120"/>
              <a:ext cx="452160" cy="35820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358200"/>
                <a:gd name="textAreaBottom" fmla="*/ 358560 h 35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0"/>
            <p:cNvSpPr/>
            <p:nvPr/>
          </p:nvSpPr>
          <p:spPr>
            <a:xfrm flipH="1" rot="16200000">
              <a:off x="8658720" y="44280"/>
              <a:ext cx="338400" cy="478800"/>
            </a:xfrm>
            <a:custGeom>
              <a:avLst/>
              <a:gdLst>
                <a:gd name="textAreaLeft" fmla="*/ 360 w 338400"/>
                <a:gd name="textAreaRight" fmla="*/ 339120 w 338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1"/>
            <p:cNvSpPr/>
            <p:nvPr/>
          </p:nvSpPr>
          <p:spPr>
            <a:xfrm rot="5400000">
              <a:off x="146520" y="43920"/>
              <a:ext cx="338400" cy="47880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Прямая соединительная линия 15"/>
          <p:cNvSpPr/>
          <p:nvPr/>
        </p:nvSpPr>
        <p:spPr>
          <a:xfrm flipH="1" flipV="1">
            <a:off x="2133720" y="800280"/>
            <a:ext cx="838080" cy="1257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ая соединительная линия 20"/>
          <p:cNvSpPr/>
          <p:nvPr/>
        </p:nvSpPr>
        <p:spPr>
          <a:xfrm flipH="1" flipV="1">
            <a:off x="1600200" y="1657080"/>
            <a:ext cx="1371600" cy="3999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ая соединительная линия 21"/>
          <p:cNvSpPr/>
          <p:nvPr/>
        </p:nvSpPr>
        <p:spPr>
          <a:xfrm flipH="1">
            <a:off x="4723920" y="2486160"/>
            <a:ext cx="2057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ая соединительная линия 22"/>
          <p:cNvSpPr/>
          <p:nvPr/>
        </p:nvSpPr>
        <p:spPr>
          <a:xfrm flipH="1" flipV="1">
            <a:off x="3873600" y="1228320"/>
            <a:ext cx="838080" cy="1257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ая соединительная линия 26"/>
          <p:cNvSpPr/>
          <p:nvPr/>
        </p:nvSpPr>
        <p:spPr>
          <a:xfrm flipH="1" flipV="1">
            <a:off x="761760" y="3200040"/>
            <a:ext cx="1523880" cy="57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ая соединительная линия 27"/>
          <p:cNvSpPr/>
          <p:nvPr/>
        </p:nvSpPr>
        <p:spPr>
          <a:xfrm flipV="1">
            <a:off x="5753160" y="2971800"/>
            <a:ext cx="0" cy="1114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ая соединительная линия 28"/>
          <p:cNvSpPr/>
          <p:nvPr/>
        </p:nvSpPr>
        <p:spPr>
          <a:xfrm flipH="1" flipV="1">
            <a:off x="2285640" y="3257280"/>
            <a:ext cx="2133720" cy="114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ая соединительная линия 29"/>
          <p:cNvSpPr/>
          <p:nvPr/>
        </p:nvSpPr>
        <p:spPr>
          <a:xfrm flipH="1" flipV="1">
            <a:off x="5753160" y="4057200"/>
            <a:ext cx="1371600" cy="57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Овал 35"/>
          <p:cNvSpPr/>
          <p:nvPr/>
        </p:nvSpPr>
        <p:spPr>
          <a:xfrm flipV="1">
            <a:off x="2362320" y="3200400"/>
            <a:ext cx="228600" cy="17136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Прямоугольник 37" descr=""/>
          <p:cNvPicPr/>
          <p:nvPr/>
        </p:nvPicPr>
        <p:blipFill>
          <a:blip r:embed="rId1"/>
          <a:stretch/>
        </p:blipFill>
        <p:spPr>
          <a:xfrm>
            <a:off x="414360" y="2097000"/>
            <a:ext cx="2603520" cy="701640"/>
          </a:xfrm>
          <a:prstGeom prst="rect">
            <a:avLst/>
          </a:prstGeom>
          <a:ln w="0">
            <a:noFill/>
          </a:ln>
        </p:spPr>
      </p:pic>
      <p:pic>
        <p:nvPicPr>
          <p:cNvPr id="466" name="Прямоугольник 23" descr=""/>
          <p:cNvPicPr/>
          <p:nvPr/>
        </p:nvPicPr>
        <p:blipFill>
          <a:blip r:embed="rId2"/>
          <a:stretch/>
        </p:blipFill>
        <p:spPr>
          <a:xfrm>
            <a:off x="5072040" y="1225440"/>
            <a:ext cx="2603520" cy="695520"/>
          </a:xfrm>
          <a:prstGeom prst="rect">
            <a:avLst/>
          </a:prstGeom>
          <a:ln w="0">
            <a:noFill/>
          </a:ln>
        </p:spPr>
      </p:pic>
      <p:pic>
        <p:nvPicPr>
          <p:cNvPr id="467" name="Прямоугольник 24" descr=""/>
          <p:cNvPicPr/>
          <p:nvPr/>
        </p:nvPicPr>
        <p:blipFill>
          <a:blip r:embed="rId3"/>
          <a:stretch/>
        </p:blipFill>
        <p:spPr>
          <a:xfrm>
            <a:off x="835200" y="3541680"/>
            <a:ext cx="2603160" cy="701640"/>
          </a:xfrm>
          <a:prstGeom prst="rect">
            <a:avLst/>
          </a:prstGeom>
          <a:ln w="0">
            <a:noFill/>
          </a:ln>
        </p:spPr>
      </p:pic>
      <p:pic>
        <p:nvPicPr>
          <p:cNvPr id="468" name="Прямоугольник 25" descr=""/>
          <p:cNvPicPr/>
          <p:nvPr/>
        </p:nvPicPr>
        <p:blipFill>
          <a:blip r:embed="rId4"/>
          <a:stretch/>
        </p:blipFill>
        <p:spPr>
          <a:xfrm>
            <a:off x="6242040" y="3054240"/>
            <a:ext cx="2603520" cy="695520"/>
          </a:xfrm>
          <a:prstGeom prst="rect">
            <a:avLst/>
          </a:prstGeom>
          <a:ln w="0">
            <a:noFill/>
          </a:ln>
        </p:spPr>
      </p:pic>
      <p:sp>
        <p:nvSpPr>
          <p:cNvPr id="469" name="Прямоугольник 3"/>
          <p:cNvSpPr/>
          <p:nvPr/>
        </p:nvSpPr>
        <p:spPr>
          <a:xfrm>
            <a:off x="3873600" y="277920"/>
            <a:ext cx="138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Уг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Rectangle 2" descr=""/>
          <p:cNvPicPr/>
          <p:nvPr/>
        </p:nvPicPr>
        <p:blipFill>
          <a:blip r:embed="rId1"/>
          <a:stretch/>
        </p:blipFill>
        <p:spPr>
          <a:xfrm>
            <a:off x="133200" y="291960"/>
            <a:ext cx="8864640" cy="100044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 txBox="1"/>
          <p:nvPr/>
        </p:nvSpPr>
        <p:spPr>
          <a:xfrm>
            <a:off x="457200" y="9712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Угол, градусная мера которого больше 90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º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, называется тупым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4191120" y="1257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457200" y="190800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резок, соединяющий центр окружности с какой-либо точкой окружности называется диаметром окруж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5257800" y="25718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7"/>
          <p:cNvSpPr/>
          <p:nvPr/>
        </p:nvSpPr>
        <p:spPr>
          <a:xfrm>
            <a:off x="851040" y="2571840"/>
            <a:ext cx="1904760" cy="520560"/>
          </a:xfrm>
          <a:prstGeom prst="rect">
            <a:avLst/>
          </a:prstGeom>
          <a:solidFill>
            <a:srgbClr val="f3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диус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8"/>
          <p:cNvSpPr/>
          <p:nvPr/>
        </p:nvSpPr>
        <p:spPr>
          <a:xfrm>
            <a:off x="457200" y="257184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1"/>
          <p:cNvSpPr/>
          <p:nvPr/>
        </p:nvSpPr>
        <p:spPr>
          <a:xfrm>
            <a:off x="380880" y="325764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диус        окружности в два раза больше диаме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2743200" y="3543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457200" y="3257640"/>
            <a:ext cx="1752480" cy="520560"/>
          </a:xfrm>
          <a:prstGeom prst="rect">
            <a:avLst/>
          </a:prstGeom>
          <a:solidFill>
            <a:srgbClr val="f3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иаме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863640" y="4172040"/>
            <a:ext cx="1905120" cy="520560"/>
          </a:xfrm>
          <a:prstGeom prst="rect">
            <a:avLst/>
          </a:prstGeom>
          <a:solidFill>
            <a:srgbClr val="f3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ди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Rectangle 2" descr=""/>
          <p:cNvPicPr/>
          <p:nvPr/>
        </p:nvPicPr>
        <p:blipFill>
          <a:blip r:embed="rId1"/>
          <a:stretch/>
        </p:blipFill>
        <p:spPr>
          <a:xfrm>
            <a:off x="560520" y="201600"/>
            <a:ext cx="7145280" cy="115740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4"/>
          <p:cNvGrpSpPr/>
          <p:nvPr/>
        </p:nvGrpSpPr>
        <p:grpSpPr>
          <a:xfrm>
            <a:off x="76320" y="114480"/>
            <a:ext cx="8991000" cy="4886280"/>
            <a:chOff x="76320" y="114480"/>
            <a:chExt cx="8991000" cy="4886280"/>
          </a:xfrm>
        </p:grpSpPr>
        <p:sp>
          <p:nvSpPr>
            <p:cNvPr id="483" name="Freeform 5"/>
            <p:cNvSpPr/>
            <p:nvPr/>
          </p:nvSpPr>
          <p:spPr>
            <a:xfrm>
              <a:off x="541800" y="134280"/>
              <a:ext cx="8086320" cy="108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6"/>
            <p:cNvSpPr/>
            <p:nvPr/>
          </p:nvSpPr>
          <p:spPr>
            <a:xfrm>
              <a:off x="581400" y="4990680"/>
              <a:ext cx="8060400" cy="108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7"/>
            <p:cNvSpPr/>
            <p:nvPr/>
          </p:nvSpPr>
          <p:spPr>
            <a:xfrm>
              <a:off x="9027360" y="452880"/>
              <a:ext cx="1440" cy="41994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199400"/>
                <a:gd name="textAreaBottom" fmla="*/ 4199760 h 419940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8"/>
            <p:cNvSpPr/>
            <p:nvPr/>
          </p:nvSpPr>
          <p:spPr>
            <a:xfrm>
              <a:off x="129240" y="452880"/>
              <a:ext cx="26640" cy="41994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199400"/>
                <a:gd name="textAreaBottom" fmla="*/ 4199760 h 419940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9"/>
            <p:cNvSpPr/>
            <p:nvPr/>
          </p:nvSpPr>
          <p:spPr>
            <a:xfrm>
              <a:off x="129240" y="4642560"/>
              <a:ext cx="451800" cy="35820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358200"/>
                <a:gd name="textAreaBottom" fmla="*/ 358560 h 35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0"/>
            <p:cNvSpPr/>
            <p:nvPr/>
          </p:nvSpPr>
          <p:spPr>
            <a:xfrm flipH="1">
              <a:off x="8615160" y="4632120"/>
              <a:ext cx="452160" cy="35820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358200"/>
                <a:gd name="textAreaBottom" fmla="*/ 358560 h 35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1"/>
            <p:cNvSpPr/>
            <p:nvPr/>
          </p:nvSpPr>
          <p:spPr>
            <a:xfrm flipH="1" rot="16200000">
              <a:off x="8658720" y="44280"/>
              <a:ext cx="338400" cy="478800"/>
            </a:xfrm>
            <a:custGeom>
              <a:avLst/>
              <a:gdLst>
                <a:gd name="textAreaLeft" fmla="*/ 360 w 338400"/>
                <a:gd name="textAreaRight" fmla="*/ 339120 w 338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2"/>
            <p:cNvSpPr/>
            <p:nvPr/>
          </p:nvSpPr>
          <p:spPr>
            <a:xfrm rot="5400000">
              <a:off x="146520" y="43920"/>
              <a:ext cx="338400" cy="47880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13"/>
          <p:cNvGrpSpPr/>
          <p:nvPr/>
        </p:nvGrpSpPr>
        <p:grpSpPr>
          <a:xfrm>
            <a:off x="838080" y="1143000"/>
            <a:ext cx="4267080" cy="3142800"/>
            <a:chOff x="838080" y="1143000"/>
            <a:chExt cx="4267080" cy="3142800"/>
          </a:xfrm>
        </p:grpSpPr>
        <p:sp>
          <p:nvSpPr>
            <p:cNvPr id="492" name="Oval 14"/>
            <p:cNvSpPr/>
            <p:nvPr/>
          </p:nvSpPr>
          <p:spPr>
            <a:xfrm>
              <a:off x="838080" y="1143000"/>
              <a:ext cx="4267080" cy="31428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5"/>
            <p:cNvSpPr/>
            <p:nvPr/>
          </p:nvSpPr>
          <p:spPr>
            <a:xfrm>
              <a:off x="2907000" y="2616120"/>
              <a:ext cx="128880" cy="9828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16"/>
            <p:cNvSpPr/>
            <p:nvPr/>
          </p:nvSpPr>
          <p:spPr>
            <a:xfrm>
              <a:off x="2324520" y="26161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17"/>
          <p:cNvGrpSpPr/>
          <p:nvPr/>
        </p:nvGrpSpPr>
        <p:grpSpPr>
          <a:xfrm>
            <a:off x="2743200" y="800280"/>
            <a:ext cx="1996920" cy="3602880"/>
            <a:chOff x="2743200" y="800280"/>
            <a:chExt cx="1996920" cy="3602880"/>
          </a:xfrm>
        </p:grpSpPr>
        <p:sp>
          <p:nvSpPr>
            <p:cNvPr id="496" name="Text Box 18"/>
            <p:cNvSpPr/>
            <p:nvPr/>
          </p:nvSpPr>
          <p:spPr>
            <a:xfrm>
              <a:off x="2743200" y="80028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19"/>
            <p:cNvSpPr/>
            <p:nvPr/>
          </p:nvSpPr>
          <p:spPr>
            <a:xfrm>
              <a:off x="4343400" y="394344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Text Box 20"/>
          <p:cNvSpPr/>
          <p:nvPr/>
        </p:nvSpPr>
        <p:spPr>
          <a:xfrm>
            <a:off x="2514600" y="44006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8"/>
          <p:cNvSpPr/>
          <p:nvPr/>
        </p:nvSpPr>
        <p:spPr>
          <a:xfrm>
            <a:off x="2971800" y="1143000"/>
            <a:ext cx="0" cy="3143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29"/>
          <p:cNvSpPr/>
          <p:nvPr/>
        </p:nvSpPr>
        <p:spPr>
          <a:xfrm>
            <a:off x="2895480" y="1085760"/>
            <a:ext cx="15264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30"/>
          <p:cNvSpPr/>
          <p:nvPr/>
        </p:nvSpPr>
        <p:spPr>
          <a:xfrm>
            <a:off x="2895480" y="4229280"/>
            <a:ext cx="152640" cy="114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1"/>
          <p:cNvSpPr/>
          <p:nvPr/>
        </p:nvSpPr>
        <p:spPr>
          <a:xfrm>
            <a:off x="2971800" y="2685960"/>
            <a:ext cx="1523880" cy="1143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32"/>
          <p:cNvSpPr/>
          <p:nvPr/>
        </p:nvSpPr>
        <p:spPr>
          <a:xfrm>
            <a:off x="4419720" y="3772080"/>
            <a:ext cx="15228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33"/>
          <p:cNvSpPr/>
          <p:nvPr/>
        </p:nvSpPr>
        <p:spPr>
          <a:xfrm>
            <a:off x="2895480" y="2571840"/>
            <a:ext cx="228600" cy="171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34"/>
          <p:cNvSpPr/>
          <p:nvPr/>
        </p:nvSpPr>
        <p:spPr>
          <a:xfrm>
            <a:off x="2971800" y="1143000"/>
            <a:ext cx="1523880" cy="26859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4"/>
          <p:cNvGrpSpPr/>
          <p:nvPr/>
        </p:nvGrpSpPr>
        <p:grpSpPr>
          <a:xfrm>
            <a:off x="76320" y="114480"/>
            <a:ext cx="8991000" cy="4886280"/>
            <a:chOff x="76320" y="114480"/>
            <a:chExt cx="8991000" cy="4886280"/>
          </a:xfrm>
        </p:grpSpPr>
        <p:sp>
          <p:nvSpPr>
            <p:cNvPr id="507" name="Freeform 5"/>
            <p:cNvSpPr/>
            <p:nvPr/>
          </p:nvSpPr>
          <p:spPr>
            <a:xfrm>
              <a:off x="541800" y="134280"/>
              <a:ext cx="8086320" cy="108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6"/>
            <p:cNvSpPr/>
            <p:nvPr/>
          </p:nvSpPr>
          <p:spPr>
            <a:xfrm>
              <a:off x="581400" y="4990680"/>
              <a:ext cx="8060400" cy="108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7"/>
            <p:cNvSpPr/>
            <p:nvPr/>
          </p:nvSpPr>
          <p:spPr>
            <a:xfrm>
              <a:off x="9027360" y="452880"/>
              <a:ext cx="1440" cy="41994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199400"/>
                <a:gd name="textAreaBottom" fmla="*/ 4199760 h 419940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8"/>
            <p:cNvSpPr/>
            <p:nvPr/>
          </p:nvSpPr>
          <p:spPr>
            <a:xfrm>
              <a:off x="129240" y="452880"/>
              <a:ext cx="26640" cy="41994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199400"/>
                <a:gd name="textAreaBottom" fmla="*/ 4199760 h 419940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9"/>
            <p:cNvSpPr/>
            <p:nvPr/>
          </p:nvSpPr>
          <p:spPr>
            <a:xfrm>
              <a:off x="129240" y="4642560"/>
              <a:ext cx="451800" cy="35820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358200"/>
                <a:gd name="textAreaBottom" fmla="*/ 358560 h 35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0"/>
            <p:cNvSpPr/>
            <p:nvPr/>
          </p:nvSpPr>
          <p:spPr>
            <a:xfrm flipH="1">
              <a:off x="8615160" y="4632120"/>
              <a:ext cx="452160" cy="35820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358200"/>
                <a:gd name="textAreaBottom" fmla="*/ 358560 h 35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1"/>
            <p:cNvSpPr/>
            <p:nvPr/>
          </p:nvSpPr>
          <p:spPr>
            <a:xfrm flipH="1" rot="16200000">
              <a:off x="8658720" y="44280"/>
              <a:ext cx="338400" cy="478800"/>
            </a:xfrm>
            <a:custGeom>
              <a:avLst/>
              <a:gdLst>
                <a:gd name="textAreaLeft" fmla="*/ 360 w 338400"/>
                <a:gd name="textAreaRight" fmla="*/ 339120 w 338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2"/>
            <p:cNvSpPr/>
            <p:nvPr/>
          </p:nvSpPr>
          <p:spPr>
            <a:xfrm rot="5400000">
              <a:off x="146520" y="43920"/>
              <a:ext cx="338400" cy="47880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Овал 2"/>
          <p:cNvSpPr/>
          <p:nvPr/>
        </p:nvSpPr>
        <p:spPr>
          <a:xfrm>
            <a:off x="1295280" y="914400"/>
            <a:ext cx="1752840" cy="131436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Овал 28"/>
          <p:cNvSpPr/>
          <p:nvPr/>
        </p:nvSpPr>
        <p:spPr>
          <a:xfrm>
            <a:off x="5486400" y="895320"/>
            <a:ext cx="1752480" cy="131436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Овал 29"/>
          <p:cNvSpPr/>
          <p:nvPr/>
        </p:nvSpPr>
        <p:spPr>
          <a:xfrm>
            <a:off x="1981080" y="2971800"/>
            <a:ext cx="1752840" cy="131436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Овал 30"/>
          <p:cNvSpPr/>
          <p:nvPr/>
        </p:nvSpPr>
        <p:spPr>
          <a:xfrm>
            <a:off x="5562720" y="2962440"/>
            <a:ext cx="1752480" cy="131436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Прямая соединительная линия 5"/>
          <p:cNvSpPr/>
          <p:nvPr/>
        </p:nvSpPr>
        <p:spPr>
          <a:xfrm flipV="1">
            <a:off x="1295280" y="1085400"/>
            <a:ext cx="990720" cy="800280"/>
          </a:xfrm>
          <a:prstGeom prst="line">
            <a:avLst/>
          </a:prstGeom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ая соединительная линия 9"/>
          <p:cNvSpPr/>
          <p:nvPr/>
        </p:nvSpPr>
        <p:spPr>
          <a:xfrm flipV="1">
            <a:off x="723960" y="1204560"/>
            <a:ext cx="2133720" cy="119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рямая соединительная линия 37"/>
          <p:cNvSpPr/>
          <p:nvPr/>
        </p:nvSpPr>
        <p:spPr>
          <a:xfrm>
            <a:off x="5746680" y="3165480"/>
            <a:ext cx="735120" cy="839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ая соединительная линия 38"/>
          <p:cNvSpPr/>
          <p:nvPr/>
        </p:nvSpPr>
        <p:spPr>
          <a:xfrm flipV="1">
            <a:off x="5743440" y="895320"/>
            <a:ext cx="619200" cy="1122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ая соединительная линия 39"/>
          <p:cNvSpPr/>
          <p:nvPr/>
        </p:nvSpPr>
        <p:spPr>
          <a:xfrm>
            <a:off x="723960" y="1324080"/>
            <a:ext cx="2324160" cy="222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ая соединительная линия 43"/>
          <p:cNvSpPr/>
          <p:nvPr/>
        </p:nvSpPr>
        <p:spPr>
          <a:xfrm flipV="1">
            <a:off x="6481800" y="3155760"/>
            <a:ext cx="576360" cy="849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Прямая соединительная линия 44"/>
          <p:cNvSpPr/>
          <p:nvPr/>
        </p:nvSpPr>
        <p:spPr>
          <a:xfrm flipV="1">
            <a:off x="2832120" y="3281040"/>
            <a:ext cx="750960" cy="390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ая соединительная линия 45"/>
          <p:cNvSpPr/>
          <p:nvPr/>
        </p:nvSpPr>
        <p:spPr>
          <a:xfrm>
            <a:off x="6350040" y="914400"/>
            <a:ext cx="631800" cy="1103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ая соединительная линия 51"/>
          <p:cNvSpPr/>
          <p:nvPr/>
        </p:nvSpPr>
        <p:spPr>
          <a:xfrm flipV="1">
            <a:off x="2832120" y="3629160"/>
            <a:ext cx="901800" cy="47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оугольник 22"/>
          <p:cNvSpPr/>
          <p:nvPr/>
        </p:nvSpPr>
        <p:spPr>
          <a:xfrm>
            <a:off x="2548080" y="314280"/>
            <a:ext cx="38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сключить лишн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Овал 25"/>
          <p:cNvSpPr/>
          <p:nvPr/>
        </p:nvSpPr>
        <p:spPr>
          <a:xfrm flipH="1" flipV="1">
            <a:off x="2831400" y="3628440"/>
            <a:ext cx="95400" cy="91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51"/>
          <p:cNvGrpSpPr/>
          <p:nvPr/>
        </p:nvGrpSpPr>
        <p:grpSpPr>
          <a:xfrm>
            <a:off x="5519880" y="1257480"/>
            <a:ext cx="2711160" cy="3001320"/>
            <a:chOff x="5519880" y="1257480"/>
            <a:chExt cx="2711160" cy="3001320"/>
          </a:xfrm>
        </p:grpSpPr>
        <p:sp>
          <p:nvSpPr>
            <p:cNvPr id="531" name="Freeform 47"/>
            <p:cNvSpPr/>
            <p:nvPr/>
          </p:nvSpPr>
          <p:spPr>
            <a:xfrm>
              <a:off x="6426360" y="1600200"/>
              <a:ext cx="990360" cy="100008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0 h 1000080"/>
                <a:gd name="textAreaBottom" fmla="*/ 1000440 h 1000080"/>
              </a:gdLst>
              <a:ahLst/>
              <a:rect l="textAreaLeft" t="textAreaTop" r="textAreaRight" b="textAreaBottom"/>
              <a:pathLst>
                <a:path w="624" h="840">
                  <a:moveTo>
                    <a:pt x="64" y="632"/>
                  </a:moveTo>
                  <a:lnTo>
                    <a:pt x="336" y="0"/>
                  </a:lnTo>
                  <a:lnTo>
                    <a:pt x="624" y="760"/>
                  </a:lnTo>
                  <a:lnTo>
                    <a:pt x="624" y="744"/>
                  </a:lnTo>
                  <a:lnTo>
                    <a:pt x="416" y="728"/>
                  </a:lnTo>
                  <a:lnTo>
                    <a:pt x="320" y="840"/>
                  </a:lnTo>
                  <a:lnTo>
                    <a:pt x="192" y="824"/>
                  </a:lnTo>
                  <a:lnTo>
                    <a:pt x="16" y="776"/>
                  </a:lnTo>
                  <a:lnTo>
                    <a:pt x="0" y="808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38"/>
            <p:cNvSpPr/>
            <p:nvPr/>
          </p:nvSpPr>
          <p:spPr>
            <a:xfrm>
              <a:off x="5826240" y="1590840"/>
              <a:ext cx="2162160" cy="2165040"/>
            </a:xfrm>
            <a:custGeom>
              <a:avLst/>
              <a:gdLst>
                <a:gd name="textAreaLeft" fmla="*/ 0 w 2162160"/>
                <a:gd name="textAreaRight" fmla="*/ 2162520 w 2162160"/>
                <a:gd name="textAreaTop" fmla="*/ 0 h 2165040"/>
                <a:gd name="textAreaBottom" fmla="*/ 2165400 h 2165040"/>
              </a:gdLst>
              <a:ahLst/>
              <a:rect l="textAreaLeft" t="textAreaTop" r="textAreaRight" b="textAreaBottom"/>
              <a:pathLst>
                <a:path w="1362" h="1819">
                  <a:moveTo>
                    <a:pt x="0" y="1819"/>
                  </a:moveTo>
                  <a:lnTo>
                    <a:pt x="698" y="0"/>
                  </a:lnTo>
                  <a:lnTo>
                    <a:pt x="1362" y="163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43"/>
            <p:cNvSpPr/>
            <p:nvPr/>
          </p:nvSpPr>
          <p:spPr>
            <a:xfrm>
              <a:off x="5519880" y="3799080"/>
              <a:ext cx="2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44"/>
            <p:cNvSpPr/>
            <p:nvPr/>
          </p:nvSpPr>
          <p:spPr>
            <a:xfrm>
              <a:off x="7931160" y="3539520"/>
              <a:ext cx="29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50"/>
            <p:cNvSpPr/>
            <p:nvPr/>
          </p:nvSpPr>
          <p:spPr>
            <a:xfrm>
              <a:off x="6781680" y="1257480"/>
              <a:ext cx="2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Group 49"/>
          <p:cNvGrpSpPr/>
          <p:nvPr/>
        </p:nvGrpSpPr>
        <p:grpSpPr>
          <a:xfrm>
            <a:off x="1023840" y="2494080"/>
            <a:ext cx="2711520" cy="1536120"/>
            <a:chOff x="1023840" y="2494080"/>
            <a:chExt cx="2711520" cy="1536120"/>
          </a:xfrm>
        </p:grpSpPr>
        <p:sp>
          <p:nvSpPr>
            <p:cNvPr id="537" name="Freeform 46"/>
            <p:cNvSpPr/>
            <p:nvPr/>
          </p:nvSpPr>
          <p:spPr>
            <a:xfrm>
              <a:off x="1600200" y="2505600"/>
              <a:ext cx="1447920" cy="8658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865800"/>
                <a:gd name="textAreaBottom" fmla="*/ 866160 h 865800"/>
              </a:gdLst>
              <a:ahLst/>
              <a:rect l="textAreaLeft" t="textAreaTop" r="textAreaRight" b="textAreaBottom"/>
              <a:pathLst>
                <a:path w="912" h="728">
                  <a:moveTo>
                    <a:pt x="0" y="584"/>
                  </a:moveTo>
                  <a:lnTo>
                    <a:pt x="400" y="0"/>
                  </a:lnTo>
                  <a:lnTo>
                    <a:pt x="912" y="440"/>
                  </a:lnTo>
                  <a:lnTo>
                    <a:pt x="768" y="584"/>
                  </a:lnTo>
                  <a:lnTo>
                    <a:pt x="480" y="728"/>
                  </a:lnTo>
                  <a:lnTo>
                    <a:pt x="192" y="728"/>
                  </a:lnTo>
                  <a:lnTo>
                    <a:pt x="96" y="632"/>
                  </a:lnTo>
                  <a:lnTo>
                    <a:pt x="0" y="63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0"/>
            <p:cNvSpPr/>
            <p:nvPr/>
          </p:nvSpPr>
          <p:spPr>
            <a:xfrm>
              <a:off x="1330200" y="2494080"/>
              <a:ext cx="2162160" cy="1033560"/>
            </a:xfrm>
            <a:custGeom>
              <a:avLst/>
              <a:gdLst>
                <a:gd name="textAreaLeft" fmla="*/ 0 w 2162160"/>
                <a:gd name="textAreaRight" fmla="*/ 2162520 w 2162160"/>
                <a:gd name="textAreaTop" fmla="*/ 0 h 1033560"/>
                <a:gd name="textAreaBottom" fmla="*/ 1033920 h 1033560"/>
              </a:gdLst>
              <a:ahLst/>
              <a:rect l="textAreaLeft" t="textAreaTop" r="textAreaRight" b="textAreaBottom"/>
              <a:pathLst>
                <a:path w="1808" h="1152">
                  <a:moveTo>
                    <a:pt x="0" y="1152"/>
                  </a:moveTo>
                  <a:lnTo>
                    <a:pt x="752" y="0"/>
                  </a:lnTo>
                  <a:lnTo>
                    <a:pt x="1808" y="91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1023840" y="3570480"/>
              <a:ext cx="2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3435480" y="3311280"/>
              <a:ext cx="29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Text Box 2"/>
          <p:cNvSpPr/>
          <p:nvPr/>
        </p:nvSpPr>
        <p:spPr>
          <a:xfrm>
            <a:off x="762120" y="28584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похожи и чем  различаются углы АОВ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3"/>
          <p:cNvGrpSpPr/>
          <p:nvPr/>
        </p:nvGrpSpPr>
        <p:grpSpPr>
          <a:xfrm>
            <a:off x="76320" y="114480"/>
            <a:ext cx="8991000" cy="4886280"/>
            <a:chOff x="76320" y="114480"/>
            <a:chExt cx="8991000" cy="4886280"/>
          </a:xfrm>
        </p:grpSpPr>
        <p:sp>
          <p:nvSpPr>
            <p:cNvPr id="543" name="Freeform 4"/>
            <p:cNvSpPr/>
            <p:nvPr/>
          </p:nvSpPr>
          <p:spPr>
            <a:xfrm>
              <a:off x="541800" y="134280"/>
              <a:ext cx="8086320" cy="108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5"/>
            <p:cNvSpPr/>
            <p:nvPr/>
          </p:nvSpPr>
          <p:spPr>
            <a:xfrm>
              <a:off x="581400" y="4990680"/>
              <a:ext cx="8060400" cy="108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6"/>
            <p:cNvSpPr/>
            <p:nvPr/>
          </p:nvSpPr>
          <p:spPr>
            <a:xfrm>
              <a:off x="9027360" y="452880"/>
              <a:ext cx="1440" cy="41994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199400"/>
                <a:gd name="textAreaBottom" fmla="*/ 4199760 h 419940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7"/>
            <p:cNvSpPr/>
            <p:nvPr/>
          </p:nvSpPr>
          <p:spPr>
            <a:xfrm>
              <a:off x="129240" y="452880"/>
              <a:ext cx="26640" cy="41994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199400"/>
                <a:gd name="textAreaBottom" fmla="*/ 4199760 h 419940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8"/>
            <p:cNvSpPr/>
            <p:nvPr/>
          </p:nvSpPr>
          <p:spPr>
            <a:xfrm>
              <a:off x="129240" y="4642560"/>
              <a:ext cx="451800" cy="35820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358200"/>
                <a:gd name="textAreaBottom" fmla="*/ 358560 h 35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9"/>
            <p:cNvSpPr/>
            <p:nvPr/>
          </p:nvSpPr>
          <p:spPr>
            <a:xfrm flipH="1">
              <a:off x="8615160" y="4632120"/>
              <a:ext cx="452160" cy="35820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358200"/>
                <a:gd name="textAreaBottom" fmla="*/ 358560 h 35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 flipH="1" rot="16200000">
              <a:off x="8658720" y="44280"/>
              <a:ext cx="338400" cy="478800"/>
            </a:xfrm>
            <a:custGeom>
              <a:avLst/>
              <a:gdLst>
                <a:gd name="textAreaLeft" fmla="*/ 360 w 338400"/>
                <a:gd name="textAreaRight" fmla="*/ 339120 w 338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1"/>
            <p:cNvSpPr/>
            <p:nvPr/>
          </p:nvSpPr>
          <p:spPr>
            <a:xfrm rot="5400000">
              <a:off x="146520" y="43920"/>
              <a:ext cx="338400" cy="47880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31"/>
          <p:cNvGrpSpPr/>
          <p:nvPr/>
        </p:nvGrpSpPr>
        <p:grpSpPr>
          <a:xfrm>
            <a:off x="609480" y="1371600"/>
            <a:ext cx="3216240" cy="2371680"/>
            <a:chOff x="609480" y="1371600"/>
            <a:chExt cx="3216240" cy="2371680"/>
          </a:xfrm>
        </p:grpSpPr>
        <p:sp>
          <p:nvSpPr>
            <p:cNvPr id="552" name="Oval 13"/>
            <p:cNvSpPr/>
            <p:nvPr/>
          </p:nvSpPr>
          <p:spPr>
            <a:xfrm>
              <a:off x="609480" y="1371600"/>
              <a:ext cx="3216240" cy="2371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14"/>
            <p:cNvSpPr/>
            <p:nvPr/>
          </p:nvSpPr>
          <p:spPr>
            <a:xfrm>
              <a:off x="2168280" y="2483640"/>
              <a:ext cx="97920" cy="73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5"/>
            <p:cNvSpPr/>
            <p:nvPr/>
          </p:nvSpPr>
          <p:spPr>
            <a:xfrm>
              <a:off x="1886400" y="2234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Group 39"/>
          <p:cNvGrpSpPr/>
          <p:nvPr/>
        </p:nvGrpSpPr>
        <p:grpSpPr>
          <a:xfrm>
            <a:off x="5105520" y="1600200"/>
            <a:ext cx="3276360" cy="2371680"/>
            <a:chOff x="5105520" y="1600200"/>
            <a:chExt cx="3276360" cy="2371680"/>
          </a:xfrm>
        </p:grpSpPr>
        <p:sp>
          <p:nvSpPr>
            <p:cNvPr id="556" name="Oval 40"/>
            <p:cNvSpPr/>
            <p:nvPr/>
          </p:nvSpPr>
          <p:spPr>
            <a:xfrm>
              <a:off x="5105520" y="1600200"/>
              <a:ext cx="3276360" cy="2371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41"/>
            <p:cNvSpPr/>
            <p:nvPr/>
          </p:nvSpPr>
          <p:spPr>
            <a:xfrm>
              <a:off x="6693480" y="2712240"/>
              <a:ext cx="99720" cy="73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42"/>
            <p:cNvSpPr/>
            <p:nvPr/>
          </p:nvSpPr>
          <p:spPr>
            <a:xfrm>
              <a:off x="6405840" y="24627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Oval 45"/>
          <p:cNvSpPr/>
          <p:nvPr/>
        </p:nvSpPr>
        <p:spPr>
          <a:xfrm>
            <a:off x="6858000" y="1542960"/>
            <a:ext cx="15228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52"/>
          <p:cNvSpPr/>
          <p:nvPr/>
        </p:nvSpPr>
        <p:spPr>
          <a:xfrm>
            <a:off x="2133720" y="2457360"/>
            <a:ext cx="15228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2"/>
          <p:cNvSpPr/>
          <p:nvPr/>
        </p:nvSpPr>
        <p:spPr>
          <a:xfrm>
            <a:off x="2988000" y="210960"/>
            <a:ext cx="35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уга окру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27"/>
          <p:cNvGrpSpPr/>
          <p:nvPr/>
        </p:nvGrpSpPr>
        <p:grpSpPr>
          <a:xfrm>
            <a:off x="76320" y="114480"/>
            <a:ext cx="8991000" cy="4886280"/>
            <a:chOff x="76320" y="114480"/>
            <a:chExt cx="8991000" cy="4886280"/>
          </a:xfrm>
        </p:grpSpPr>
        <p:sp>
          <p:nvSpPr>
            <p:cNvPr id="563" name="Freeform 28"/>
            <p:cNvSpPr/>
            <p:nvPr/>
          </p:nvSpPr>
          <p:spPr>
            <a:xfrm>
              <a:off x="541800" y="134280"/>
              <a:ext cx="8086320" cy="108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29"/>
            <p:cNvSpPr/>
            <p:nvPr/>
          </p:nvSpPr>
          <p:spPr>
            <a:xfrm>
              <a:off x="581400" y="4990680"/>
              <a:ext cx="8060400" cy="108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30"/>
            <p:cNvSpPr/>
            <p:nvPr/>
          </p:nvSpPr>
          <p:spPr>
            <a:xfrm>
              <a:off x="9027360" y="452880"/>
              <a:ext cx="1440" cy="41994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199400"/>
                <a:gd name="textAreaBottom" fmla="*/ 4199760 h 419940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31"/>
            <p:cNvSpPr/>
            <p:nvPr/>
          </p:nvSpPr>
          <p:spPr>
            <a:xfrm>
              <a:off x="129240" y="452880"/>
              <a:ext cx="26640" cy="41994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199400"/>
                <a:gd name="textAreaBottom" fmla="*/ 4199760 h 419940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2"/>
            <p:cNvSpPr/>
            <p:nvPr/>
          </p:nvSpPr>
          <p:spPr>
            <a:xfrm>
              <a:off x="129240" y="4642560"/>
              <a:ext cx="451800" cy="35820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358200"/>
                <a:gd name="textAreaBottom" fmla="*/ 358560 h 35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3"/>
            <p:cNvSpPr/>
            <p:nvPr/>
          </p:nvSpPr>
          <p:spPr>
            <a:xfrm flipH="1">
              <a:off x="8615160" y="4632120"/>
              <a:ext cx="452160" cy="35820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358200"/>
                <a:gd name="textAreaBottom" fmla="*/ 358560 h 35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4"/>
            <p:cNvSpPr/>
            <p:nvPr/>
          </p:nvSpPr>
          <p:spPr>
            <a:xfrm flipH="1" rot="16200000">
              <a:off x="8658720" y="44280"/>
              <a:ext cx="338400" cy="478800"/>
            </a:xfrm>
            <a:custGeom>
              <a:avLst/>
              <a:gdLst>
                <a:gd name="textAreaLeft" fmla="*/ 360 w 338400"/>
                <a:gd name="textAreaRight" fmla="*/ 339120 w 338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5"/>
            <p:cNvSpPr/>
            <p:nvPr/>
          </p:nvSpPr>
          <p:spPr>
            <a:xfrm rot="5400000">
              <a:off x="146520" y="43920"/>
              <a:ext cx="338400" cy="47880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39"/>
          <p:cNvGrpSpPr/>
          <p:nvPr/>
        </p:nvGrpSpPr>
        <p:grpSpPr>
          <a:xfrm>
            <a:off x="822240" y="1143000"/>
            <a:ext cx="4267080" cy="3142800"/>
            <a:chOff x="822240" y="1143000"/>
            <a:chExt cx="4267080" cy="3142800"/>
          </a:xfrm>
        </p:grpSpPr>
        <p:sp>
          <p:nvSpPr>
            <p:cNvPr id="572" name="Oval 36"/>
            <p:cNvSpPr/>
            <p:nvPr/>
          </p:nvSpPr>
          <p:spPr>
            <a:xfrm>
              <a:off x="822240" y="1143000"/>
              <a:ext cx="4267080" cy="3142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37"/>
            <p:cNvSpPr/>
            <p:nvPr/>
          </p:nvSpPr>
          <p:spPr>
            <a:xfrm>
              <a:off x="2891160" y="2616120"/>
              <a:ext cx="128880" cy="9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38"/>
            <p:cNvSpPr/>
            <p:nvPr/>
          </p:nvSpPr>
          <p:spPr>
            <a:xfrm>
              <a:off x="2308680" y="26161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66"/>
          <p:cNvGrpSpPr/>
          <p:nvPr/>
        </p:nvGrpSpPr>
        <p:grpSpPr>
          <a:xfrm>
            <a:off x="2727360" y="800280"/>
            <a:ext cx="1996920" cy="3602880"/>
            <a:chOff x="2727360" y="800280"/>
            <a:chExt cx="1996920" cy="3602880"/>
          </a:xfrm>
        </p:grpSpPr>
        <p:sp>
          <p:nvSpPr>
            <p:cNvPr id="576" name="Text Box 57"/>
            <p:cNvSpPr/>
            <p:nvPr/>
          </p:nvSpPr>
          <p:spPr>
            <a:xfrm>
              <a:off x="2727360" y="80028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58"/>
            <p:cNvSpPr/>
            <p:nvPr/>
          </p:nvSpPr>
          <p:spPr>
            <a:xfrm>
              <a:off x="4327560" y="394344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8" name="Object 59"/>
              <p:cNvSpPr txBox="1"/>
              <p:nvPr/>
            </p:nvSpPr>
            <p:spPr>
              <a:xfrm>
                <a:off x="5867280" y="800280"/>
                <a:ext cx="15242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9" name="Text Box 60"/>
          <p:cNvSpPr/>
          <p:nvPr/>
        </p:nvSpPr>
        <p:spPr>
          <a:xfrm>
            <a:off x="4937040" y="18860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Object 61"/>
              <p:cNvSpPr txBox="1"/>
              <p:nvPr/>
            </p:nvSpPr>
            <p:spPr>
              <a:xfrm>
                <a:off x="5722920" y="1542960"/>
                <a:ext cx="19670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М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Object 63"/>
              <p:cNvSpPr txBox="1"/>
              <p:nvPr/>
            </p:nvSpPr>
            <p:spPr>
              <a:xfrm>
                <a:off x="5891040" y="2496960"/>
                <a:ext cx="191772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NВ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2" name="Group 65"/>
          <p:cNvGrpSpPr/>
          <p:nvPr/>
        </p:nvGrpSpPr>
        <p:grpSpPr>
          <a:xfrm>
            <a:off x="304920" y="618120"/>
            <a:ext cx="4746600" cy="4134960"/>
            <a:chOff x="304920" y="618120"/>
            <a:chExt cx="4746600" cy="4134960"/>
          </a:xfrm>
        </p:grpSpPr>
        <p:sp>
          <p:nvSpPr>
            <p:cNvPr id="583" name="Text Box 62"/>
            <p:cNvSpPr/>
            <p:nvPr/>
          </p:nvSpPr>
          <p:spPr>
            <a:xfrm>
              <a:off x="304920" y="262908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Arc 64"/>
            <p:cNvSpPr/>
            <p:nvPr/>
          </p:nvSpPr>
          <p:spPr>
            <a:xfrm rot="11919000">
              <a:off x="835920" y="1148760"/>
              <a:ext cx="3824280" cy="3073320"/>
            </a:xfrm>
            <a:custGeom>
              <a:avLst/>
              <a:gdLst>
                <a:gd name="textAreaLeft" fmla="*/ 0 w 3824280"/>
                <a:gd name="textAreaRight" fmla="*/ 3824640 w 382428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fill="none" w="39189" h="42096">
                  <a:moveTo>
                    <a:pt x="0" y="9062"/>
                  </a:moveTo>
                  <a:cubicBezTo>
                    <a:pt x="4053" y="3375"/>
                    <a:pt x="10605" y="-1"/>
                    <a:pt x="17589" y="0"/>
                  </a:cubicBezTo>
                  <a:cubicBezTo>
                    <a:pt x="29518" y="0"/>
                    <a:pt x="39189" y="9670"/>
                    <a:pt x="39189" y="21600"/>
                  </a:cubicBezTo>
                  <a:cubicBezTo>
                    <a:pt x="39189" y="30902"/>
                    <a:pt x="33232" y="39160"/>
                    <a:pt x="24405" y="42096"/>
                  </a:cubicBezTo>
                </a:path>
                <a:path stroke="0" w="39189" h="42096">
                  <a:moveTo>
                    <a:pt x="0" y="9062"/>
                  </a:moveTo>
                  <a:cubicBezTo>
                    <a:pt x="4053" y="3375"/>
                    <a:pt x="10605" y="-1"/>
                    <a:pt x="17589" y="0"/>
                  </a:cubicBezTo>
                  <a:cubicBezTo>
                    <a:pt x="29518" y="0"/>
                    <a:pt x="39189" y="9670"/>
                    <a:pt x="39189" y="21600"/>
                  </a:cubicBezTo>
                  <a:cubicBezTo>
                    <a:pt x="39189" y="30902"/>
                    <a:pt x="33232" y="39160"/>
                    <a:pt x="24405" y="42096"/>
                  </a:cubicBezTo>
                  <a:lnTo>
                    <a:pt x="17589" y="21600"/>
                  </a:lnTo>
                  <a:lnTo>
                    <a:pt x="0" y="9062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Group 56"/>
          <p:cNvGrpSpPr/>
          <p:nvPr/>
        </p:nvGrpSpPr>
        <p:grpSpPr>
          <a:xfrm>
            <a:off x="2879640" y="1085760"/>
            <a:ext cx="2209680" cy="2914560"/>
            <a:chOff x="2879640" y="1085760"/>
            <a:chExt cx="2209680" cy="2914560"/>
          </a:xfrm>
        </p:grpSpPr>
        <p:sp>
          <p:nvSpPr>
            <p:cNvPr id="586" name="Arc 53"/>
            <p:cNvSpPr/>
            <p:nvPr/>
          </p:nvSpPr>
          <p:spPr>
            <a:xfrm>
              <a:off x="2955960" y="1143000"/>
              <a:ext cx="2133360" cy="2806560"/>
            </a:xfrm>
            <a:custGeom>
              <a:avLst/>
              <a:gdLst>
                <a:gd name="textAreaLeft" fmla="*/ 0 w 2133360"/>
                <a:gd name="textAreaRight" fmla="*/ 2133720 w 2133360"/>
                <a:gd name="textAreaTop" fmla="*/ 0 h 2806560"/>
                <a:gd name="textAreaBottom" fmla="*/ 2806920 h 2806560"/>
              </a:gdLst>
              <a:ahLst/>
              <a:rect l="textAreaLeft" t="textAreaTop" r="textAreaRight" b="textAreaBottom"/>
              <a:pathLst>
                <a:path fill="none" w="21600" h="38565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8217"/>
                    <a:pt x="18566" y="34469"/>
                    <a:pt x="13369" y="38564"/>
                  </a:cubicBezTo>
                </a:path>
                <a:path stroke="0" w="21600" h="38565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8217"/>
                    <a:pt x="18566" y="34469"/>
                    <a:pt x="13369" y="3856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54"/>
            <p:cNvSpPr/>
            <p:nvPr/>
          </p:nvSpPr>
          <p:spPr>
            <a:xfrm>
              <a:off x="2879640" y="1085760"/>
              <a:ext cx="15228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55"/>
            <p:cNvSpPr/>
            <p:nvPr/>
          </p:nvSpPr>
          <p:spPr>
            <a:xfrm>
              <a:off x="4174920" y="3886200"/>
              <a:ext cx="15264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Group 51"/>
          <p:cNvGrpSpPr/>
          <p:nvPr/>
        </p:nvGrpSpPr>
        <p:grpSpPr>
          <a:xfrm>
            <a:off x="5519880" y="1257480"/>
            <a:ext cx="2711160" cy="3001320"/>
            <a:chOff x="5519880" y="1257480"/>
            <a:chExt cx="2711160" cy="3001320"/>
          </a:xfrm>
        </p:grpSpPr>
        <p:sp>
          <p:nvSpPr>
            <p:cNvPr id="590" name="Freeform 47"/>
            <p:cNvSpPr/>
            <p:nvPr/>
          </p:nvSpPr>
          <p:spPr>
            <a:xfrm>
              <a:off x="6426360" y="1600200"/>
              <a:ext cx="990360" cy="100008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0 h 1000080"/>
                <a:gd name="textAreaBottom" fmla="*/ 1000440 h 1000080"/>
              </a:gdLst>
              <a:ahLst/>
              <a:rect l="textAreaLeft" t="textAreaTop" r="textAreaRight" b="textAreaBottom"/>
              <a:pathLst>
                <a:path w="624" h="840">
                  <a:moveTo>
                    <a:pt x="64" y="632"/>
                  </a:moveTo>
                  <a:lnTo>
                    <a:pt x="336" y="0"/>
                  </a:lnTo>
                  <a:lnTo>
                    <a:pt x="624" y="760"/>
                  </a:lnTo>
                  <a:lnTo>
                    <a:pt x="624" y="744"/>
                  </a:lnTo>
                  <a:lnTo>
                    <a:pt x="416" y="728"/>
                  </a:lnTo>
                  <a:lnTo>
                    <a:pt x="320" y="840"/>
                  </a:lnTo>
                  <a:lnTo>
                    <a:pt x="192" y="824"/>
                  </a:lnTo>
                  <a:lnTo>
                    <a:pt x="16" y="776"/>
                  </a:lnTo>
                  <a:lnTo>
                    <a:pt x="0" y="808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38"/>
            <p:cNvSpPr/>
            <p:nvPr/>
          </p:nvSpPr>
          <p:spPr>
            <a:xfrm>
              <a:off x="5826240" y="1590840"/>
              <a:ext cx="2162160" cy="2165040"/>
            </a:xfrm>
            <a:custGeom>
              <a:avLst/>
              <a:gdLst>
                <a:gd name="textAreaLeft" fmla="*/ 0 w 2162160"/>
                <a:gd name="textAreaRight" fmla="*/ 2162520 w 2162160"/>
                <a:gd name="textAreaTop" fmla="*/ 0 h 2165040"/>
                <a:gd name="textAreaBottom" fmla="*/ 2165400 h 2165040"/>
              </a:gdLst>
              <a:ahLst/>
              <a:rect l="textAreaLeft" t="textAreaTop" r="textAreaRight" b="textAreaBottom"/>
              <a:pathLst>
                <a:path w="1362" h="1819">
                  <a:moveTo>
                    <a:pt x="0" y="1819"/>
                  </a:moveTo>
                  <a:lnTo>
                    <a:pt x="698" y="0"/>
                  </a:lnTo>
                  <a:lnTo>
                    <a:pt x="1362" y="163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 Box 43"/>
            <p:cNvSpPr/>
            <p:nvPr/>
          </p:nvSpPr>
          <p:spPr>
            <a:xfrm>
              <a:off x="5519880" y="3799080"/>
              <a:ext cx="2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 Box 44"/>
            <p:cNvSpPr/>
            <p:nvPr/>
          </p:nvSpPr>
          <p:spPr>
            <a:xfrm>
              <a:off x="7931160" y="3539520"/>
              <a:ext cx="29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50"/>
            <p:cNvSpPr/>
            <p:nvPr/>
          </p:nvSpPr>
          <p:spPr>
            <a:xfrm>
              <a:off x="6781680" y="1257480"/>
              <a:ext cx="2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49"/>
          <p:cNvGrpSpPr/>
          <p:nvPr/>
        </p:nvGrpSpPr>
        <p:grpSpPr>
          <a:xfrm>
            <a:off x="1023840" y="2494080"/>
            <a:ext cx="2711520" cy="1536120"/>
            <a:chOff x="1023840" y="2494080"/>
            <a:chExt cx="2711520" cy="1536120"/>
          </a:xfrm>
        </p:grpSpPr>
        <p:sp>
          <p:nvSpPr>
            <p:cNvPr id="596" name="Freeform 46"/>
            <p:cNvSpPr/>
            <p:nvPr/>
          </p:nvSpPr>
          <p:spPr>
            <a:xfrm>
              <a:off x="1600200" y="2505600"/>
              <a:ext cx="1447920" cy="8658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865800"/>
                <a:gd name="textAreaBottom" fmla="*/ 866160 h 865800"/>
              </a:gdLst>
              <a:ahLst/>
              <a:rect l="textAreaLeft" t="textAreaTop" r="textAreaRight" b="textAreaBottom"/>
              <a:pathLst>
                <a:path w="912" h="728">
                  <a:moveTo>
                    <a:pt x="0" y="584"/>
                  </a:moveTo>
                  <a:lnTo>
                    <a:pt x="400" y="0"/>
                  </a:lnTo>
                  <a:lnTo>
                    <a:pt x="912" y="440"/>
                  </a:lnTo>
                  <a:lnTo>
                    <a:pt x="768" y="584"/>
                  </a:lnTo>
                  <a:lnTo>
                    <a:pt x="480" y="728"/>
                  </a:lnTo>
                  <a:lnTo>
                    <a:pt x="192" y="728"/>
                  </a:lnTo>
                  <a:lnTo>
                    <a:pt x="96" y="632"/>
                  </a:lnTo>
                  <a:lnTo>
                    <a:pt x="0" y="63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30"/>
            <p:cNvSpPr/>
            <p:nvPr/>
          </p:nvSpPr>
          <p:spPr>
            <a:xfrm>
              <a:off x="1330200" y="2494080"/>
              <a:ext cx="2162160" cy="1033560"/>
            </a:xfrm>
            <a:custGeom>
              <a:avLst/>
              <a:gdLst>
                <a:gd name="textAreaLeft" fmla="*/ 0 w 2162160"/>
                <a:gd name="textAreaRight" fmla="*/ 2162520 w 2162160"/>
                <a:gd name="textAreaTop" fmla="*/ 0 h 1033560"/>
                <a:gd name="textAreaBottom" fmla="*/ 1033920 h 1033560"/>
              </a:gdLst>
              <a:ahLst/>
              <a:rect l="textAreaLeft" t="textAreaTop" r="textAreaRight" b="textAreaBottom"/>
              <a:pathLst>
                <a:path w="1808" h="1152">
                  <a:moveTo>
                    <a:pt x="0" y="1152"/>
                  </a:moveTo>
                  <a:lnTo>
                    <a:pt x="752" y="0"/>
                  </a:lnTo>
                  <a:lnTo>
                    <a:pt x="1808" y="91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17"/>
            <p:cNvSpPr/>
            <p:nvPr/>
          </p:nvSpPr>
          <p:spPr>
            <a:xfrm>
              <a:off x="1023840" y="3570480"/>
              <a:ext cx="2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18"/>
            <p:cNvSpPr/>
            <p:nvPr/>
          </p:nvSpPr>
          <p:spPr>
            <a:xfrm>
              <a:off x="3435480" y="3311280"/>
              <a:ext cx="29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3"/>
          <p:cNvGrpSpPr/>
          <p:nvPr/>
        </p:nvGrpSpPr>
        <p:grpSpPr>
          <a:xfrm>
            <a:off x="76320" y="114480"/>
            <a:ext cx="8991000" cy="4886280"/>
            <a:chOff x="76320" y="114480"/>
            <a:chExt cx="8991000" cy="4886280"/>
          </a:xfrm>
        </p:grpSpPr>
        <p:sp>
          <p:nvSpPr>
            <p:cNvPr id="601" name="Freeform 4"/>
            <p:cNvSpPr/>
            <p:nvPr/>
          </p:nvSpPr>
          <p:spPr>
            <a:xfrm>
              <a:off x="541800" y="134280"/>
              <a:ext cx="8086320" cy="108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5"/>
            <p:cNvSpPr/>
            <p:nvPr/>
          </p:nvSpPr>
          <p:spPr>
            <a:xfrm>
              <a:off x="581400" y="4990680"/>
              <a:ext cx="8060400" cy="108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6"/>
            <p:cNvSpPr/>
            <p:nvPr/>
          </p:nvSpPr>
          <p:spPr>
            <a:xfrm>
              <a:off x="9027360" y="452880"/>
              <a:ext cx="1440" cy="41994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199400"/>
                <a:gd name="textAreaBottom" fmla="*/ 4199760 h 419940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7"/>
            <p:cNvSpPr/>
            <p:nvPr/>
          </p:nvSpPr>
          <p:spPr>
            <a:xfrm>
              <a:off x="129240" y="452880"/>
              <a:ext cx="26640" cy="41994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199400"/>
                <a:gd name="textAreaBottom" fmla="*/ 4199760 h 419940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8"/>
            <p:cNvSpPr/>
            <p:nvPr/>
          </p:nvSpPr>
          <p:spPr>
            <a:xfrm>
              <a:off x="129240" y="4642560"/>
              <a:ext cx="451800" cy="35820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358200"/>
                <a:gd name="textAreaBottom" fmla="*/ 358560 h 35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9"/>
            <p:cNvSpPr/>
            <p:nvPr/>
          </p:nvSpPr>
          <p:spPr>
            <a:xfrm flipH="1">
              <a:off x="8615160" y="4632120"/>
              <a:ext cx="452160" cy="35820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358200"/>
                <a:gd name="textAreaBottom" fmla="*/ 358560 h 35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0"/>
            <p:cNvSpPr/>
            <p:nvPr/>
          </p:nvSpPr>
          <p:spPr>
            <a:xfrm flipH="1" rot="16200000">
              <a:off x="8658720" y="44280"/>
              <a:ext cx="338400" cy="478800"/>
            </a:xfrm>
            <a:custGeom>
              <a:avLst/>
              <a:gdLst>
                <a:gd name="textAreaLeft" fmla="*/ 360 w 338400"/>
                <a:gd name="textAreaRight" fmla="*/ 339120 w 338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1"/>
            <p:cNvSpPr/>
            <p:nvPr/>
          </p:nvSpPr>
          <p:spPr>
            <a:xfrm rot="5400000">
              <a:off x="146520" y="43920"/>
              <a:ext cx="338400" cy="47880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Group 31"/>
          <p:cNvGrpSpPr/>
          <p:nvPr/>
        </p:nvGrpSpPr>
        <p:grpSpPr>
          <a:xfrm>
            <a:off x="609480" y="1371600"/>
            <a:ext cx="3216240" cy="2371680"/>
            <a:chOff x="609480" y="1371600"/>
            <a:chExt cx="3216240" cy="2371680"/>
          </a:xfrm>
        </p:grpSpPr>
        <p:sp>
          <p:nvSpPr>
            <p:cNvPr id="610" name="Oval 13"/>
            <p:cNvSpPr/>
            <p:nvPr/>
          </p:nvSpPr>
          <p:spPr>
            <a:xfrm>
              <a:off x="609480" y="1371600"/>
              <a:ext cx="3216240" cy="2371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4"/>
            <p:cNvSpPr/>
            <p:nvPr/>
          </p:nvSpPr>
          <p:spPr>
            <a:xfrm>
              <a:off x="2168280" y="2483640"/>
              <a:ext cx="97920" cy="73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 Box 15"/>
            <p:cNvSpPr/>
            <p:nvPr/>
          </p:nvSpPr>
          <p:spPr>
            <a:xfrm>
              <a:off x="1886400" y="2234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39"/>
          <p:cNvGrpSpPr/>
          <p:nvPr/>
        </p:nvGrpSpPr>
        <p:grpSpPr>
          <a:xfrm>
            <a:off x="5089680" y="1619280"/>
            <a:ext cx="3276360" cy="2371680"/>
            <a:chOff x="5089680" y="1619280"/>
            <a:chExt cx="3276360" cy="2371680"/>
          </a:xfrm>
        </p:grpSpPr>
        <p:sp>
          <p:nvSpPr>
            <p:cNvPr id="614" name="Oval 40"/>
            <p:cNvSpPr/>
            <p:nvPr/>
          </p:nvSpPr>
          <p:spPr>
            <a:xfrm>
              <a:off x="5089680" y="1619280"/>
              <a:ext cx="3276360" cy="2371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41"/>
            <p:cNvSpPr/>
            <p:nvPr/>
          </p:nvSpPr>
          <p:spPr>
            <a:xfrm>
              <a:off x="6677640" y="2731320"/>
              <a:ext cx="99720" cy="73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42"/>
            <p:cNvSpPr/>
            <p:nvPr/>
          </p:nvSpPr>
          <p:spPr>
            <a:xfrm>
              <a:off x="6390000" y="2481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TextBox 19"/>
          <p:cNvSpPr/>
          <p:nvPr/>
        </p:nvSpPr>
        <p:spPr>
          <a:xfrm>
            <a:off x="625320" y="452520"/>
            <a:ext cx="35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ОВ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Группа 16"/>
          <p:cNvGrpSpPr/>
          <p:nvPr/>
        </p:nvGrpSpPr>
        <p:grpSpPr>
          <a:xfrm>
            <a:off x="2597040" y="452520"/>
            <a:ext cx="1600200" cy="703440"/>
            <a:chOff x="2597040" y="452520"/>
            <a:chExt cx="1600200" cy="703440"/>
          </a:xfrm>
        </p:grpSpPr>
        <p:sp>
          <p:nvSpPr>
            <p:cNvPr id="619" name="TextBox 17"/>
            <p:cNvSpPr/>
            <p:nvPr/>
          </p:nvSpPr>
          <p:spPr>
            <a:xfrm>
              <a:off x="3037680" y="452520"/>
              <a:ext cx="1159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Дуга 37"/>
            <p:cNvSpPr/>
            <p:nvPr/>
          </p:nvSpPr>
          <p:spPr>
            <a:xfrm flipH="1" flipV="1" rot="16200000">
              <a:off x="2667600" y="381960"/>
              <a:ext cx="300240" cy="441360"/>
            </a:xfrm>
            <a:custGeom>
              <a:avLst/>
              <a:gdLst>
                <a:gd name="textAreaLeft" fmla="*/ 140760 w 300240"/>
                <a:gd name="textAreaRight" fmla="*/ 300600 w 300240"/>
                <a:gd name="textAreaTop" fmla="*/ 360 h 441360"/>
                <a:gd name="textAreaBottom" fmla="*/ 442080 h 441360"/>
              </a:gdLst>
              <a:ahLst/>
              <a:rect l="textAreaLeft" t="textAreaTop" r="textAreaRight" b="textAreaBottom"/>
              <a:pathLst>
                <a:path stroke="0" w="304935" h="1045730">
                  <a:moveTo>
                    <a:pt x="152468" y="0"/>
                  </a:moveTo>
                  <a:lnTo>
                    <a:pt x="152468" y="0"/>
                  </a:lnTo>
                  <a:arcTo wR="152468" hR="522865" stAng="-5399993" swAng="10863184"/>
                  <a:lnTo>
                    <a:pt x="152468" y="522865"/>
                  </a:lnTo>
                  <a:close/>
                </a:path>
                <a:path fill="none" w="304935" h="1045730">
                  <a:moveTo>
                    <a:pt x="152468" y="0"/>
                  </a:moveTo>
                  <a:lnTo>
                    <a:pt x="152468" y="0"/>
                  </a:lnTo>
                  <a:arcTo wR="152468" hR="522865" stAng="-5399993" swAng="10863184"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TextBox 19"/>
          <p:cNvSpPr/>
          <p:nvPr/>
        </p:nvSpPr>
        <p:spPr>
          <a:xfrm>
            <a:off x="4659480" y="669960"/>
            <a:ext cx="357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CE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Группа 16"/>
          <p:cNvGrpSpPr/>
          <p:nvPr/>
        </p:nvGrpSpPr>
        <p:grpSpPr>
          <a:xfrm>
            <a:off x="7280280" y="636480"/>
            <a:ext cx="1601640" cy="703440"/>
            <a:chOff x="7280280" y="636480"/>
            <a:chExt cx="1601640" cy="703440"/>
          </a:xfrm>
        </p:grpSpPr>
        <p:sp>
          <p:nvSpPr>
            <p:cNvPr id="623" name="TextBox 17"/>
            <p:cNvSpPr/>
            <p:nvPr/>
          </p:nvSpPr>
          <p:spPr>
            <a:xfrm>
              <a:off x="7721280" y="636480"/>
              <a:ext cx="1160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Дуга 41"/>
            <p:cNvSpPr/>
            <p:nvPr/>
          </p:nvSpPr>
          <p:spPr>
            <a:xfrm flipH="1" flipV="1" rot="16200000">
              <a:off x="7351200" y="565560"/>
              <a:ext cx="299520" cy="441360"/>
            </a:xfrm>
            <a:custGeom>
              <a:avLst/>
              <a:gdLst>
                <a:gd name="textAreaLeft" fmla="*/ 140760 w 299520"/>
                <a:gd name="textAreaRight" fmla="*/ 300240 w 299520"/>
                <a:gd name="textAreaTop" fmla="*/ 360 h 441360"/>
                <a:gd name="textAreaBottom" fmla="*/ 442080 h 441360"/>
              </a:gdLst>
              <a:ahLst/>
              <a:rect l="textAreaLeft" t="textAreaTop" r="textAreaRight" b="textAreaBottom"/>
              <a:pathLst>
                <a:path stroke="0" w="304876" h="1044693">
                  <a:moveTo>
                    <a:pt x="152439" y="0"/>
                  </a:moveTo>
                  <a:lnTo>
                    <a:pt x="152439" y="0"/>
                  </a:lnTo>
                  <a:arcTo wR="152438" hR="522347" stAng="-5399993" swAng="10863180"/>
                  <a:lnTo>
                    <a:pt x="152438" y="522347"/>
                  </a:lnTo>
                  <a:close/>
                </a:path>
                <a:path fill="none" w="304876" h="1044693">
                  <a:moveTo>
                    <a:pt x="152439" y="0"/>
                  </a:moveTo>
                  <a:lnTo>
                    <a:pt x="152439" y="0"/>
                  </a:lnTo>
                  <a:arcTo wR="152438" hR="522347" stAng="-5399993" swAng="10863180"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Прямоугольник 3"/>
          <p:cNvSpPr/>
          <p:nvPr/>
        </p:nvSpPr>
        <p:spPr>
          <a:xfrm>
            <a:off x="625320" y="414360"/>
            <a:ext cx="3718080" cy="80496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Прямоугольник 38"/>
          <p:cNvSpPr/>
          <p:nvPr/>
        </p:nvSpPr>
        <p:spPr>
          <a:xfrm>
            <a:off x="4772160" y="452520"/>
            <a:ext cx="3816360" cy="88416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Прямая соединительная линия 2"/>
          <p:cNvSpPr/>
          <p:nvPr/>
        </p:nvSpPr>
        <p:spPr>
          <a:xfrm flipV="1">
            <a:off x="2217600" y="1590840"/>
            <a:ext cx="830520" cy="9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Прямая соединительная линия 42"/>
          <p:cNvSpPr/>
          <p:nvPr/>
        </p:nvSpPr>
        <p:spPr>
          <a:xfrm flipV="1">
            <a:off x="625320" y="2520720"/>
            <a:ext cx="1592280" cy="41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25 C 0 -0.181 0.069 -0.25 0.125 -0.25 L 0.25 -0.25 E">
                                      <p:cBhvr>
                                        <p:cTn id="259" dur="2000" fill="hold"/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25 C 0 -0.181 0.069 -0.25 0.125 -0.25 L 0.25 -0.25 E">
                                      <p:cBhvr>
                                        <p:cTn id="263" dur="20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еник</cp:lastModifiedBy>
  <dcterms:modified xsi:type="dcterms:W3CDTF">2024-07-11T03:19:44Z</dcterms:modified>
  <cp:revision>2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