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винская СО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23A5-0121-450F-9D28-5FE3E31151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и вектора на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10 слайде постав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C0E-3D8D-4C5C-9196-006877C4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9CE-D887-4177-BDCC-1CC7535C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66E-50C6-440D-BF68-D2656228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379-5781-4E11-B833-EB1FA08E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CE55-C50E-4D0A-A70C-C43F3423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AD3C-780E-4357-9E2D-555FA49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F921-9F04-466D-9560-0A798E78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BB1D-D835-4A6E-A5F7-2711C73B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4263-0C7F-40CD-A69A-9362C921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DFEE-23A1-4F21-A468-68BC7A5E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E07E-552C-48E5-813A-1A77C3E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F9A-BAAC-4EEF-A8DF-49A865BC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CCBF-0C08-46ED-9047-A5A998C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24BE-2DC1-4CDC-B6E3-B74B096C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65F1-D7DC-46A1-A2FE-073271B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0C03-D84F-4160-BB4C-A3695749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4860-E347-4F8F-8920-B5DD10AE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29BB2-973B-4580-903B-386979B4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417BC-243E-4664-AD7C-D3B29F3A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FD370-DF2D-47E6-B0DE-4C11F079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607BA-96EB-4421-B6E2-FB372C02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EC870-0D50-4C11-99C1-F5A069FE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4B3-C34C-4F91-A49F-E1CD5737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8783E-5F64-4A6E-8B89-4F3D31D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8603B-9EB2-41A7-99A4-F21941B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E91CE-749B-4636-AAFB-87D19E4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A7259-0159-43E6-A38F-B9420C4E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575FF-4DCA-4EE9-99AF-97B5A6CA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704C0-9360-4793-B62C-C27929D2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E325F-48A4-41DD-9310-67C6419C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C188-81EF-4FE8-AF7A-75EBE62B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50C6-0058-437B-8FB2-23C6E0BE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66203-5B28-4A9B-8494-0CFECFE3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B6F-EBE8-446C-9A23-15874733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E991-E6EB-468C-B84B-B768786A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7D48-A891-4FF6-B70F-39716CEA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B6C9-19A0-43EF-8893-95B681E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1948-3E42-4ED4-A329-47BA392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27AF-349C-4598-BE69-01123314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3659-2307-4D01-98EF-E23ADBB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EDE1-15F7-4726-B073-29DEBA16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89D10-E018-4C5F-875A-AE3816F1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88F5B-51B6-4F4B-AF2E-2DF043D7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21CDD-74E7-4333-87BF-34DA4B88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79D-ABC2-4334-9D61-62FEFA76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EDAD2-6BA8-4C10-B09A-81F5D74D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2264C-32CA-4226-9E06-EA08B209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8AA23-9608-4204-B591-EEDC9846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6D4E0-C6A3-46BB-BD41-348049F8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8C7C5-B342-4EF6-BEDF-FEB709E6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6AC0A-EF74-4770-A33F-C75DF7BB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2B283-1550-45EA-9060-933D33E7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E3D6E-53FC-4FCB-A9B7-3338DA1B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FA240-9B30-4FD1-8368-740B703C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B72A9-1AB3-41B1-9C1B-20C4292D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C5A-9FF2-4B72-90EE-C0C2A904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83578-E3FF-4ACB-9F56-2DA12857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BCC13-544D-491C-9E6F-0D578EF1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DCFDF-96EE-4A61-A413-198DC185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A7594-D2BE-4176-8457-67C3F500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1D2B6-953A-4E98-8D0B-FB58282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78675-0DF1-43FB-A13C-F8A0FD35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F9C54-2AFC-469E-A603-F847952D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1F77D-9C49-4F1D-BD52-BA8382E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D5BAD-A797-4E3A-85EF-88ECA49B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AD9F0-69BE-4272-9D13-49284A58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EB9-A41A-4E87-AC20-CC31F81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059AD-C1E6-4B89-B4CB-EC8057AA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A389C-209F-492D-A9DB-3380F133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B974A-6EC7-4B26-B118-A90574FE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85292-2C42-4C28-B32A-48B114BB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C714A-C57F-4046-A0D0-7D87DFBC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91EC2-21D8-4E0F-B1DF-6DC404C1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55562-64D6-408D-9D9D-E4BA1A05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8D33B-D43A-466E-8076-4EB621C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5B9D8E-0F30-40C5-8CC4-2D24BC8F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9F842-65AB-49AB-99AF-DDE48A5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095-A725-473F-9404-EA12AD97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B3C15-E630-4A60-8F19-6702B48C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56ACA-8AA8-4E5B-BF6B-C691D866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AE626-855D-45BA-B743-6D138655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99FBE-F242-42B8-AAD3-083E597A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E6092-2ADB-4C4D-BF5C-51CA22FB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4D8-F67D-45EF-9778-0A392617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3F3-9C38-4FD2-97FA-3572A560698C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46E2-31A7-4DBF-B327-C2BCE59A0B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8008-62E9-40AC-B615-CBA79E608409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B033-84E4-4C67-A772-3824E26B62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B9B-19BE-47D2-B738-288953FD6394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F20-ACB8-40A9-8683-70B2225C8E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F234-78D9-4D3A-9CE7-014B023777B9}" type="datetime"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DB3C-3DAA-42F3-B65A-BC1225B133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0FB6-6241-49CB-AF18-956D52F8744E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6105-B852-4812-846B-465FF1A88B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4D2D-166A-4E62-8C00-6643091B5B07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9EA-80AC-4ADE-BBC5-62DD3FADC1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C017-D9B2-4EB4-B19E-B2676E115096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042C-4CCC-42B1-8413-96FAC9031D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rdov.com/" TargetMode="External"/><Relationship Id="rId2" Type="http://schemas.openxmlformats.org/officeDocument/2006/relationships/hyperlink" Target="http://www.alexlarin.narod.ru/" TargetMode="External"/><Relationship Id="rId3" Type="http://schemas.openxmlformats.org/officeDocument/2006/relationships/hyperlink" Target="http://www.ege-study.ru/" TargetMode="External"/><Relationship Id="rId4" Type="http://schemas.openxmlformats.org/officeDocument/2006/relationships/hyperlink" Target="http://www.mathege.ru/" TargetMode="External"/><Relationship Id="rId5" Type="http://schemas.openxmlformats.org/officeDocument/2006/relationships/hyperlink" Target="http://www.fipi.ru/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99800" y="1499760"/>
            <a:ext cx="61722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ЕКТОРНО-КООРДИНАТНЫЙ МЕТОД РЕШЕНИЯ СТЕРЕОМЕТРИЧЕСКИХ ЗАДАЧ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14360" y="4286160"/>
            <a:ext cx="6172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Фетисова А.И.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МБОУ Субботинская СОШ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Шушенский райо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0" descr=""/>
          <p:cNvPicPr/>
          <p:nvPr/>
        </p:nvPicPr>
        <p:blipFill>
          <a:blip r:embed="rId1"/>
          <a:stretch/>
        </p:blipFill>
        <p:spPr>
          <a:xfrm>
            <a:off x="285840" y="2857680"/>
            <a:ext cx="3117600" cy="29178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РИМЕР РЕШЕНИЯ ЗАДАЧ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98240" y="998280"/>
            <a:ext cx="8262000" cy="1289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 единичном кубе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BCDA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B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найти угол между прямой 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и плоскостью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, проходящей через точки 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E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и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, где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E–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середина ребра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, а точка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лежит на ребре 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, так, что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=2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F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[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кор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  c.23]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Содержимое 2"/>
          <p:cNvSpPr/>
          <p:nvPr/>
        </p:nvSpPr>
        <p:spPr>
          <a:xfrm>
            <a:off x="571680" y="3000240"/>
            <a:ext cx="257148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66"/>
          <p:cNvSpPr/>
          <p:nvPr/>
        </p:nvSpPr>
        <p:spPr>
          <a:xfrm>
            <a:off x="7215120" y="5000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7"/>
          <p:cNvSpPr/>
          <p:nvPr/>
        </p:nvSpPr>
        <p:spPr>
          <a:xfrm>
            <a:off x="678672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500200" y="2357280"/>
            <a:ext cx="6215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(0;0;0),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0;0;1)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1;0;1), E(1;0,5;1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 (1;0;1/3), A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1;0;1}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{1;0,5;0}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1;0;-2/3}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усть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{x,y,z}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ектор, перпендикулярный плоскост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Тогда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ектор       найдём из условия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y=-2x,   z=1,5x,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усть х=2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огда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{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;-4;3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},                   ,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rcsin  5/√58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0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5072040" y="3357720"/>
                <a:ext cx="17859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571920" y="4286160"/>
                <a:ext cx="5000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7000920" y="4000680"/>
                <a:ext cx="12650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5643720" y="4857840"/>
                <a:ext cx="1118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6929280" y="4857840"/>
                <a:ext cx="1800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5572080" y="5357880"/>
                <a:ext cx="2571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3714840" y="5429160"/>
                <a:ext cx="1477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42" name="Прямая со стрелкой 16"/>
          <p:cNvCxnSpPr/>
          <p:nvPr/>
        </p:nvCxnSpPr>
        <p:spPr>
          <a:xfrm>
            <a:off x="4071960" y="2714760"/>
            <a:ext cx="357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Прямая со стрелкой 19"/>
          <p:cNvCxnSpPr/>
          <p:nvPr/>
        </p:nvCxnSpPr>
        <p:spPr>
          <a:xfrm>
            <a:off x="5500800" y="2714760"/>
            <a:ext cx="357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4" name="Прямая со стрелкой 20"/>
          <p:cNvCxnSpPr/>
          <p:nvPr/>
        </p:nvCxnSpPr>
        <p:spPr>
          <a:xfrm>
            <a:off x="7000920" y="2714760"/>
            <a:ext cx="357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5" name="Прямоугольник 22"/>
          <p:cNvSpPr/>
          <p:nvPr/>
        </p:nvSpPr>
        <p:spPr>
          <a:xfrm>
            <a:off x="6727320" y="621504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Нарв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РЕШИ САМОСТОЯТЕЛЬНО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213920"/>
            <a:ext cx="8115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уб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CD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чк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середина ребр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.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дите синус угла между прямой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E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плоскостью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D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√10/1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авильной треугольной призм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C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все рёбра которой равны 1, точк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середина ребр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дите синус угла между прямой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плоскостью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C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√15/1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авильной шестиугольной призм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CDEF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все рёбра которой равны 1, точк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– середина ребр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. Найдите синус угла между прямой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G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плоскостью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C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√15/1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Прямоугольник 4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ГОЛ МЕЖДУ ПЛОСКОСТЯ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57120" y="1071720"/>
            <a:ext cx="8043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вугранный угол, образованный полуплоскостями измеряется величиной его линейного угла, получаемого при пересечении двугранного угла плоскостью, перпендикулярной его реб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личина двугранного угла принадлежит промежутку (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18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личина угла между пересекающимися плоскостями принадлежит промежутку (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9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гол между двумя параллельными плоскостями считается равным 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хождение угла между плоскостями может быть сведено к нахождению угла между перпендикулярами к данным плоскостя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Прямоугольник 4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РИМЕР РЕШЕНИЯ ЗАДАЧ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4560" y="984240"/>
            <a:ext cx="8289360" cy="10314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 единичном кубе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BCDA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B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найти угол между плоскостями 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E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и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FC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, где точки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E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и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F–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середины рёбер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B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и 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B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соответственно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[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кор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  c.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3]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Содержимое 2"/>
          <p:cNvSpPr/>
          <p:nvPr/>
        </p:nvSpPr>
        <p:spPr>
          <a:xfrm>
            <a:off x="571680" y="3000240"/>
            <a:ext cx="257148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6"/>
          <p:cNvSpPr/>
          <p:nvPr/>
        </p:nvSpPr>
        <p:spPr>
          <a:xfrm>
            <a:off x="7215120" y="5000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7"/>
          <p:cNvSpPr/>
          <p:nvPr/>
        </p:nvSpPr>
        <p:spPr>
          <a:xfrm>
            <a:off x="678672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428920" y="2143080"/>
            <a:ext cx="6215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(0;0;0), С(1;1;0)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1;0;1), E(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;0,5;1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 (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;1), A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1;0;1}, AE{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;0,5;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},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1/2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;0;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0;-1;1}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ектора       и       находим из условий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твет: 60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1"/>
              <p:cNvSpPr txBox="1"/>
              <p:nvPr/>
            </p:nvSpPr>
            <p:spPr>
              <a:xfrm>
                <a:off x="2714760" y="4786200"/>
                <a:ext cx="16239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2"/>
              <p:cNvSpPr txBox="1"/>
              <p:nvPr/>
            </p:nvSpPr>
            <p:spPr>
              <a:xfrm>
                <a:off x="3714840" y="3143160"/>
                <a:ext cx="2858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3"/>
              <p:cNvSpPr txBox="1"/>
              <p:nvPr/>
            </p:nvSpPr>
            <p:spPr>
              <a:xfrm>
                <a:off x="2786040" y="3714840"/>
                <a:ext cx="1285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4"/>
              <p:cNvSpPr txBox="1"/>
              <p:nvPr/>
            </p:nvSpPr>
            <p:spPr>
              <a:xfrm>
                <a:off x="7286760" y="3571920"/>
                <a:ext cx="1116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6170760" y="4857840"/>
                <a:ext cx="2155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4714920" y="5000760"/>
                <a:ext cx="114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4" name="Picture 9" descr=""/>
          <p:cNvPicPr/>
          <p:nvPr/>
        </p:nvPicPr>
        <p:blipFill>
          <a:blip r:embed="rId1"/>
          <a:stretch/>
        </p:blipFill>
        <p:spPr>
          <a:xfrm>
            <a:off x="357120" y="3000240"/>
            <a:ext cx="211140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286160" y="3143160"/>
                <a:ext cx="297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357800" y="3786120"/>
                <a:ext cx="1282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9"/>
              <p:cNvSpPr txBox="1"/>
              <p:nvPr/>
            </p:nvSpPr>
            <p:spPr>
              <a:xfrm>
                <a:off x="5929200" y="4071960"/>
                <a:ext cx="1143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0"/>
              <p:cNvSpPr txBox="1"/>
              <p:nvPr/>
            </p:nvSpPr>
            <p:spPr>
              <a:xfrm>
                <a:off x="5929200" y="3571920"/>
                <a:ext cx="1143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2"/>
              <p:cNvSpPr txBox="1"/>
              <p:nvPr/>
            </p:nvSpPr>
            <p:spPr>
              <a:xfrm>
                <a:off x="4357800" y="321480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3"/>
              <p:cNvSpPr txBox="1"/>
              <p:nvPr/>
            </p:nvSpPr>
            <p:spPr>
              <a:xfrm>
                <a:off x="7286760" y="4071960"/>
                <a:ext cx="1023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471" name="Прямая со стрелкой 27"/>
          <p:cNvCxnSpPr/>
          <p:nvPr/>
        </p:nvCxnSpPr>
        <p:spPr>
          <a:xfrm>
            <a:off x="2571840" y="2786040"/>
            <a:ext cx="357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2" name="Прямая со стрелкой 28"/>
          <p:cNvCxnSpPr/>
          <p:nvPr/>
        </p:nvCxnSpPr>
        <p:spPr>
          <a:xfrm>
            <a:off x="4000680" y="2499840"/>
            <a:ext cx="357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3" name="Прямая со стрелкой 29"/>
          <p:cNvCxnSpPr/>
          <p:nvPr/>
        </p:nvCxnSpPr>
        <p:spPr>
          <a:xfrm>
            <a:off x="5357880" y="2499840"/>
            <a:ext cx="357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4" name="Прямая со стрелкой 30"/>
          <p:cNvCxnSpPr/>
          <p:nvPr/>
        </p:nvCxnSpPr>
        <p:spPr>
          <a:xfrm>
            <a:off x="6786720" y="2499840"/>
            <a:ext cx="357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5" name="Прямоугольник 25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РЕШИ САМОСТОЯТЕЛЬНО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85840" y="1071720"/>
            <a:ext cx="850104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чка K — середина ребра C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уба ABCD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Найдите угол между плоскостями 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DK и ABC. 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ccos √6/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9480" indent="-42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основании правильной треугольной призмы ABC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лежит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угольник ABC, в ко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B = a. На боковых рёбрах призмы взяты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чк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M, P и K, удалённые от плоскости основания ABC соответственн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расстояния a/2, a,3/2a. Найдите угол между плоскостями ABC и MPK. (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/4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9480" indent="-42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рёбра правильной треугольной призмы ABC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равны между собой. Точка K — середина ребра 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Найдите угол между плоскостями AKC и A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K.    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ccos 6/√5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, с. 60,6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Прямоугольник 4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ИСОК  ЛИТЕРАТУР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28400" y="99972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танасян Л.С. И др. Геометрия 10-1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М.: Просвещение, 2010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ердов П.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berdov.com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рянов А.Г., А.А. Многогранники: виды задач и методы их решения. (</a:t>
            </a:r>
            <a:r>
              <a:rPr b="0" lang="en-US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ww.alexlarin.narod.ru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алкова А.Г. Подготовка к ЕГЭ по математике. (</a:t>
            </a:r>
            <a:r>
              <a:rPr b="0" lang="en-US" sz="2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EGE-Study.ru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рдкович А.Г. Алгебра и начала анализа. 10-11 классы в 2ч. (М.: Мнемозина 2009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Шестаков С.А. Векторы на экзаменах. Векторный метод в стереометрии. (М. :МЦНМО, 2005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ткрытый банк заданий  ( </a:t>
            </a:r>
            <a:r>
              <a:rPr b="0" lang="en-US" sz="2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mathege.ru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едеральный институт педагогических измерений. Демоверсия 2015, кодификатор, спецификац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en-US" sz="2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www.fipi.ru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ВЕКТОРНО-КООРДИНАТНЫЙ МЕТОД В РЕШЕНИИ СТЕРЕОМЕТРИЧЕСКИХ ЗАДАЧ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85840" y="121428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уществует два способа решения задач по стереометрии. Первый – классический требует отлично знания аксиом и теорем, логики, умения построить чертёж и свести объёмную задачу к стереометрическ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ругой метод – применения векторов и координат. Это простые формулы, алгоритмы и прави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ссмотрим применение данного метода при решении задач С2 на вычислени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гла между прямым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гла между прямой и плоскостью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гла между плоскостя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ГОЛ МЕЖДУ ПРЯМЫ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5840" y="171432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глом между пересекающимися прямыми называют наименьший из углов, образованных при пересечении прямы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(a,b)≤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глом между скрещивающимися прямыми называется угол между пересекающимися прямыми, соответственно параллельными данным скрещивающимся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[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, с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6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99680" y="713880"/>
            <a:ext cx="8015400" cy="55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нахождении угл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между прямыми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спользуют формул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ли в координатной форм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де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       - векторы, соответственно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параллельные этим прямы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5072040" y="1643040"/>
                <a:ext cx="1928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928800" y="3286080"/>
                <a:ext cx="74959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2000160" y="4572000"/>
                <a:ext cx="433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2857680" y="4572000"/>
                <a:ext cx="500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2" name="Прямоугольник 8"/>
          <p:cNvSpPr/>
          <p:nvPr/>
        </p:nvSpPr>
        <p:spPr>
          <a:xfrm>
            <a:off x="536760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ПРИМЕРЫ ВВЕДЕНИЯ СИСТЕМЫ КООРДИНАТ ДЛЯ РАЗЛИЧНЫХ ФИГУР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Содержимое 3" descr="Куб в системе координат"/>
          <p:cNvPicPr/>
          <p:nvPr/>
        </p:nvPicPr>
        <p:blipFill>
          <a:blip r:embed="rId1"/>
          <a:stretch/>
        </p:blipFill>
        <p:spPr>
          <a:xfrm>
            <a:off x="857160" y="3857760"/>
            <a:ext cx="2000520" cy="21859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Призма в системе координат"/>
          <p:cNvPicPr/>
          <p:nvPr/>
        </p:nvPicPr>
        <p:blipFill>
          <a:blip r:embed="rId2"/>
          <a:stretch/>
        </p:blipFill>
        <p:spPr>
          <a:xfrm>
            <a:off x="3214800" y="1785960"/>
            <a:ext cx="2143080" cy="22147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Шестигранная призма в системе координат"/>
          <p:cNvPicPr/>
          <p:nvPr/>
        </p:nvPicPr>
        <p:blipFill>
          <a:blip r:embed="rId3"/>
          <a:stretch/>
        </p:blipFill>
        <p:spPr>
          <a:xfrm>
            <a:off x="5643720" y="3429000"/>
            <a:ext cx="2571480" cy="25002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6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ИМЕР РЕШЕНИЯ ЗАДАЧ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9" name="Содержимое 64"/>
          <p:cNvGraphicFramePr/>
          <p:nvPr/>
        </p:nvGraphicFramePr>
        <p:xfrm>
          <a:off x="457200" y="3084480"/>
          <a:ext cx="3657600" cy="244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Содержимое 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84480"/>
                    <a:ext cx="36576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 txBox="1"/>
          <p:nvPr/>
        </p:nvSpPr>
        <p:spPr>
          <a:xfrm>
            <a:off x="3214440" y="2071800"/>
            <a:ext cx="550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шение: Введём прямоугольную систему координат как показано на рисунке. Тогда А(0;0,0,), Е(0,5;0;1), В(1;0;0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0;1;1), АЕ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0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;0;1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}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1;1;1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}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твет: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0160" y="1184400"/>
            <a:ext cx="8318160" cy="7711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 кубе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BCDA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B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точка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E –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середина ребра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B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. Найдите косинус угла между прямыми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E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и 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BD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Schoolbook"/>
              </a:rPr>
              <a:t>1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Содержимое 2"/>
          <p:cNvSpPr/>
          <p:nvPr/>
        </p:nvSpPr>
        <p:spPr>
          <a:xfrm>
            <a:off x="571680" y="1528920"/>
            <a:ext cx="321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одержимое 2"/>
          <p:cNvSpPr/>
          <p:nvPr/>
        </p:nvSpPr>
        <p:spPr>
          <a:xfrm>
            <a:off x="257040" y="1600200"/>
            <a:ext cx="34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Группа 63"/>
          <p:cNvGrpSpPr/>
          <p:nvPr/>
        </p:nvGrpSpPr>
        <p:grpSpPr>
          <a:xfrm>
            <a:off x="1212840" y="2571480"/>
            <a:ext cx="2145240" cy="2931120"/>
            <a:chOff x="1212840" y="2571480"/>
            <a:chExt cx="2145240" cy="2931120"/>
          </a:xfrm>
        </p:grpSpPr>
        <p:cxnSp>
          <p:nvCxnSpPr>
            <p:cNvPr id="386" name="Прямая со стрелкой 4"/>
            <p:cNvCxnSpPr/>
            <p:nvPr/>
          </p:nvCxnSpPr>
          <p:spPr>
            <a:xfrm flipV="1">
              <a:off x="1214280" y="4571280"/>
              <a:ext cx="929520" cy="92916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tailEnd len="med" type="arrow" w="med"/>
            </a:ln>
          </p:spPr>
        </p:cxnSp>
        <p:cxnSp>
          <p:nvCxnSpPr>
            <p:cNvPr id="387" name="Прямая со стрелкой 7"/>
            <p:cNvCxnSpPr/>
            <p:nvPr/>
          </p:nvCxnSpPr>
          <p:spPr>
            <a:xfrm>
              <a:off x="1214280" y="5500800"/>
              <a:ext cx="2144160" cy="216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tailEnd len="med" type="arrow" w="med"/>
            </a:ln>
          </p:spPr>
        </p:cxnSp>
        <p:cxnSp>
          <p:nvCxnSpPr>
            <p:cNvPr id="388" name="Прямая со стрелкой 9"/>
            <p:cNvCxnSpPr/>
            <p:nvPr/>
          </p:nvCxnSpPr>
          <p:spPr>
            <a:xfrm flipV="1">
              <a:off x="1212840" y="2571480"/>
              <a:ext cx="2160" cy="2929680"/>
            </a:xfrm>
            <a:prstGeom prst="straightConnector1">
              <a:avLst/>
            </a:prstGeom>
            <a:ln w="12600">
              <a:solidFill>
                <a:srgbClr val="fe8637"/>
              </a:solidFill>
              <a:miter/>
              <a:tailEnd len="med" type="arrow" w="med"/>
            </a:ln>
          </p:spPr>
        </p:cxnSp>
        <p:sp>
          <p:nvSpPr>
            <p:cNvPr id="389" name="Куб 24"/>
            <p:cNvSpPr/>
            <p:nvPr/>
          </p:nvSpPr>
          <p:spPr>
            <a:xfrm>
              <a:off x="1214280" y="3429000"/>
              <a:ext cx="1929240" cy="2071800"/>
            </a:xfrm>
            <a:prstGeom prst="cube">
              <a:avLst>
                <a:gd name="adj" fmla="val 35537"/>
              </a:avLst>
            </a:prstGeom>
            <a:noFill/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26"/>
            <p:cNvSpPr/>
            <p:nvPr/>
          </p:nvSpPr>
          <p:spPr>
            <a:xfrm flipH="1">
              <a:off x="1928880" y="3429000"/>
              <a:ext cx="1440" cy="1357200"/>
            </a:xfrm>
            <a:prstGeom prst="line">
              <a:avLst/>
            </a:prstGeom>
            <a:ln w="12600">
              <a:solidFill>
                <a:srgbClr val="ff690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ая соединительная линия 28"/>
            <p:cNvSpPr/>
            <p:nvPr/>
          </p:nvSpPr>
          <p:spPr>
            <a:xfrm>
              <a:off x="2000160" y="4786560"/>
              <a:ext cx="1143000" cy="1440"/>
            </a:xfrm>
            <a:prstGeom prst="line">
              <a:avLst/>
            </a:prstGeom>
            <a:ln w="12600">
              <a:solidFill>
                <a:srgbClr val="ff690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Прямая соединительная линия 40"/>
            <p:cNvSpPr/>
            <p:nvPr/>
          </p:nvSpPr>
          <p:spPr>
            <a:xfrm flipV="1">
              <a:off x="1214280" y="4114440"/>
              <a:ext cx="620640" cy="13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Box 66"/>
          <p:cNvSpPr/>
          <p:nvPr/>
        </p:nvSpPr>
        <p:spPr>
          <a:xfrm>
            <a:off x="7215120" y="5000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67"/>
          <p:cNvSpPr/>
          <p:nvPr/>
        </p:nvSpPr>
        <p:spPr>
          <a:xfrm>
            <a:off x="678672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74"/>
          <p:cNvSpPr/>
          <p:nvPr/>
        </p:nvSpPr>
        <p:spPr>
          <a:xfrm>
            <a:off x="2357280" y="55008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75"/>
          <p:cNvSpPr/>
          <p:nvPr/>
        </p:nvSpPr>
        <p:spPr>
          <a:xfrm>
            <a:off x="3214800" y="45720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81"/>
          <p:cNvSpPr/>
          <p:nvPr/>
        </p:nvSpPr>
        <p:spPr>
          <a:xfrm>
            <a:off x="928800" y="2357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90"/>
          <p:cNvGrpSpPr/>
          <p:nvPr/>
        </p:nvGrpSpPr>
        <p:grpSpPr>
          <a:xfrm>
            <a:off x="785880" y="3000240"/>
            <a:ext cx="2714400" cy="2726280"/>
            <a:chOff x="785880" y="3000240"/>
            <a:chExt cx="2714400" cy="2726280"/>
          </a:xfrm>
        </p:grpSpPr>
        <p:sp>
          <p:nvSpPr>
            <p:cNvPr id="399" name="TextBox 73"/>
            <p:cNvSpPr/>
            <p:nvPr/>
          </p:nvSpPr>
          <p:spPr>
            <a:xfrm>
              <a:off x="928440" y="5358240"/>
              <a:ext cx="2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76"/>
            <p:cNvSpPr/>
            <p:nvPr/>
          </p:nvSpPr>
          <p:spPr>
            <a:xfrm>
              <a:off x="1928880" y="4357800"/>
              <a:ext cx="2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78"/>
            <p:cNvSpPr/>
            <p:nvPr/>
          </p:nvSpPr>
          <p:spPr>
            <a:xfrm>
              <a:off x="2500200" y="3929040"/>
              <a:ext cx="428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Box 79"/>
            <p:cNvSpPr/>
            <p:nvPr/>
          </p:nvSpPr>
          <p:spPr>
            <a:xfrm>
              <a:off x="2928960" y="307152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Группа 89"/>
            <p:cNvGrpSpPr/>
            <p:nvPr/>
          </p:nvGrpSpPr>
          <p:grpSpPr>
            <a:xfrm>
              <a:off x="785880" y="3000240"/>
              <a:ext cx="1642680" cy="2500920"/>
              <a:chOff x="785880" y="3000240"/>
              <a:chExt cx="1642680" cy="2500920"/>
            </a:xfrm>
          </p:grpSpPr>
          <p:sp>
            <p:nvSpPr>
              <p:cNvPr id="404" name="Прямая соединительная линия 44"/>
              <p:cNvSpPr/>
              <p:nvPr/>
            </p:nvSpPr>
            <p:spPr>
              <a:xfrm flipH="1" flipV="1">
                <a:off x="1928520" y="3429000"/>
                <a:ext cx="500040" cy="207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Box 77"/>
              <p:cNvSpPr/>
              <p:nvPr/>
            </p:nvSpPr>
            <p:spPr>
              <a:xfrm>
                <a:off x="785880" y="3929400"/>
                <a:ext cx="500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Box 80"/>
              <p:cNvSpPr/>
              <p:nvPr/>
            </p:nvSpPr>
            <p:spPr>
              <a:xfrm>
                <a:off x="1500120" y="3000240"/>
                <a:ext cx="500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TextBox 82"/>
            <p:cNvSpPr/>
            <p:nvPr/>
          </p:nvSpPr>
          <p:spPr>
            <a:xfrm>
              <a:off x="1643040" y="4500720"/>
              <a:ext cx="2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3"/>
            <p:cNvSpPr/>
            <p:nvPr/>
          </p:nvSpPr>
          <p:spPr>
            <a:xfrm>
              <a:off x="3071880" y="5072400"/>
              <a:ext cx="2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4"/>
            <p:cNvSpPr/>
            <p:nvPr/>
          </p:nvSpPr>
          <p:spPr>
            <a:xfrm>
              <a:off x="1643040" y="3786120"/>
              <a:ext cx="2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0" name="Прямая со стрелкой 92"/>
          <p:cNvCxnSpPr/>
          <p:nvPr/>
        </p:nvCxnSpPr>
        <p:spPr>
          <a:xfrm>
            <a:off x="4857840" y="3285720"/>
            <a:ext cx="357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1" name="Прямая со стрелкой 97"/>
          <p:cNvCxnSpPr/>
          <p:nvPr/>
        </p:nvCxnSpPr>
        <p:spPr>
          <a:xfrm>
            <a:off x="6357960" y="3285720"/>
            <a:ext cx="357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3643200" y="4214880"/>
                <a:ext cx="4843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0,5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0,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5072040" y="5297400"/>
                <a:ext cx="5716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Прямоугольник 37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РЕШИ САМОСТОЯТЕЛЬНО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004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уб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CD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чк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,F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середины рёбер соответственно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дите косинус угла между прямым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E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F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(0,8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уб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CD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чк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,F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середины рёбер соответственно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. Найдите косинус угла между прямым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E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F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(√5/5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авильной треугольной призм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C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все рёбра которой равны 1, точк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,E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середины рёбер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дите косинус угла между прямым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(0,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авильной шестиугольной призм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CDEF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рёбра которой равны 1, точк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середины рёбер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Найдите косинус угла между прямым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G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H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 (0,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Прямоугольник 4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ГОЛ МЕЖДУ ПРЯМОЙ И ПЛОСКОСТЬЮ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3572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глом между плоскостью и не перпендикулярной  ей  прямой  называется  угол между  этой  прямой  и  ее  проекцией  на данную плоск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a,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&lt;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гол между взаимно перпендикулярными прямой и плоскостью равен 9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сли прямая параллельна плоскости (или лежит в ней), то угол между ними считается равным 0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[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,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2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57120" y="857160"/>
            <a:ext cx="81439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гол между прямо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плоскостью  α можно вычислить по форму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ли в координатной форм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де        - ненулевой вектор, перпендикулярный плоскости α,        - направляющий вектор  прямо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" descr=""/>
          <p:cNvPicPr/>
          <p:nvPr/>
        </p:nvPicPr>
        <p:blipFill>
          <a:blip r:embed="rId1"/>
          <a:stretch/>
        </p:blipFill>
        <p:spPr>
          <a:xfrm>
            <a:off x="3500280" y="1571760"/>
            <a:ext cx="2143440" cy="903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4" name="Object 6"/>
              <p:cNvSpPr txBox="1"/>
              <p:nvPr/>
            </p:nvSpPr>
            <p:spPr>
              <a:xfrm>
                <a:off x="1785960" y="3500280"/>
                <a:ext cx="50007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7"/>
              <p:cNvSpPr txBox="1"/>
              <p:nvPr/>
            </p:nvSpPr>
            <p:spPr>
              <a:xfrm>
                <a:off x="1357200" y="4714920"/>
                <a:ext cx="444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8"/>
              <p:cNvSpPr txBox="1"/>
              <p:nvPr/>
            </p:nvSpPr>
            <p:spPr>
              <a:xfrm>
                <a:off x="2714760" y="5072040"/>
                <a:ext cx="357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7" name="Прямоугольник 8"/>
          <p:cNvSpPr/>
          <p:nvPr/>
        </p:nvSpPr>
        <p:spPr>
          <a:xfrm>
            <a:off x="5510520" y="62150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bec7"/>
                </a:solidFill>
                <a:latin typeface="Arial"/>
              </a:rPr>
              <a:t>МБОУ Суббот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9:52:49Z</dcterms:created>
  <dc:creator>User</dc:creator>
  <dc:description/>
  <dc:language>en-US</dc:language>
  <cp:lastModifiedBy>Home</cp:lastModifiedBy>
  <dcterms:modified xsi:type="dcterms:W3CDTF">2015-02-19T13:53:45Z</dcterms:modified>
  <cp:revision>148</cp:revision>
  <dc:subject/>
  <dc:title>Слайд 1</dc:title>
</cp:coreProperties>
</file>